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367272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600560"/>
            <a:ext cx="8099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8099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72880"/>
            <a:ext cx="8099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673200" y="1892160"/>
            <a:ext cx="2971800" cy="60984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3241440" y="682560"/>
            <a:ext cx="29260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第 </a:t>
            </a:r>
            <a:r>
              <a:rPr b="1" lang="en-US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2 </a:t>
            </a:r>
            <a:r>
              <a:rPr b="1" lang="zh-CN" sz="3000" spc="-1" strike="noStrike">
                <a:solidFill>
                  <a:srgbClr val="ff00ff"/>
                </a:solidFill>
                <a:latin typeface="方正宋黑简体"/>
                <a:ea typeface="方正宋黑简体"/>
              </a:rPr>
              <a:t>课时   一次函数与一元一次不等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595960" y="2790720"/>
            <a:ext cx="1072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一次函数与一元一次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362120" y="4081320"/>
            <a:ext cx="11311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074320" y="3441600"/>
            <a:ext cx="5385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探究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自变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5200" y="4092480"/>
            <a:ext cx="24847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所有值，就是一元一次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集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23800" y="5349960"/>
            <a:ext cx="113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67720" y="4743360"/>
            <a:ext cx="604512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自变量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所有值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就是一元一次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集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632040" y="3219480"/>
            <a:ext cx="2273400" cy="2095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38600" y="1096920"/>
            <a:ext cx="464472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根据图象回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什么值时，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等于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什么值时，函数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大于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0" y="2724120"/>
            <a:ext cx="3670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什么值时，函数的图象在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下方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42840" y="549756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1116000"/>
            <a:ext cx="76183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25160" y="1273320"/>
            <a:ext cx="4527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甲、乙两家超市以相同的价格出售同样的商品．为了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87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引顾客，各自推出不同的优惠方案．在甲超市累计购买商品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41560" y="2430360"/>
            <a:ext cx="48895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之后，超出部分按原价八折优惠．在乙超市累计购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商品超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之后，超出部分按原价八五折优惠．设顾客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计累计购物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0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5760" y="4167360"/>
            <a:ext cx="4650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请用含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代数式分别表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示顾客在两家超市购物所付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8160" y="474516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费用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4840" y="5324400"/>
            <a:ext cx="3914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试比较顾客到哪家超市购物更优惠？说明理由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96640" y="760320"/>
            <a:ext cx="437112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在甲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超市购物所付的费用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)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在乙超市购物所付的费用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96280" y="2278080"/>
            <a:ext cx="46512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0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)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8200" y="2786040"/>
            <a:ext cx="528408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85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时，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而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∴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64800" y="4811760"/>
            <a:ext cx="525204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顾客购物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时，到两家超市购物所付费用相同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当顾客购物超过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且不满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时，到乙超市更优惠；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顾客购物超过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时，到甲超市更优惠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6320" y="779400"/>
            <a:ext cx="61873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解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可以转化为：当自变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何值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的点在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相应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9960" y="186372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方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4680" y="758880"/>
            <a:ext cx="1757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6320" y="2406600"/>
            <a:ext cx="63273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解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不等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可以转化为：当自变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取何值时，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的点在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上相应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49960" y="3492360"/>
            <a:ext cx="5036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下方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6600" y="2373480"/>
            <a:ext cx="17575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m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9200" y="4033800"/>
            <a:ext cx="497052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归纳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任何一元一次不等式都可以转化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常数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形式，所以解一元一次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看作当一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次函数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求自变量相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7360" y="5662440"/>
            <a:ext cx="100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取值范围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2960" y="4014720"/>
            <a:ext cx="113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9880" y="4518000"/>
            <a:ext cx="113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3600" y="5094360"/>
            <a:ext cx="616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大于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95520" y="5079960"/>
            <a:ext cx="616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小于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74080" y="1913040"/>
            <a:ext cx="10720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．一次函数与一元一次不等式在实际中的应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3040" y="2565360"/>
            <a:ext cx="837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一次函数和一元一次不等式都是刻画现实世界中量与量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24080" y="3216240"/>
            <a:ext cx="4527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间变化规律的重要模型，在实际问题中二者联系密切，既可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4080" y="3867120"/>
            <a:ext cx="4527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运用函数图象解不等式，也可以运用解不等式帮助研究函数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55840" y="4518000"/>
            <a:ext cx="2347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题，二者互相渗透，互相作用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00" y="711360"/>
            <a:ext cx="256536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63640" y="1441440"/>
            <a:ext cx="1231920" cy="39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11600" y="1525680"/>
            <a:ext cx="1489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一次函数与一元一次不等式的关系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重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43160" y="1990800"/>
            <a:ext cx="3397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在同一平面直角坐标系中作出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8000" y="2457360"/>
            <a:ext cx="4533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图象，并根据图象说明，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取何值时，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4080" y="2922480"/>
            <a:ext cx="52599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出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，当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在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图象的上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1120" y="3389400"/>
            <a:ext cx="1100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时，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1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77880" y="3905280"/>
            <a:ext cx="7483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738600" y="912960"/>
            <a:ext cx="1917720" cy="204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76160" y="320364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7760" y="3759120"/>
            <a:ext cx="662292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规律总结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坐标系内比较两个一次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只要看在某一范围内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谁在上方即可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上方，则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gt;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上方，则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lt;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若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交，则在交点处，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59000" y="826920"/>
            <a:ext cx="1398600" cy="43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77360" y="944640"/>
            <a:ext cx="837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一次函数与一元一次不等式在实际中的应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4480" y="1522440"/>
            <a:ext cx="5842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底，某公司还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 0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椪柑库存，这些椪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销售期最多还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后库存的椪柑不能再销售，需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当垃圾处理，处理费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吨．经测算，椪柑的销售价格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时，平均每天可售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，销售价格降低，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售量可增加，每降低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，每天可多售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6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果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的价格销售，能否在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内售完这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椪柑？按此价格销售，获得的总毛利润是多少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总毛利润＝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售总收入－库存处理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27200" y="760320"/>
            <a:ext cx="57240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设椪柑销售价格定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≤2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时，平均每天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售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，求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函数解析式；如果要在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月份售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这些椪柑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月份按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天计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那么销售价格最高可定为多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精确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67600" y="2786040"/>
            <a:ext cx="4191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首先由实际问题抽象出函数关系，然后利用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58320" y="3292560"/>
            <a:ext cx="838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等式决策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45800" y="3798720"/>
            <a:ext cx="5643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1)100×6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000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所以不能在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天内售完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3240" y="4305240"/>
            <a:ext cx="6714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些椪柑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60880" y="4811760"/>
            <a:ext cx="3526920" cy="8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1 0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0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 000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即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天后还有库存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 00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5640" y="5824440"/>
            <a:ext cx="5815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总毛利润为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000×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 000×0.05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1 750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64000" y="1965240"/>
            <a:ext cx="54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73400" y="4172040"/>
            <a:ext cx="27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51760" y="1644480"/>
            <a:ext cx="5659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48840" y="1816200"/>
            <a:ext cx="14072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7960" y="2033640"/>
            <a:ext cx="3513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72480" y="1816200"/>
            <a:ext cx="36622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×5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 100(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≤2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62120" y="2735280"/>
            <a:ext cx="473076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要在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月份售完这些椪柑，售价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必须满足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4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8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 100)≥11 000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8800" y="4033800"/>
            <a:ext cx="7520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解得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71600" y="3919680"/>
            <a:ext cx="281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07760" y="4033800"/>
            <a:ext cx="4020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.414.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所以要在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月份售完这些椪柑，销售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8680" y="4919760"/>
            <a:ext cx="23490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最高可定为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.4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千克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73200" y="1219320"/>
            <a:ext cx="1498680" cy="39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089240" y="2933640"/>
            <a:ext cx="1359000" cy="184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61160" y="1827360"/>
            <a:ext cx="4875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是一次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，则关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不等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0880" y="2411280"/>
            <a:ext cx="722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720" y="2406600"/>
            <a:ext cx="429660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集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36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5:15Z</dcterms:created>
  <dc:creator> </dc:creator>
  <dc:description/>
  <cp:keywords/>
  <dc:language>en-US</dc:language>
  <cp:lastModifiedBy>微软用户</cp:lastModifiedBy>
  <cp:lastPrinted>1899-12-30T00:00:00Z</cp:lastPrinted>
  <dcterms:modified xsi:type="dcterms:W3CDTF">2011-08-07T08:49:57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