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8999538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0000" y="367272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0440" y="160056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0000" y="367272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00440" y="367272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88520" y="160056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27400" y="160056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000" y="367272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188520" y="367272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927400" y="3672720"/>
            <a:ext cx="26078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0000" y="1600560"/>
            <a:ext cx="8099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80996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39524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00440" y="1600560"/>
            <a:ext cx="39524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0000" y="272880"/>
            <a:ext cx="8099640" cy="529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0440" y="1600560"/>
            <a:ext cx="39524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0000" y="367272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3952440" cy="39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0440" y="160056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00440" y="367272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000" y="272880"/>
            <a:ext cx="8099640" cy="114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000" y="160056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0440" y="1600560"/>
            <a:ext cx="39524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0000" y="3672720"/>
            <a:ext cx="8099640" cy="18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01080" cy="683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335160" y="2424240"/>
            <a:ext cx="1098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0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方正大标宋_GBK"/>
                <a:ea typeface="方正大标宋_GBK"/>
              </a:rPr>
              <a:t>14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3146760" y="2124000"/>
            <a:ext cx="41155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41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方正大标宋_GBK"/>
                <a:ea typeface="方正大标宋_GBK"/>
              </a:rPr>
              <a:t>用函数观点看方程（组）与不等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643760" y="4494240"/>
            <a:ext cx="141444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方正宋黑简体"/>
              </a:rPr>
              <a:t>第 </a:t>
            </a:r>
            <a:r>
              <a:rPr b="1" lang="en-US" sz="3000" spc="-1" strike="noStrike">
                <a:solidFill>
                  <a:srgbClr val="ff00ff"/>
                </a:solidFill>
                <a:latin typeface="Arial"/>
                <a:ea typeface="方正宋黑简体"/>
              </a:rPr>
              <a:t>1 </a:t>
            </a: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方正宋黑简体"/>
              </a:rPr>
              <a:t>课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5027760" y="4494240"/>
            <a:ext cx="1143720" cy="3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ff"/>
                </a:solidFill>
                <a:latin typeface="Arial"/>
                <a:ea typeface="方正宋黑简体"/>
              </a:rPr>
              <a:t>一次函数与一元一次方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73200" y="711360"/>
            <a:ext cx="3073320" cy="6346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127400" y="4191120"/>
            <a:ext cx="1282680" cy="1498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75240" y="1527120"/>
            <a:ext cx="837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方正黑体_GBK"/>
              </a:rPr>
              <a:t>一次函数与一元一次方程的联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0760" y="2070000"/>
            <a:ext cx="616104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探究：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如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求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轴的交点，可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得到一元一次方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解得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，即交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点为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．因此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就是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轴的交点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49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坐标，也是一元一次方程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解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42840" y="5875200"/>
            <a:ext cx="4485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60120" y="2556000"/>
            <a:ext cx="5659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60280" y="2584440"/>
            <a:ext cx="7333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92120" y="3103560"/>
            <a:ext cx="83880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,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26000" y="3664080"/>
            <a:ext cx="1684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64960" y="3649680"/>
            <a:ext cx="114768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77240" y="1665360"/>
            <a:ext cx="5732280" cy="35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归纳：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元一次方程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x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(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≠0)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解是一次函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35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≠0)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图象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轴交点的横坐标，反过来，一次函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2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≠0)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图象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轴的交点的横坐标是一元一次方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2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≠0)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解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12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元一次方程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已知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解，就是直线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24"/>
              </a:lnSpc>
              <a:tabLst>
                <a:tab algn="l" pos="0"/>
                <a:tab algn="l" pos="558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交点的横坐标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73200" y="711360"/>
            <a:ext cx="2781360" cy="634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019240" y="1666800"/>
            <a:ext cx="140040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48520" y="3936960"/>
            <a:ext cx="1828800" cy="1790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13720" y="4413240"/>
            <a:ext cx="4379760" cy="14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263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函数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6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图象如图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从函数图象上看，直线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与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交点坐标是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(2,0)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，所以方程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0 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的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9000" y="5999040"/>
            <a:ext cx="94392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是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57360" y="5938920"/>
            <a:ext cx="4485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Times New Roman"/>
              </a:rPr>
              <a:t>图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0000" y="1814400"/>
            <a:ext cx="626256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186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一次函数与一元一次方程的关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449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	</a:t>
            </a:r>
            <a:r>
              <a:rPr b="0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例题：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画出函数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图象，并根据图象回答方程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49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的解是什么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85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思路导引：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方程 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解就是函数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y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＝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－</a:t>
            </a:r>
            <a:r>
              <a:rPr b="0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图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274"/>
              </a:lnSpc>
              <a:tabLst>
                <a:tab algn="l" pos="0"/>
                <a:tab algn="l" pos="558720"/>
                <a:tab algn="l" pos="27050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 </a:t>
            </a:r>
            <a:r>
              <a:rPr b="0" i="1" lang="en-US" sz="2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x 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轴交点的横坐标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3200" y="711360"/>
            <a:ext cx="1676160" cy="431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52960" y="3174840"/>
            <a:ext cx="1206360" cy="1651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60120" y="1332000"/>
            <a:ext cx="5414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0200" y="1792440"/>
            <a:ext cx="51264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(3,0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58840" y="1763640"/>
            <a:ext cx="893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24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(0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，－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9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560" y="1360440"/>
            <a:ext cx="75614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262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．方程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的解是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____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则函数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62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轴交于点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与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轴交于点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62280" y="2238480"/>
            <a:ext cx="540216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62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．如图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，已知一次函数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的图象如图，当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时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73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求 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的值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68520" y="4968720"/>
            <a:ext cx="4287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10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图 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13360" y="5506920"/>
            <a:ext cx="6182280" cy="8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673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100" spc="-1" strike="noStrike">
                <a:solidFill>
                  <a:srgbClr val="ff0000"/>
                </a:solidFill>
                <a:latin typeface="Arial"/>
                <a:ea typeface="黑体"/>
              </a:rPr>
              <a:t>解：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由图象可知 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时，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，也就是解方程 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，得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73"/>
              </a:lnSpc>
              <a:tabLst>
                <a:tab algn="l" pos="0"/>
                <a:tab algn="l" pos="533520"/>
                <a:tab algn="l" pos="3581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zh-CN" sz="21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0" lang="en-US" sz="2100" spc="-1" strike="noStrike">
                <a:solidFill>
                  <a:srgbClr val="ff0000"/>
                </a:solidFill>
                <a:latin typeface="Times New Roman"/>
              </a:rPr>
              <a:t>2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8:15:15Z</dcterms:created>
  <dc:creator> </dc:creator>
  <dc:description/>
  <cp:keywords/>
  <dc:language>en-US</dc:language>
  <cp:lastModifiedBy>微软用户</cp:lastModifiedBy>
  <cp:lastPrinted>1899-12-30T00:00:00Z</cp:lastPrinted>
  <dcterms:modified xsi:type="dcterms:W3CDTF">2011-08-07T08:50:02Z</dcterms:modified>
  <cp:revision>1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