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5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13.gif" ContentType="image/gif"/>
  <Override PartName="/ppt/media/image6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1.gif" ContentType="image/gif"/>
  <Override PartName="/ppt/media/image9.wmf" ContentType="image/x-wmf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B6594-21AF-4C16-89C6-F1208048B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B1FFD-0775-495D-B9F4-E455FC834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9FE72-80A2-47DB-A628-4A553653B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65777-E9DA-4592-9EAD-752237D84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F7FF0-B927-4139-96BD-118D2F236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E9137-AE20-44FC-A4DB-ED7394549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4D4D0-F0A5-4806-95C9-A590F1FBA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F2EEC-BD5A-4011-8FF2-3EF5DD70F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F4F88-0415-46EE-AC64-047BF400F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A98AE-B381-4A8E-BBCE-BF5BD9E48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5F708-F8B5-4519-9B35-96FE3C9D0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1F045-FC15-46C3-85E9-2C51D630B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9BD93-B685-4990-BD9D-65BB8B865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9BE3C-F2AC-432A-9F9B-38E6D1A56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A974C-92F6-44B2-9B7A-2A0935E43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3AEF3-EEB3-4F12-85E7-ACA1A91F5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D5D99-B7DC-4893-BCD9-7175C5FE9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3CD8E-474F-40C0-931A-36C78BC4B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9749F-6833-40AC-B073-710178869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D1F9F-3467-4477-97C9-E6742C29E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70BB1-546A-44EA-BE2E-2513CD604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D3FD1-D890-4A6C-ADC8-A54E676EB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38FAE-F97D-4F8A-AD75-A3C3A225A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81D75-F4EC-463E-8EFF-38FE7D774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7a77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7a77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FF9B1-285E-4D51-8D7A-775124C99AD8}" type="slidenum">
              <a:rPr b="0" lang="en-US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7a77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7a77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D0575-217D-4131-BAAC-0F8CAE60983A}" type="slidenum">
              <a:rPr b="0" lang="en-US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gif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 txBox="1"/>
          <p:nvPr/>
        </p:nvSpPr>
        <p:spPr>
          <a:xfrm>
            <a:off x="0" y="907920"/>
            <a:ext cx="8182080" cy="1560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14.1.3</a:t>
            </a:r>
            <a:r>
              <a:rPr b="0" lang="zh-CN" sz="80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函数的图像</a:t>
            </a:r>
            <a:endParaRPr b="0" lang="en-US" sz="80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8785080" cy="65865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5940360" y="549360"/>
            <a:ext cx="3059280" cy="201456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Arial"/>
              </a:rPr>
              <a:t>从图象上能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Arial"/>
              </a:rPr>
              <a:t>获得哪些信息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6877080" y="5229360"/>
            <a:ext cx="1728720" cy="14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916200" y="115920"/>
            <a:ext cx="292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a40804"/>
                </a:solidFill>
                <a:latin typeface="Arial"/>
              </a:rPr>
              <a:t>由图象可得到的信息：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873360"/>
            <a:ext cx="860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0" lang="zh-CN" sz="2400" spc="-1" strike="noStrike">
                <a:solidFill>
                  <a:srgbClr val="0066ff"/>
                </a:solidFill>
                <a:latin typeface="Arial"/>
              </a:rPr>
              <a:t>１．一天中每时刻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t</a:t>
            </a:r>
            <a:r>
              <a:rPr b="0" lang="zh-CN" sz="2400" spc="-1" strike="noStrike">
                <a:solidFill>
                  <a:srgbClr val="0066ff"/>
                </a:solidFill>
                <a:latin typeface="Arial"/>
              </a:rPr>
              <a:t>都有唯一的气温Ｔ与之对应．可以认为，气       温Ｔ是时间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t</a:t>
            </a:r>
            <a:r>
              <a:rPr b="0" lang="zh-CN" sz="2400" spc="-1" strike="noStrike">
                <a:solidFill>
                  <a:srgbClr val="0066ff"/>
                </a:solidFill>
                <a:latin typeface="Arial"/>
              </a:rPr>
              <a:t>的函数． </a:t>
            </a:r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1483200"/>
            <a:ext cx="871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２．这天中凌晨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时气温最低为－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3℃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，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14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时气温最 高为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8℃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． </a:t>
            </a:r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2170800"/>
            <a:ext cx="896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３．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时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时气温呈下降状态，即温度随时间 的增加而下降。  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时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4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时气温呈上升状态，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时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时气温又呈下降状态。 </a:t>
            </a:r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3034440"/>
            <a:ext cx="882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81606"/>
                </a:solidFill>
                <a:latin typeface="Arial"/>
              </a:rPr>
              <a:t> </a:t>
            </a:r>
            <a:r>
              <a:rPr b="0" lang="zh-CN" sz="2400" spc="-1" strike="noStrike">
                <a:solidFill>
                  <a:srgbClr val="ee1504"/>
                </a:solidFill>
                <a:latin typeface="Arial"/>
              </a:rPr>
              <a:t>４．我们可以从图象中直观看出一天中气温变化情况及任一时刻  的气温大约是多少．</a:t>
            </a:r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3716280"/>
            <a:ext cx="705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99"/>
                </a:solidFill>
                <a:latin typeface="Arial"/>
              </a:rPr>
              <a:t>同学们还能得到其他的信息吗？</a:t>
            </a:r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0" y="4292640"/>
            <a:ext cx="8964720" cy="23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23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8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8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8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8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4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4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735120" y="9144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600200" y="2570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-150840" y="0"/>
            <a:ext cx="9294840" cy="715176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1403280" y="1268280"/>
            <a:ext cx="4319640" cy="3384720"/>
          </a:xfrm>
          <a:prstGeom prst="horizontalScroll">
            <a:avLst>
              <a:gd name="adj" fmla="val 12500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 rot="5400000">
            <a:off x="4835520" y="2085840"/>
            <a:ext cx="3200400" cy="9907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练一练</a:t>
            </a:r>
            <a:endParaRPr b="0" i="1" lang="en-US" sz="2400" spc="-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979640" y="1916280"/>
            <a:ext cx="3097080" cy="194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课堂练习</a:t>
            </a:r>
            <a:endParaRPr b="1" lang="en-US" sz="44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Ｐ１０４</a:t>
            </a:r>
            <a:r>
              <a:rPr b="1" lang="en-US" sz="44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.</a:t>
            </a:r>
            <a:r>
              <a:rPr b="1" lang="zh-CN" sz="44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２</a:t>
            </a:r>
            <a:endParaRPr b="1" lang="en-US" sz="44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8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4360" y="692280"/>
            <a:ext cx="213336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宋体"/>
              </a:rPr>
              <a:t>小   结</a:t>
            </a:r>
            <a:endParaRPr b="0" lang="en-US" sz="6000" spc="-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宋体"/>
              <a:ea typeface="宋体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3042360"/>
            <a:ext cx="874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a77"/>
                </a:solidFill>
                <a:latin typeface="Arial"/>
              </a:rPr>
              <a:t>     </a:t>
            </a:r>
            <a:r>
              <a:rPr b="1" lang="zh-CN" sz="4000" spc="-1" strike="noStrike">
                <a:solidFill>
                  <a:srgbClr val="660033"/>
                </a:solidFill>
                <a:latin typeface="Arial"/>
              </a:rPr>
              <a:t>本节课我们做了两个活动。活动</a:t>
            </a:r>
            <a:r>
              <a:rPr b="1" lang="en-US" sz="4000" spc="-1" strike="noStrike">
                <a:solidFill>
                  <a:srgbClr val="660033"/>
                </a:solidFill>
                <a:latin typeface="Arial"/>
              </a:rPr>
              <a:t>[</a:t>
            </a:r>
            <a:r>
              <a:rPr b="1" lang="zh-CN" sz="4000" spc="-1" strike="noStrike">
                <a:solidFill>
                  <a:srgbClr val="660033"/>
                </a:solidFill>
                <a:latin typeface="Arial"/>
              </a:rPr>
              <a:t>一</a:t>
            </a:r>
            <a:r>
              <a:rPr b="1" lang="en-US" sz="4000" spc="-1" strike="noStrike">
                <a:solidFill>
                  <a:srgbClr val="660033"/>
                </a:solidFill>
                <a:latin typeface="Arial"/>
              </a:rPr>
              <a:t>]</a:t>
            </a:r>
            <a:r>
              <a:rPr b="1" lang="zh-CN" sz="4000" spc="-1" strike="noStrike">
                <a:solidFill>
                  <a:srgbClr val="660033"/>
                </a:solidFill>
                <a:latin typeface="Arial"/>
              </a:rPr>
              <a:t>教会我们用描点法画出函数图象。活动</a:t>
            </a:r>
            <a:r>
              <a:rPr b="1" lang="en-US" sz="4000" spc="-1" strike="noStrike">
                <a:solidFill>
                  <a:srgbClr val="660033"/>
                </a:solidFill>
                <a:latin typeface="Arial"/>
              </a:rPr>
              <a:t>[</a:t>
            </a:r>
            <a:r>
              <a:rPr b="1" lang="zh-CN" sz="4000" spc="-1" strike="noStrike">
                <a:solidFill>
                  <a:srgbClr val="660033"/>
                </a:solidFill>
                <a:latin typeface="Arial"/>
              </a:rPr>
              <a:t>二</a:t>
            </a:r>
            <a:r>
              <a:rPr b="1" lang="en-US" sz="4000" spc="-1" strike="noStrike">
                <a:solidFill>
                  <a:srgbClr val="660033"/>
                </a:solidFill>
                <a:latin typeface="Arial"/>
              </a:rPr>
              <a:t>]</a:t>
            </a:r>
            <a:r>
              <a:rPr b="1" lang="zh-CN" sz="4000" spc="-1" strike="noStrike">
                <a:solidFill>
                  <a:srgbClr val="660033"/>
                </a:solidFill>
                <a:latin typeface="Arial"/>
              </a:rPr>
              <a:t>教会我们如何分析图象中的信息。下一节课老师还会和你们一起更深入画函数的图象，你们一定能掌握得更好。</a:t>
            </a:r>
            <a:r>
              <a:rPr b="1" lang="zh-CN" sz="4000" spc="-1" strike="noStrike">
                <a:solidFill>
                  <a:srgbClr val="e81606"/>
                </a:solidFill>
                <a:latin typeface="Arial"/>
              </a:rPr>
              <a:t>谢谢同学们的合作</a:t>
            </a:r>
            <a:r>
              <a:rPr b="1" lang="en-US" sz="4000" spc="-1" strike="noStrike">
                <a:solidFill>
                  <a:srgbClr val="e81606"/>
                </a:solidFill>
                <a:latin typeface="Arial"/>
              </a:rPr>
              <a:t>!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6912000" y="4653000"/>
            <a:ext cx="2232000" cy="24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0" dur="8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1" dur="8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2" dur="8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228600" y="76320"/>
            <a:ext cx="2514600" cy="1981080"/>
          </a:xfrm>
          <a:prstGeom prst="horizontalScroll">
            <a:avLst>
              <a:gd name="adj" fmla="val 12500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995640" y="3789360"/>
            <a:ext cx="4535640" cy="285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祝你们进步！</a:t>
            </a:r>
            <a:endParaRPr b="0" lang="en-US" sz="54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5435640" y="549360"/>
            <a:ext cx="3581280" cy="268596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 txBox="1"/>
          <p:nvPr/>
        </p:nvSpPr>
        <p:spPr>
          <a:xfrm>
            <a:off x="1476360" y="2781360"/>
            <a:ext cx="3816360" cy="165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课外作业</a:t>
            </a:r>
            <a:r>
              <a: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P104.3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684360" y="549360"/>
            <a:ext cx="18000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661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ln w="0">
                  <a:noFill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c0c0c0"/>
                  </a:outerShdw>
                </a:effectLst>
                <a:latin typeface="宋体"/>
              </a:rPr>
              <a:t>作业</a:t>
            </a:r>
            <a:endParaRPr b="0" lang="en-US" sz="4400" spc="-1" strike="noStrike">
              <a:ln w="0">
                <a:noFill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effectLst>
                <a:outerShdw dist="40186" dir="1096358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0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1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1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2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 txBox="1"/>
          <p:nvPr/>
        </p:nvSpPr>
        <p:spPr>
          <a:xfrm>
            <a:off x="4643280" y="1557360"/>
            <a:ext cx="3816360" cy="373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谢谢</a:t>
            </a:r>
            <a:r>
              <a:rPr b="0" lang="en-US" sz="96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!</a:t>
            </a:r>
            <a:endParaRPr b="0" lang="en-US" sz="96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0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3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3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3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3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755640" y="1341360"/>
            <a:ext cx="7416720" cy="500688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2892600" y="692280"/>
            <a:ext cx="284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人的心电图对照图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684360" y="1052640"/>
            <a:ext cx="58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下图是自动测温仪记录的图象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179280" y="2189160"/>
            <a:ext cx="8713800" cy="365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468360" y="1844640"/>
            <a:ext cx="8424720" cy="44514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258920" y="764280"/>
            <a:ext cx="511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60093"/>
                </a:solidFill>
                <a:latin typeface="Arial"/>
              </a:rPr>
              <a:t>        </a:t>
            </a:r>
            <a:r>
              <a:rPr b="1" lang="zh-CN" sz="4000" spc="-1" strike="noStrike">
                <a:solidFill>
                  <a:srgbClr val="d60093"/>
                </a:solidFill>
                <a:latin typeface="Arial"/>
              </a:rPr>
              <a:t>股市指数走势图</a:t>
            </a:r>
            <a:r>
              <a:rPr b="0" lang="en-US" sz="4000" spc="-1" strike="noStrike">
                <a:solidFill>
                  <a:srgbClr val="007a77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24000" y="2781360"/>
            <a:ext cx="799128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     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正方形的边长为</a:t>
            </a: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X.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面积为</a:t>
            </a: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S,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面</a:t>
            </a:r>
            <a:endParaRPr b="0" lang="en-US" sz="44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积是不是边长</a:t>
            </a: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X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的函数</a:t>
            </a: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?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如果是</a:t>
            </a: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,</a:t>
            </a:r>
            <a:endParaRPr b="0" lang="en-US" sz="44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它们的函数关系式怎样表示</a:t>
            </a: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1280" y="620640"/>
            <a:ext cx="2514600" cy="1981440"/>
          </a:xfrm>
          <a:prstGeom prst="horizontalScroll">
            <a:avLst>
              <a:gd name="adj" fmla="val 12500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0033"/>
                </a:solidFill>
                <a:latin typeface="Arial"/>
              </a:rPr>
              <a:t>活动一</a:t>
            </a:r>
            <a:r>
              <a:rPr b="1" lang="en-US" sz="4800" spc="-1" strike="noStrike">
                <a:solidFill>
                  <a:srgbClr val="660033"/>
                </a:solidFill>
                <a:latin typeface="Arial"/>
              </a:rPr>
              <a:t>:</a:t>
            </a:r>
            <a:endParaRPr b="0" lang="en-US" sz="4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5364000" y="907920"/>
            <a:ext cx="32004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661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0">
                  <a:noFill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c0c0c0"/>
                  </a:outerShdw>
                </a:effectLst>
                <a:latin typeface="宋体"/>
              </a:rPr>
              <a:t>讨论</a:t>
            </a:r>
            <a:endParaRPr b="0" lang="en-US" sz="2400" spc="-1" strike="noStrike">
              <a:ln w="0">
                <a:noFill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effectLst>
                <a:outerShdw dist="40186" dir="1096358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0" y="1052640"/>
            <a:ext cx="9144000" cy="542592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535680" y="519120"/>
            <a:ext cx="288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&gt;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的图象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7164360" y="4869000"/>
            <a:ext cx="1371600" cy="12096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108000" y="404640"/>
            <a:ext cx="104292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9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-3995640" y="475920"/>
            <a:ext cx="1144728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   </a:t>
            </a:r>
            <a:r>
              <a:rPr b="0" lang="zh-CN" sz="4400" spc="-1" strike="noStrike">
                <a:solidFill>
                  <a:srgbClr val="d60427"/>
                </a:solidFill>
                <a:latin typeface="Arial"/>
              </a:rPr>
              <a:t>画图象的规律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50560" y="1844280"/>
            <a:ext cx="8713800" cy="419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0" lang="zh-CN" sz="4000" spc="-1" strike="noStrike">
                <a:solidFill>
                  <a:srgbClr val="0000ff"/>
                </a:solidFill>
                <a:latin typeface="Arial"/>
              </a:rPr>
              <a:t>一般来说，函数的图象是由直角坐标系中的一系列点组成的图形．图象上每一点的坐标</a:t>
            </a: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0" i="1" lang="en-US" sz="4000" spc="-1" strike="noStrike">
                <a:solidFill>
                  <a:srgbClr val="0000ff"/>
                </a:solidFill>
                <a:latin typeface="Arial"/>
              </a:rPr>
              <a:t>x</a:t>
            </a:r>
            <a:r>
              <a:rPr b="0" lang="zh-CN" sz="4000" spc="-1" strike="noStrike">
                <a:solidFill>
                  <a:srgbClr val="0000ff"/>
                </a:solidFill>
                <a:latin typeface="Arial"/>
              </a:rPr>
              <a:t>，</a:t>
            </a:r>
            <a:r>
              <a:rPr b="0" i="1" lang="en-US" sz="4000" spc="-1" strike="noStrike">
                <a:solidFill>
                  <a:srgbClr val="0000ff"/>
                </a:solidFill>
                <a:latin typeface="Arial"/>
              </a:rPr>
              <a:t>y</a:t>
            </a: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)</a:t>
            </a:r>
            <a:r>
              <a:rPr b="0" lang="zh-CN" sz="4000" spc="-1" strike="noStrike">
                <a:solidFill>
                  <a:srgbClr val="0000ff"/>
                </a:solidFill>
                <a:latin typeface="Arial"/>
              </a:rPr>
              <a:t>代表了函数的一对对应值，它的横坐标</a:t>
            </a:r>
            <a:r>
              <a:rPr b="0" i="1" lang="en-US" sz="4000" spc="-1" strike="noStrike">
                <a:solidFill>
                  <a:srgbClr val="0000ff"/>
                </a:solidFill>
                <a:latin typeface="Arial"/>
              </a:rPr>
              <a:t>x</a:t>
            </a:r>
            <a:r>
              <a:rPr b="0" lang="zh-CN" sz="4000" spc="-1" strike="noStrike">
                <a:solidFill>
                  <a:srgbClr val="0000ff"/>
                </a:solidFill>
                <a:latin typeface="Arial"/>
              </a:rPr>
              <a:t>表示自变量的某一个值，纵坐标</a:t>
            </a:r>
            <a:r>
              <a:rPr b="0" i="1" lang="en-US" sz="4000" spc="-1" strike="noStrike">
                <a:solidFill>
                  <a:srgbClr val="0000ff"/>
                </a:solidFill>
                <a:latin typeface="Arial"/>
              </a:rPr>
              <a:t>y</a:t>
            </a:r>
            <a:r>
              <a:rPr b="0" lang="zh-CN" sz="4000" spc="-1" strike="noStrike">
                <a:solidFill>
                  <a:srgbClr val="0000ff"/>
                </a:solidFill>
                <a:latin typeface="Arial"/>
              </a:rPr>
              <a:t>表示与它对应的函数值</a:t>
            </a:r>
            <a:r>
              <a:rPr b="1" lang="zh-CN" sz="3200" spc="-1" strike="noStrike">
                <a:solidFill>
                  <a:srgbClr val="3366ff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" dur="1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324000" y="1341360"/>
            <a:ext cx="882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ff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3366ff"/>
                </a:solidFill>
                <a:latin typeface="Arial"/>
              </a:rPr>
              <a:t>一般地，对于一个函数，如果把自变量与函数的每对对应值分别作为点的横、纵坐标，那么坐标平面内由这些点组成的图形，就是这个函数的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图象</a:t>
            </a:r>
            <a:r>
              <a:rPr b="1" lang="zh-CN" sz="3600" spc="-1" strike="noStrike">
                <a:solidFill>
                  <a:srgbClr val="3366ff"/>
                </a:solidFill>
                <a:latin typeface="Arial"/>
              </a:rPr>
              <a:t>（</a:t>
            </a:r>
            <a:r>
              <a:rPr b="0" lang="en-US" sz="3600" spc="-1" strike="noStrike">
                <a:solidFill>
                  <a:srgbClr val="3366ff"/>
                </a:solidFill>
                <a:latin typeface="Arial"/>
              </a:rPr>
              <a:t>graph</a:t>
            </a:r>
            <a:r>
              <a:rPr b="0" lang="zh-CN" sz="3600" spc="-1" strike="noStrike">
                <a:solidFill>
                  <a:srgbClr val="3366ff"/>
                </a:solidFill>
                <a:latin typeface="Arial"/>
              </a:rPr>
              <a:t>）．</a:t>
            </a:r>
            <a:r>
              <a:rPr b="1" lang="zh-CN" sz="3600" spc="-1" strike="noStrike">
                <a:solidFill>
                  <a:srgbClr val="3366ff"/>
                </a:solidFill>
                <a:latin typeface="Arial"/>
              </a:rPr>
              <a:t>右图中的曲线即为函数Ｓ＝</a:t>
            </a:r>
            <a:r>
              <a:rPr b="1" lang="en-US" sz="3600" spc="-1" strike="noStrike">
                <a:solidFill>
                  <a:srgbClr val="3366ff"/>
                </a:solidFill>
                <a:latin typeface="Arial"/>
              </a:rPr>
              <a:t>x</a:t>
            </a:r>
            <a:r>
              <a:rPr b="0" lang="en-US" sz="3600" spc="-1" strike="noStrike">
                <a:solidFill>
                  <a:srgbClr val="3366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7a77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3366ff"/>
                </a:solidFill>
                <a:latin typeface="Arial"/>
              </a:rPr>
              <a:t>（</a:t>
            </a:r>
            <a:r>
              <a:rPr b="0" lang="en-US" sz="3600" spc="-1" strike="noStrike">
                <a:solidFill>
                  <a:srgbClr val="3366ff"/>
                </a:solidFill>
                <a:latin typeface="Arial"/>
              </a:rPr>
              <a:t>x&gt;0</a:t>
            </a:r>
            <a:r>
              <a:rPr b="1" lang="zh-CN" sz="3600" spc="-1" strike="noStrike">
                <a:solidFill>
                  <a:srgbClr val="3366ff"/>
                </a:solidFill>
                <a:latin typeface="Arial"/>
              </a:rPr>
              <a:t>）的图象。 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8000" y="4724280"/>
            <a:ext cx="842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33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660033"/>
                </a:solidFill>
                <a:latin typeface="Arial"/>
              </a:rPr>
              <a:t>对于一些函数，我们通过列表、描点、连线画出它们的图象。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50920" y="549360"/>
            <a:ext cx="4249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81606"/>
                </a:solidFill>
                <a:latin typeface="Arial"/>
              </a:rPr>
              <a:t>函数图象的定义：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39.2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" dur="80"/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" dur="80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" dur="80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248520" y="380988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2086560"/>
            <a:ext cx="9001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a40804"/>
                </a:solidFill>
                <a:latin typeface="Arial"/>
              </a:rPr>
              <a:t>下图是自动测温仪记录的图象，</a:t>
            </a:r>
            <a:r>
              <a:rPr b="1" lang="en-US" sz="3200" spc="-1" strike="noStrike">
                <a:solidFill>
                  <a:srgbClr val="a40804"/>
                </a:solidFill>
                <a:latin typeface="Arial"/>
              </a:rPr>
              <a:t></a:t>
            </a:r>
            <a:r>
              <a:rPr b="1" lang="zh-CN" sz="3200" spc="-1" strike="noStrike">
                <a:solidFill>
                  <a:srgbClr val="a40804"/>
                </a:solidFill>
                <a:latin typeface="Arial"/>
              </a:rPr>
              <a:t>它反映了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40804"/>
                </a:solidFill>
                <a:latin typeface="Arial"/>
              </a:rPr>
              <a:t>北京的春季某天气温Ｔ如何随时间</a:t>
            </a:r>
            <a:r>
              <a:rPr b="1" lang="en-US" sz="3200" spc="-1" strike="noStrike">
                <a:solidFill>
                  <a:srgbClr val="a40804"/>
                </a:solidFill>
                <a:latin typeface="Arial"/>
              </a:rPr>
              <a:t>t</a:t>
            </a:r>
            <a:r>
              <a:rPr b="1" lang="zh-CN" sz="3200" spc="-1" strike="noStrike">
                <a:solidFill>
                  <a:srgbClr val="a40804"/>
                </a:solidFill>
                <a:latin typeface="Arial"/>
              </a:rPr>
              <a:t>的变化而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40804"/>
                </a:solidFill>
                <a:latin typeface="Arial"/>
              </a:rPr>
              <a:t>变化．你从图象中得到了哪些信息？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0"/>
            <a:ext cx="2514600" cy="1981080"/>
          </a:xfrm>
          <a:prstGeom prst="horizontalScroll">
            <a:avLst>
              <a:gd name="adj" fmla="val 12500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33"/>
                </a:solidFill>
                <a:latin typeface="Arial"/>
              </a:rPr>
              <a:t>活动二</a:t>
            </a:r>
            <a:r>
              <a:rPr b="1" lang="en-US" sz="3600" spc="-1" strike="noStrike">
                <a:solidFill>
                  <a:srgbClr val="660033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250920" y="3645000"/>
            <a:ext cx="8893080" cy="280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2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3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5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7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9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4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7T11:10:12Z</dcterms:created>
  <dc:creator/>
  <dc:description/>
  <dc:language>en-US</dc:language>
  <cp:lastModifiedBy>Lenovo User</cp:lastModifiedBy>
  <dcterms:modified xsi:type="dcterms:W3CDTF">2014-03-09T07:30:42Z</dcterms:modified>
  <cp:revision>11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517</vt:lpwstr>
  </property>
</Properties>
</file>