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D25-68BC-4351-B6AA-1CDFB9BB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FD2-1324-45C8-8077-2FB8EC7F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52E-1AFC-43EC-A58C-27E9655F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CF6-FD60-4841-9CA0-EFB35453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AB1-0028-4CA0-97B4-7AD73F3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380-1FDA-45C8-80CF-8ABBD31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F9F-2F53-4F3C-8EE9-4CEF5FA3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33E-3C7A-4180-895D-8B6380D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299-53F8-40CA-9B45-3651285F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136-9F91-40BF-B971-5CBC196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44C-6601-40A5-AAE4-3AA55F7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B77-F4CF-4C38-84A0-95030EF7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BAB6-EE71-407C-895A-99F45FE04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6724;&#23545;&#31216;3.exe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590920"/>
            <a:ext cx="44654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12.1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轴 对 称（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3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69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2018520" y="3516480"/>
            <a:ext cx="4484880" cy="44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98" y="6480"/>
                </a:moveTo>
                <a:arcTo wR="10800" hR="10800" stAng="-1414846" swAng="824451"/>
                <a:lnTo>
                  <a:pt x="10800" y="10800"/>
                </a:lnTo>
                <a:close/>
              </a:path>
              <a:path fill="none" w="21600" h="21600">
                <a:moveTo>
                  <a:pt x="20698" y="6480"/>
                </a:moveTo>
                <a:arcTo wR="10800" hR="10800" stAng="-1414846" swAng="824451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3513600"/>
            <a:ext cx="4485960" cy="4488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" y="8991"/>
                </a:moveTo>
                <a:arcTo wR="10800" hR="10800" stAng="-10221476" swAng="874808"/>
                <a:lnTo>
                  <a:pt x="10800" y="10800"/>
                </a:lnTo>
                <a:close/>
              </a:path>
              <a:path fill="none" w="21600" h="21600">
                <a:moveTo>
                  <a:pt x="153" y="8991"/>
                </a:moveTo>
                <a:arcTo wR="10800" hR="10800" stAng="-10221476" swAng="874808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2781360" y="2752920"/>
            <a:ext cx="6010200" cy="60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16" y="2589"/>
                </a:moveTo>
                <a:arcTo wR="10800" hR="10800" stAng="-2969226" swAng="677655"/>
                <a:lnTo>
                  <a:pt x="10800" y="10800"/>
                </a:lnTo>
                <a:close/>
              </a:path>
              <a:path fill="none" w="21600" h="21600">
                <a:moveTo>
                  <a:pt x="17816" y="2589"/>
                </a:moveTo>
                <a:arcTo wR="10800" hR="10800" stAng="-2969226" swAng="677655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3520" y="2752200"/>
            <a:ext cx="6011280" cy="60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95" y="4143"/>
                </a:moveTo>
                <a:arcTo wR="10800" hR="10800" stAng="-8516991" swAng="764225"/>
                <a:lnTo>
                  <a:pt x="10800" y="10800"/>
                </a:lnTo>
                <a:close/>
              </a:path>
              <a:path fill="none" w="21600" h="21600">
                <a:moveTo>
                  <a:pt x="2295" y="4143"/>
                </a:moveTo>
                <a:arcTo wR="10800" hR="10800" stAng="-8516991" swAng="764225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762520"/>
            <a:ext cx="43052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81400" y="3124080"/>
            <a:ext cx="0" cy="35528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90240" y="5514840"/>
            <a:ext cx="209880" cy="274680"/>
            <a:chOff x="2190240" y="5514840"/>
            <a:chExt cx="209880" cy="274680"/>
          </a:xfrm>
        </p:grpSpPr>
        <p:sp>
          <p:nvSpPr>
            <p:cNvPr id="218" name=""/>
            <p:cNvSpPr/>
            <p:nvPr/>
          </p:nvSpPr>
          <p:spPr>
            <a:xfrm>
              <a:off x="2361960" y="5743440"/>
              <a:ext cx="38160" cy="38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90600" y="55148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90240" y="5514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200320" y="5019840"/>
            <a:ext cx="200160" cy="274320"/>
            <a:chOff x="2200320" y="5019840"/>
            <a:chExt cx="200160" cy="274320"/>
          </a:xfrm>
        </p:grpSpPr>
        <p:sp>
          <p:nvSpPr>
            <p:cNvPr id="222" name=""/>
            <p:cNvSpPr/>
            <p:nvPr/>
          </p:nvSpPr>
          <p:spPr>
            <a:xfrm>
              <a:off x="2362320" y="509580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00320" y="501984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00320" y="5019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181240" y="3562200"/>
            <a:ext cx="219240" cy="274680"/>
            <a:chOff x="2181240" y="3562200"/>
            <a:chExt cx="219240" cy="274680"/>
          </a:xfrm>
        </p:grpSpPr>
        <p:sp>
          <p:nvSpPr>
            <p:cNvPr id="226" name=""/>
            <p:cNvSpPr/>
            <p:nvPr/>
          </p:nvSpPr>
          <p:spPr>
            <a:xfrm>
              <a:off x="2362320" y="3638520"/>
              <a:ext cx="38160" cy="38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1240" y="35622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124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320" y="5514840"/>
            <a:ext cx="171360" cy="274680"/>
            <a:chOff x="76320" y="5514840"/>
            <a:chExt cx="171360" cy="274680"/>
          </a:xfrm>
        </p:grpSpPr>
        <p:sp>
          <p:nvSpPr>
            <p:cNvPr id="230" name=""/>
            <p:cNvSpPr/>
            <p:nvPr/>
          </p:nvSpPr>
          <p:spPr>
            <a:xfrm>
              <a:off x="209520" y="5743440"/>
              <a:ext cx="38160" cy="38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320" y="55148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320" y="5514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514760" y="5514840"/>
            <a:ext cx="167040" cy="274680"/>
            <a:chOff x="4514760" y="5514840"/>
            <a:chExt cx="167040" cy="274680"/>
          </a:xfrm>
        </p:grpSpPr>
        <p:sp>
          <p:nvSpPr>
            <p:cNvPr id="234" name=""/>
            <p:cNvSpPr/>
            <p:nvPr/>
          </p:nvSpPr>
          <p:spPr>
            <a:xfrm>
              <a:off x="4514760" y="5743440"/>
              <a:ext cx="37800" cy="38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62280" y="55148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62280" y="5514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809880" y="1371600"/>
            <a:ext cx="5029200" cy="1033560"/>
            <a:chOff x="3809880" y="1371600"/>
            <a:chExt cx="5029200" cy="1033560"/>
          </a:xfrm>
        </p:grpSpPr>
        <p:sp>
          <p:nvSpPr>
            <p:cNvPr id="238" name=""/>
            <p:cNvSpPr/>
            <p:nvPr/>
          </p:nvSpPr>
          <p:spPr>
            <a:xfrm>
              <a:off x="3809880" y="1371600"/>
              <a:ext cx="502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）分别以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A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B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为圆心，以大于   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AB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的长为半径做弧，两弧相交于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648320" y="1752480"/>
              <a:ext cx="264960" cy="6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3809880" y="3048120"/>
            <a:ext cx="5029200" cy="957240"/>
            <a:chOff x="3809880" y="3048120"/>
            <a:chExt cx="5029200" cy="957240"/>
          </a:xfrm>
        </p:grpSpPr>
        <p:sp>
          <p:nvSpPr>
            <p:cNvPr id="241" name=""/>
            <p:cNvSpPr/>
            <p:nvPr/>
          </p:nvSpPr>
          <p:spPr>
            <a:xfrm>
              <a:off x="3809880" y="3048120"/>
              <a:ext cx="502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）分别以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A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B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为圆心，以大于   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AB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且不等于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AC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的长为半径做弧，两弧相交于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D</a:t>
              </a:r>
              <a:r>
                <a:rPr b="1" lang="zh-CN" sz="2800" spc="-1" strike="noStrike">
                  <a:solidFill>
                    <a:srgbClr val="339933"/>
                  </a:solidFill>
                  <a:latin typeface="Arial"/>
                </a:rPr>
                <a:t>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4648320" y="3352680"/>
              <a:ext cx="264960" cy="6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"/>
          <p:cNvSpPr/>
          <p:nvPr/>
        </p:nvSpPr>
        <p:spPr>
          <a:xfrm>
            <a:off x="3809880" y="457200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）作直线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交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即为所求的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419200" y="1886040"/>
            <a:ext cx="3676680" cy="3494160"/>
          </a:xfrm>
          <a:custGeom>
            <a:avLst/>
            <a:gdLst/>
            <a:ahLst/>
            <a:rect l="l" t="t" r="r" b="b"/>
            <a:pathLst>
              <a:path w="2316" h="2201">
                <a:moveTo>
                  <a:pt x="450" y="2201"/>
                </a:moveTo>
                <a:lnTo>
                  <a:pt x="1164" y="1679"/>
                </a:lnTo>
                <a:lnTo>
                  <a:pt x="1878" y="2201"/>
                </a:lnTo>
                <a:lnTo>
                  <a:pt x="1602" y="1361"/>
                </a:lnTo>
                <a:lnTo>
                  <a:pt x="2316" y="840"/>
                </a:lnTo>
                <a:lnTo>
                  <a:pt x="1434" y="840"/>
                </a:lnTo>
                <a:lnTo>
                  <a:pt x="1158" y="0"/>
                </a:lnTo>
                <a:lnTo>
                  <a:pt x="888" y="840"/>
                </a:lnTo>
                <a:lnTo>
                  <a:pt x="0" y="846"/>
                </a:lnTo>
                <a:lnTo>
                  <a:pt x="720" y="1361"/>
                </a:lnTo>
                <a:lnTo>
                  <a:pt x="450" y="220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419200" y="3219480"/>
            <a:ext cx="1409760" cy="9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28600" y="1886040"/>
            <a:ext cx="428760" cy="13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57720" y="1886040"/>
            <a:ext cx="438120" cy="13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95840" y="3219480"/>
            <a:ext cx="14000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962600" y="3219480"/>
            <a:ext cx="1133280" cy="826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62600" y="4046400"/>
            <a:ext cx="438120" cy="1333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4551480"/>
            <a:ext cx="1133640" cy="828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133800" y="4551480"/>
            <a:ext cx="1133280" cy="828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133800" y="4046400"/>
            <a:ext cx="428400" cy="1333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9200" y="3228840"/>
            <a:ext cx="1143000" cy="817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28960" y="3219480"/>
            <a:ext cx="866880" cy="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57720" y="1333440"/>
            <a:ext cx="9360" cy="4361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95840" y="3219480"/>
            <a:ext cx="266760" cy="826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267080" y="4046400"/>
            <a:ext cx="695520" cy="50508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2200" y="4046400"/>
            <a:ext cx="704880" cy="50508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1840" y="3219480"/>
            <a:ext cx="266760" cy="826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724120" y="2076480"/>
            <a:ext cx="2790720" cy="38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562120" y="3057480"/>
            <a:ext cx="4019760" cy="1312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3086280"/>
            <a:ext cx="3962520" cy="12747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91040" y="2352600"/>
            <a:ext cx="2581200" cy="35323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72200" y="54752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08920" y="144792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76680" y="3619440"/>
            <a:ext cx="47520" cy="4608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5560" y="4284720"/>
            <a:ext cx="4788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91080" y="4284720"/>
            <a:ext cx="4752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9960" y="3610080"/>
            <a:ext cx="47880" cy="4608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38640" y="3200400"/>
            <a:ext cx="4752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6920" y="29718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43480" y="4027320"/>
            <a:ext cx="47520" cy="4788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48000" y="4532400"/>
            <a:ext cx="4788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43520" y="4027320"/>
            <a:ext cx="47520" cy="4788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76760" y="3200400"/>
            <a:ext cx="4752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3200400"/>
            <a:ext cx="4788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76800" y="3200400"/>
            <a:ext cx="4788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91120" y="297180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00480" y="3209760"/>
            <a:ext cx="47520" cy="4788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66720" y="29811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81640" y="5361120"/>
            <a:ext cx="4752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76680" y="524664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38640" y="1866960"/>
            <a:ext cx="4752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33680" y="17240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14720" y="5361120"/>
            <a:ext cx="47520" cy="47520"/>
          </a:xfrm>
          <a:prstGeom prst="ellipse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52720" y="5256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五角星的对称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129528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说法：①若直线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线段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垂直平分线，则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②若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直线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平分线段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③若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点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是线段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垂直平分线上的点；④若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过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直线垂直平分线段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其中正确的个数有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711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8028000" y="0"/>
            <a:ext cx="923760" cy="1152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096920" y="5734080"/>
            <a:ext cx="4267080" cy="765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5734080"/>
            <a:ext cx="9144000" cy="6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029200" y="2481120"/>
            <a:ext cx="3886200" cy="3146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4160" y="2743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5800" y="2706840"/>
            <a:ext cx="464832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685800" y="3613320"/>
            <a:ext cx="4419720" cy="882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838080" y="4114800"/>
            <a:ext cx="2590920" cy="828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838080" y="4495680"/>
            <a:ext cx="4343400" cy="1809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533520" y="1238400"/>
            <a:ext cx="601956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7200" y="137160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、如图，在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Rt△ABC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中，∠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C=9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DE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是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的垂直平分线，连接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AE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∠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CAE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：∠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DAE=1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求∠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708360" y="2205000"/>
            <a:ext cx="4896000" cy="2896920"/>
            <a:chOff x="3708360" y="2205000"/>
            <a:chExt cx="4896000" cy="2896920"/>
          </a:xfrm>
        </p:grpSpPr>
        <p:sp>
          <p:nvSpPr>
            <p:cNvPr id="303" name=""/>
            <p:cNvSpPr/>
            <p:nvPr/>
          </p:nvSpPr>
          <p:spPr>
            <a:xfrm flipH="1">
              <a:off x="4284360" y="2708280"/>
              <a:ext cx="26636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284720" y="4508640"/>
              <a:ext cx="3959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48360" y="2708280"/>
              <a:ext cx="129564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44000" y="43657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12000" y="2781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2000" y="45813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08360" y="4508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04000" y="2205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27640" y="3213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27640" y="3213000"/>
              <a:ext cx="20163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地有两所大学和两条相交叉的公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现计划修建一个物资仓库，希望仓库到两所大学的距离相等，到两条公路的距离也相等，请你确定该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52760" y="3605040"/>
            <a:ext cx="5771880" cy="2876760"/>
            <a:chOff x="1652760" y="3605040"/>
            <a:chExt cx="5771880" cy="2876760"/>
          </a:xfrm>
        </p:grpSpPr>
        <p:sp>
          <p:nvSpPr>
            <p:cNvPr id="315" name=""/>
            <p:cNvSpPr/>
            <p:nvPr/>
          </p:nvSpPr>
          <p:spPr>
            <a:xfrm>
              <a:off x="1671480" y="3795840"/>
              <a:ext cx="5724720" cy="647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633400" y="3624120"/>
              <a:ext cx="4057560" cy="2829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57440" y="51958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9280" y="4557600"/>
              <a:ext cx="285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43240" y="4414680"/>
              <a:ext cx="267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00520" y="586260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00240" y="38908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09960" y="383364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43200" y="5719680"/>
              <a:ext cx="4788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52760" y="37767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77120" y="44244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14680" y="64342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72240" y="360504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43120" y="445284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91080" y="52815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式训练：某地有两所大学和两条相交叉的公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现计划修建一个物资仓库，希望仓库到两所大学的距离相等，到两条公路的距离也相等，请你确定该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20760" y="3876840"/>
            <a:ext cx="5772240" cy="2876400"/>
            <a:chOff x="1220760" y="3876840"/>
            <a:chExt cx="5772240" cy="2876400"/>
          </a:xfrm>
        </p:grpSpPr>
        <p:sp>
          <p:nvSpPr>
            <p:cNvPr id="333" name=""/>
            <p:cNvSpPr/>
            <p:nvPr/>
          </p:nvSpPr>
          <p:spPr>
            <a:xfrm>
              <a:off x="1239840" y="4067280"/>
              <a:ext cx="5724360" cy="647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201760" y="3895560"/>
              <a:ext cx="4057920" cy="2829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6760" y="630540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7280" y="4829040"/>
              <a:ext cx="285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1240" y="4686480"/>
              <a:ext cx="267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68520" y="613404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8240" y="416232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7960" y="41054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1560" y="599112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20760" y="40482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45480" y="46958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82680" y="670572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0600" y="38768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11480" y="472428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5480" y="60580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：请找出一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使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点的距离相等，并且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平分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304000" y="3614760"/>
            <a:ext cx="4768920" cy="2478600"/>
            <a:chOff x="2304000" y="3614760"/>
            <a:chExt cx="4768920" cy="2478600"/>
          </a:xfrm>
        </p:grpSpPr>
        <p:sp>
          <p:nvSpPr>
            <p:cNvPr id="351" name=""/>
            <p:cNvSpPr/>
            <p:nvPr/>
          </p:nvSpPr>
          <p:spPr>
            <a:xfrm flipH="1">
              <a:off x="2322720" y="3967200"/>
              <a:ext cx="1685520" cy="1552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22360" y="5376960"/>
              <a:ext cx="4308840" cy="1429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08600" y="3967200"/>
              <a:ext cx="2623320" cy="1409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36040" y="568152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25240" y="530064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14120" y="361476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89880" y="394812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4000" y="550080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12840" y="53578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平分线上一点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C⊥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D⊥O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垂足分别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求证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154960" y="3114720"/>
            <a:ext cx="5169600" cy="3631320"/>
            <a:chOff x="2154960" y="3114720"/>
            <a:chExt cx="5169600" cy="3631320"/>
          </a:xfrm>
        </p:grpSpPr>
        <p:sp>
          <p:nvSpPr>
            <p:cNvPr id="363" name=""/>
            <p:cNvSpPr/>
            <p:nvPr/>
          </p:nvSpPr>
          <p:spPr>
            <a:xfrm>
              <a:off x="2666520" y="3343320"/>
              <a:ext cx="4140000" cy="1666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799000" y="5010120"/>
              <a:ext cx="4007160" cy="117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74040" y="4743360"/>
              <a:ext cx="4632840" cy="266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708720" y="3886200"/>
              <a:ext cx="302760" cy="905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09080" y="4791240"/>
              <a:ext cx="293400" cy="1038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002480" y="3886200"/>
              <a:ext cx="9000" cy="1943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6440" y="488628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82400" y="363852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50480" y="311472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60480" y="633420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63320" y="606744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57080" y="5029200"/>
              <a:ext cx="267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47800" y="33242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88520" y="499104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80640" y="616284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54960" y="472428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90000" y="477216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3120" y="386712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83760" y="581040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484280"/>
            <a:ext cx="624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下图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C=16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垂直平分线交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D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交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 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BCE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周长为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6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19920" y="1981080"/>
            <a:ext cx="2447280" cy="3384720"/>
            <a:chOff x="6019920" y="1981080"/>
            <a:chExt cx="2447280" cy="3384720"/>
          </a:xfrm>
        </p:grpSpPr>
        <p:sp>
          <p:nvSpPr>
            <p:cNvPr id="45" name=""/>
            <p:cNvSpPr/>
            <p:nvPr/>
          </p:nvSpPr>
          <p:spPr>
            <a:xfrm>
              <a:off x="7269840" y="2412360"/>
              <a:ext cx="1144440" cy="29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6019920" y="1981080"/>
              <a:ext cx="2447280" cy="3384360"/>
              <a:chOff x="6019920" y="1981080"/>
              <a:chExt cx="2447280" cy="3384360"/>
            </a:xfrm>
          </p:grpSpPr>
          <p:sp>
            <p:nvSpPr>
              <p:cNvPr id="47" name=""/>
              <p:cNvSpPr/>
              <p:nvPr/>
            </p:nvSpPr>
            <p:spPr>
              <a:xfrm flipH="1">
                <a:off x="6383160" y="2412360"/>
                <a:ext cx="885960" cy="215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383520" y="4565160"/>
                <a:ext cx="208368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0400" y="3519000"/>
                <a:ext cx="1145520" cy="676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383520" y="4196160"/>
                <a:ext cx="1562400" cy="36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215840" y="1981080"/>
                <a:ext cx="41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947360" y="38271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437520" y="327348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19920" y="4319640"/>
                <a:ext cx="41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8229600" y="5410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2860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线段垂直平分线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线段垂直平分线上的点与这条线段两个端点的距离相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65760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657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思考：反过来，如果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PA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PB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，那么点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否在线段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的垂直平分线上？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600200"/>
            <a:ext cx="701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线段垂直平分线定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线段垂直平分线上的点与这条线段两个端点的距离相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3080" y="4724280"/>
            <a:ext cx="607320" cy="577080"/>
          </a:xfrm>
          <a:prstGeom prst="rect">
            <a:avLst/>
          </a:prstGeom>
          <a:solidFill>
            <a:srgbClr val="ffcc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1"/>
              </a:rPr>
              <a:t>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737000"/>
            <a:ext cx="57150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通过探究我们可以得到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与一条线段两个端点距离相等的点，在这条线段的垂直平分线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352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语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4267080"/>
            <a:ext cx="33530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A=P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证：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895280" y="3524400"/>
            <a:ext cx="3148560" cy="2178720"/>
            <a:chOff x="4895280" y="3524400"/>
            <a:chExt cx="3148560" cy="2178720"/>
          </a:xfrm>
        </p:grpSpPr>
        <p:sp>
          <p:nvSpPr>
            <p:cNvPr id="65" name=""/>
            <p:cNvSpPr/>
            <p:nvPr/>
          </p:nvSpPr>
          <p:spPr>
            <a:xfrm flipH="1">
              <a:off x="5038200" y="5432400"/>
              <a:ext cx="2866680" cy="97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038560" y="3733920"/>
              <a:ext cx="1428480" cy="1708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67400" y="3733920"/>
              <a:ext cx="1437840" cy="1698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57680" y="542304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19480" y="542304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95280" y="5489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86520" y="541332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320" y="5479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48320" y="3714840"/>
              <a:ext cx="4716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28880" y="3524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1720"/>
            <a:ext cx="60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上述两个结果可以看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42900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两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距离相等的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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7840" y="2666880"/>
            <a:ext cx="55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的点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距离都相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352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过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38960" y="4648320"/>
            <a:ext cx="4734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所以线段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的垂直平分线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可以看成与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点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距离相等的所有点的集合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648120" y="1790640"/>
            <a:ext cx="2400840" cy="3781440"/>
            <a:chOff x="6648120" y="1790640"/>
            <a:chExt cx="2400840" cy="3781440"/>
          </a:xfrm>
        </p:grpSpPr>
        <p:sp>
          <p:nvSpPr>
            <p:cNvPr id="81" name=""/>
            <p:cNvSpPr/>
            <p:nvPr/>
          </p:nvSpPr>
          <p:spPr>
            <a:xfrm flipH="1">
              <a:off x="6800760" y="4286160"/>
              <a:ext cx="2105280" cy="97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800400" y="2790720"/>
              <a:ext cx="1047960" cy="1505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48720" y="2790720"/>
              <a:ext cx="1057320" cy="1495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39000" y="1790640"/>
              <a:ext cx="19080" cy="378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4880" y="18097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39000" y="427680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9200" y="43052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81680" y="427680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48120" y="4314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6960" y="426708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95960" y="4305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29640" y="277164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26290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习题  如图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D⊥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D=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上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度有什么关系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+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25160" y="2871000"/>
            <a:ext cx="3432960" cy="1868040"/>
            <a:chOff x="425160" y="2871000"/>
            <a:chExt cx="3432960" cy="1868040"/>
          </a:xfrm>
        </p:grpSpPr>
        <p:sp>
          <p:nvSpPr>
            <p:cNvPr id="96" name=""/>
            <p:cNvSpPr/>
            <p:nvPr/>
          </p:nvSpPr>
          <p:spPr>
            <a:xfrm>
              <a:off x="581760" y="4384080"/>
              <a:ext cx="316332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760" y="4384080"/>
              <a:ext cx="175068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81400" y="3203640"/>
              <a:ext cx="881640" cy="11800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3760" y="3203640"/>
              <a:ext cx="868680" cy="11800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63760" y="3203640"/>
              <a:ext cx="2281320" cy="11800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3760" y="3203640"/>
              <a:ext cx="0" cy="1180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3760" y="4256280"/>
              <a:ext cx="108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72480" y="4256280"/>
              <a:ext cx="0" cy="127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233000" y="2871000"/>
              <a:ext cx="253800" cy="358920"/>
              <a:chOff x="1233000" y="2871000"/>
              <a:chExt cx="253800" cy="358920"/>
            </a:xfrm>
          </p:grpSpPr>
          <p:sp>
            <p:nvSpPr>
              <p:cNvPr id="105" name=""/>
              <p:cNvSpPr/>
              <p:nvPr/>
            </p:nvSpPr>
            <p:spPr>
              <a:xfrm>
                <a:off x="1438560" y="3178800"/>
                <a:ext cx="48240" cy="511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233720" y="2871000"/>
                <a:ext cx="144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33000" y="28710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402920" y="4358880"/>
              <a:ext cx="174600" cy="380160"/>
              <a:chOff x="1402920" y="4358880"/>
              <a:chExt cx="174600" cy="380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38560" y="4358880"/>
                <a:ext cx="48240" cy="51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04000" y="4449240"/>
                <a:ext cx="108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02920" y="4449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25160" y="4358880"/>
              <a:ext cx="181080" cy="380160"/>
              <a:chOff x="425160" y="4358880"/>
              <a:chExt cx="181080" cy="380160"/>
            </a:xfrm>
          </p:grpSpPr>
          <p:sp>
            <p:nvSpPr>
              <p:cNvPr id="113" name=""/>
              <p:cNvSpPr/>
              <p:nvPr/>
            </p:nvSpPr>
            <p:spPr>
              <a:xfrm>
                <a:off x="558000" y="4358880"/>
                <a:ext cx="48240" cy="51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5160" y="4449240"/>
                <a:ext cx="108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5160" y="4449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697200" y="4358880"/>
              <a:ext cx="160920" cy="380160"/>
              <a:chOff x="3697200" y="4358880"/>
              <a:chExt cx="160920" cy="380160"/>
            </a:xfrm>
          </p:grpSpPr>
          <p:sp>
            <p:nvSpPr>
              <p:cNvPr id="117" name=""/>
              <p:cNvSpPr/>
              <p:nvPr/>
            </p:nvSpPr>
            <p:spPr>
              <a:xfrm>
                <a:off x="3720240" y="4358880"/>
                <a:ext cx="48240" cy="51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697200" y="4449240"/>
                <a:ext cx="108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697200" y="44492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284560" y="4358880"/>
              <a:ext cx="174960" cy="380160"/>
              <a:chOff x="2284560" y="4358880"/>
              <a:chExt cx="174960" cy="380160"/>
            </a:xfrm>
          </p:grpSpPr>
          <p:sp>
            <p:nvSpPr>
              <p:cNvPr id="121" name=""/>
              <p:cNvSpPr/>
              <p:nvPr/>
            </p:nvSpPr>
            <p:spPr>
              <a:xfrm>
                <a:off x="2307600" y="4358880"/>
                <a:ext cx="48240" cy="51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4560" y="4449240"/>
                <a:ext cx="108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84920" y="44492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4114800" y="2362320"/>
            <a:ext cx="4724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证明：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D⊥BC  BD=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垂直平分线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=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垂直平分线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C=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又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=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=AC=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=AC=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D=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+BD=CE+CD=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1600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习题 ，如图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B=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直平分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3124080"/>
            <a:ext cx="38862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证明：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=AC  BM=MC AM=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M≌△A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S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AD=∠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=AC   AD=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D≌△A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MD=∠CM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D=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垂直平分线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94640" y="3009600"/>
            <a:ext cx="4036320" cy="2867040"/>
            <a:chOff x="494640" y="3009600"/>
            <a:chExt cx="4036320" cy="2867040"/>
          </a:xfrm>
        </p:grpSpPr>
        <p:sp>
          <p:nvSpPr>
            <p:cNvPr id="128" name=""/>
            <p:cNvSpPr/>
            <p:nvPr/>
          </p:nvSpPr>
          <p:spPr>
            <a:xfrm>
              <a:off x="690480" y="5544720"/>
              <a:ext cx="3602160" cy="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90120" y="3240000"/>
              <a:ext cx="1800360" cy="230472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90840" y="3240000"/>
              <a:ext cx="1801800" cy="230472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90120" y="4363920"/>
              <a:ext cx="1800360" cy="118080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0840" y="4363920"/>
              <a:ext cx="1801800" cy="118080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90840" y="3240000"/>
              <a:ext cx="0" cy="230472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422080" y="5520960"/>
              <a:ext cx="146880" cy="355680"/>
              <a:chOff x="2422080" y="5520960"/>
              <a:chExt cx="146880" cy="355680"/>
            </a:xfrm>
          </p:grpSpPr>
          <p:sp>
            <p:nvSpPr>
              <p:cNvPr id="135" name=""/>
              <p:cNvSpPr/>
              <p:nvPr/>
            </p:nvSpPr>
            <p:spPr>
              <a:xfrm>
                <a:off x="2468520" y="5520960"/>
                <a:ext cx="46080" cy="46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22440" y="56019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22080" y="56019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94640" y="5430600"/>
              <a:ext cx="218160" cy="274680"/>
              <a:chOff x="494640" y="5430600"/>
              <a:chExt cx="218160" cy="274680"/>
            </a:xfrm>
          </p:grpSpPr>
          <p:sp>
            <p:nvSpPr>
              <p:cNvPr id="139" name=""/>
              <p:cNvSpPr/>
              <p:nvPr/>
            </p:nvSpPr>
            <p:spPr>
              <a:xfrm>
                <a:off x="668160" y="5520960"/>
                <a:ext cx="44640" cy="46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5360" y="54306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4640" y="54306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268520" y="5430600"/>
              <a:ext cx="262440" cy="274680"/>
              <a:chOff x="4268520" y="5430600"/>
              <a:chExt cx="262440" cy="274680"/>
            </a:xfrm>
          </p:grpSpPr>
          <p:sp>
            <p:nvSpPr>
              <p:cNvPr id="143" name=""/>
              <p:cNvSpPr/>
              <p:nvPr/>
            </p:nvSpPr>
            <p:spPr>
              <a:xfrm>
                <a:off x="4268520" y="5520960"/>
                <a:ext cx="46080" cy="46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84440" y="543060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84080" y="54306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386800" y="3009600"/>
              <a:ext cx="136440" cy="274680"/>
              <a:chOff x="2386800" y="3009600"/>
              <a:chExt cx="136440" cy="274680"/>
            </a:xfrm>
          </p:grpSpPr>
          <p:sp>
            <p:nvSpPr>
              <p:cNvPr id="147" name=""/>
              <p:cNvSpPr/>
              <p:nvPr/>
            </p:nvSpPr>
            <p:spPr>
              <a:xfrm>
                <a:off x="2468520" y="3215880"/>
                <a:ext cx="46080" cy="46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87520" y="30096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86800" y="30096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227320" y="4133520"/>
              <a:ext cx="287280" cy="274680"/>
              <a:chOff x="2227320" y="4133520"/>
              <a:chExt cx="287280" cy="274680"/>
            </a:xfrm>
          </p:grpSpPr>
          <p:sp>
            <p:nvSpPr>
              <p:cNvPr id="151" name=""/>
              <p:cNvSpPr/>
              <p:nvPr/>
            </p:nvSpPr>
            <p:spPr>
              <a:xfrm>
                <a:off x="2468520" y="4340160"/>
                <a:ext cx="46080" cy="45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27320" y="413352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27320" y="4133520"/>
                <a:ext cx="16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5257800" y="2819520"/>
            <a:ext cx="3276720" cy="3124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334120" y="2743200"/>
            <a:ext cx="3124080" cy="327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48320" y="3200400"/>
            <a:ext cx="41907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证明：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=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垂直平分线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M=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垂直平分线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   两点确定一条直线（过两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且只有一条直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线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垂直平分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00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B=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直平分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94640" y="3009600"/>
            <a:ext cx="4036320" cy="2867040"/>
            <a:chOff x="494640" y="3009600"/>
            <a:chExt cx="4036320" cy="2867040"/>
          </a:xfrm>
        </p:grpSpPr>
        <p:sp>
          <p:nvSpPr>
            <p:cNvPr id="159" name=""/>
            <p:cNvSpPr/>
            <p:nvPr/>
          </p:nvSpPr>
          <p:spPr>
            <a:xfrm>
              <a:off x="690480" y="5544720"/>
              <a:ext cx="3602160" cy="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90120" y="3240000"/>
              <a:ext cx="1800360" cy="230472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90840" y="3240000"/>
              <a:ext cx="1801800" cy="230472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0120" y="4363920"/>
              <a:ext cx="1800360" cy="118080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90840" y="4363920"/>
              <a:ext cx="1801800" cy="118080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90840" y="3240000"/>
              <a:ext cx="0" cy="230472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22080" y="5520960"/>
              <a:ext cx="146880" cy="355680"/>
              <a:chOff x="2422080" y="5520960"/>
              <a:chExt cx="146880" cy="355680"/>
            </a:xfrm>
          </p:grpSpPr>
          <p:sp>
            <p:nvSpPr>
              <p:cNvPr id="166" name=""/>
              <p:cNvSpPr/>
              <p:nvPr/>
            </p:nvSpPr>
            <p:spPr>
              <a:xfrm>
                <a:off x="2468520" y="5520960"/>
                <a:ext cx="46080" cy="46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22440" y="56019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22080" y="56019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94640" y="5430600"/>
              <a:ext cx="218160" cy="274680"/>
              <a:chOff x="494640" y="5430600"/>
              <a:chExt cx="218160" cy="274680"/>
            </a:xfrm>
          </p:grpSpPr>
          <p:sp>
            <p:nvSpPr>
              <p:cNvPr id="170" name=""/>
              <p:cNvSpPr/>
              <p:nvPr/>
            </p:nvSpPr>
            <p:spPr>
              <a:xfrm>
                <a:off x="668160" y="5520960"/>
                <a:ext cx="44640" cy="46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5360" y="54306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4640" y="54306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8520" y="5430600"/>
              <a:ext cx="262440" cy="274680"/>
              <a:chOff x="4268520" y="5430600"/>
              <a:chExt cx="262440" cy="274680"/>
            </a:xfrm>
          </p:grpSpPr>
          <p:sp>
            <p:nvSpPr>
              <p:cNvPr id="174" name=""/>
              <p:cNvSpPr/>
              <p:nvPr/>
            </p:nvSpPr>
            <p:spPr>
              <a:xfrm>
                <a:off x="4268520" y="5520960"/>
                <a:ext cx="46080" cy="46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84440" y="543060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84080" y="54306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386800" y="3009600"/>
              <a:ext cx="136440" cy="274680"/>
              <a:chOff x="2386800" y="3009600"/>
              <a:chExt cx="136440" cy="274680"/>
            </a:xfrm>
          </p:grpSpPr>
          <p:sp>
            <p:nvSpPr>
              <p:cNvPr id="178" name=""/>
              <p:cNvSpPr/>
              <p:nvPr/>
            </p:nvSpPr>
            <p:spPr>
              <a:xfrm>
                <a:off x="2468520" y="3215880"/>
                <a:ext cx="46080" cy="46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87520" y="30096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86800" y="30096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227320" y="4133520"/>
              <a:ext cx="287280" cy="274680"/>
              <a:chOff x="2227320" y="4133520"/>
              <a:chExt cx="287280" cy="274680"/>
            </a:xfrm>
          </p:grpSpPr>
          <p:sp>
            <p:nvSpPr>
              <p:cNvPr id="182" name=""/>
              <p:cNvSpPr/>
              <p:nvPr/>
            </p:nvSpPr>
            <p:spPr>
              <a:xfrm>
                <a:off x="2468520" y="4340160"/>
                <a:ext cx="46080" cy="45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7320" y="413352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7320" y="4133520"/>
                <a:ext cx="16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1600200" y="4191120"/>
            <a:ext cx="152280" cy="15228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4191120"/>
            <a:ext cx="152280" cy="15228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724280"/>
            <a:ext cx="152280" cy="2286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124080" y="4724280"/>
            <a:ext cx="152640" cy="2286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743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答：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-971280" y="2982240"/>
            <a:ext cx="6390000" cy="3703680"/>
            <a:chOff x="-971280" y="2982240"/>
            <a:chExt cx="6390000" cy="3703680"/>
          </a:xfrm>
        </p:grpSpPr>
        <p:sp>
          <p:nvSpPr>
            <p:cNvPr id="191" name=""/>
            <p:cNvSpPr/>
            <p:nvPr/>
          </p:nvSpPr>
          <p:spPr>
            <a:xfrm>
              <a:off x="1715400" y="2982240"/>
              <a:ext cx="3703320" cy="370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531" y="18788"/>
                  </a:moveTo>
                  <a:arcTo wR="10800" hR="10800" stAng="7938197" swAng="422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3531" y="18788"/>
                  </a:moveTo>
                  <a:arcTo wR="10800" hR="10800" stAng="7938197" swAng="42286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-971280" y="2982240"/>
              <a:ext cx="3704400" cy="370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95" y="17717"/>
                  </a:moveTo>
                  <a:arcTo wR="10800" hR="10800" stAng="2389458" swAng="472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95" y="17717"/>
                  </a:moveTo>
                  <a:arcTo wR="10800" hR="10800" stAng="2389458" swAng="47234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-971280" y="2982240"/>
            <a:ext cx="6391080" cy="3703320"/>
            <a:chOff x="-971280" y="2982240"/>
            <a:chExt cx="6391080" cy="3703320"/>
          </a:xfrm>
        </p:grpSpPr>
        <p:sp>
          <p:nvSpPr>
            <p:cNvPr id="194" name=""/>
            <p:cNvSpPr/>
            <p:nvPr/>
          </p:nvSpPr>
          <p:spPr>
            <a:xfrm>
              <a:off x="1714320" y="2982240"/>
              <a:ext cx="3705480" cy="370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29" y="3737"/>
                  </a:moveTo>
                  <a:arcTo wR="10800" hR="10800" stAng="-8349578" swAng="4125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629" y="3737"/>
                  </a:moveTo>
                  <a:arcTo wR="10800" hR="10800" stAng="-8349578" swAng="41256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971280" y="2982600"/>
              <a:ext cx="3704400" cy="370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97" y="2838"/>
                  </a:moveTo>
                  <a:arcTo wR="10800" hR="10800" stAng="-2849916" swAng="487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97" y="2838"/>
                  </a:moveTo>
                  <a:arcTo wR="10800" hR="10800" stAng="-2849916" swAng="48758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85960" y="4838760"/>
            <a:ext cx="2685960" cy="0"/>
          </a:xfrm>
          <a:prstGeom prst="line">
            <a:avLst/>
          </a:prstGeom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28760" y="3552840"/>
            <a:ext cx="0" cy="25718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28760" y="4734000"/>
            <a:ext cx="104760" cy="104760"/>
            <a:chOff x="2228760" y="4734000"/>
            <a:chExt cx="104760" cy="104760"/>
          </a:xfrm>
        </p:grpSpPr>
        <p:sp>
          <p:nvSpPr>
            <p:cNvPr id="199" name=""/>
            <p:cNvSpPr/>
            <p:nvPr/>
          </p:nvSpPr>
          <p:spPr>
            <a:xfrm>
              <a:off x="2228760" y="4734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33520" y="473400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66880" y="4819680"/>
            <a:ext cx="38160" cy="38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52840" y="4819680"/>
            <a:ext cx="38160" cy="38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958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于某条直线成轴对称，你能作出这条直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31687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）分别以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为圆心，以大于   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的长为半径做弧，两弧相交于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35640" y="3538440"/>
            <a:ext cx="264960" cy="652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733920" y="4921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）作直线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即为所求的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18T15:41:43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4120</vt:lpwstr>
  </property>
  <property fmtid="{D5CDD505-2E9C-101B-9397-08002B2CF9AE}" pid="3" name="Version">
    <vt:r8>1</vt:r8>
  </property>
</Properties>
</file>