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2.wmf" ContentType="image/x-wmf"/>
  <Override PartName="/ppt/media/chimes.wav" ContentType="audio/x-wav"/>
  <Override PartName="/ppt/media/image16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8C2-3A21-4CA9-B0E0-CA4588FA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A9A-87D6-48BE-91B3-273943F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1F5-0358-4A64-96F3-760364A2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FE8-A4BA-4B77-8347-D9F80EFD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A60E-18DC-4483-83B2-DAB67550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5084-0922-409C-BAE1-9843FB8E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7578-CBFE-4CC7-ADDD-D65D6FE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7CBA-D827-4486-8F04-F24BC01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F073-AEC8-4C5E-9AC2-269E4BC6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8B2-8A24-4A5E-9054-1399471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41C4-F164-44EC-86BA-BE9866F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702-706D-445B-BBD8-F5E8DE6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B91E-2451-4BFC-8ED6-207C1C8C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0508-3E77-479A-95C1-09B4AEF5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C9CC-586F-4B60-B0AE-95AC9C4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B6D4-B45B-42F8-B914-D2CA0E00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13D-21E1-45C5-B734-6FC12451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2E1-C193-4A7B-A457-6A8A0F7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47C-CE1E-4C63-88E4-09E15736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A14-F3B3-4B73-A120-3712D47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BD4-5E57-476B-8088-01BF290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81B-0377-41A5-A0B2-426F267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7A4-0C00-4B13-940A-EF36B75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A33-E905-4F62-AEA6-B90880C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D619-E8D2-4F2C-8DD0-68773F271D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F92-6F20-414A-B40C-F718138D0C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5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人教版义务教育课程标准实验教科书数学八年级上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213372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1.3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角的平分线的性质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(2)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4810680" y="530208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王洪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824400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2422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77336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练习三：如图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△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角平分线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M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CN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相交于点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求证：点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到三角形三边的距离均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08360" y="2637000"/>
            <a:ext cx="4869720" cy="3727440"/>
            <a:chOff x="3708360" y="2637000"/>
            <a:chExt cx="4869720" cy="3727440"/>
          </a:xfrm>
        </p:grpSpPr>
        <p:sp>
          <p:nvSpPr>
            <p:cNvPr id="206" name=""/>
            <p:cNvSpPr/>
            <p:nvPr/>
          </p:nvSpPr>
          <p:spPr>
            <a:xfrm>
              <a:off x="6879240" y="2637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8360" y="5587920"/>
              <a:ext cx="52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31600" y="5661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7680" y="5084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3080" y="3211200"/>
              <a:ext cx="3745080" cy="2808000"/>
            </a:xfrm>
            <a:prstGeom prst="triangle">
              <a:avLst>
                <a:gd name="adj" fmla="val 7291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232160" y="4704840"/>
              <a:ext cx="324000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5726160" y="4437000"/>
              <a:ext cx="2216160" cy="159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588000" y="5056200"/>
            <a:ext cx="144360" cy="936720"/>
            <a:chOff x="6588000" y="5056200"/>
            <a:chExt cx="144360" cy="936720"/>
          </a:xfrm>
        </p:grpSpPr>
        <p:sp>
          <p:nvSpPr>
            <p:cNvPr id="214" name=""/>
            <p:cNvSpPr/>
            <p:nvPr/>
          </p:nvSpPr>
          <p:spPr>
            <a:xfrm>
              <a:off x="6588000" y="5056200"/>
              <a:ext cx="0" cy="9349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8000" y="5848200"/>
              <a:ext cx="14436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27800" y="58039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520" y="3500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57200" y="4213440"/>
            <a:ext cx="729360" cy="799200"/>
            <a:chOff x="5857200" y="4213440"/>
            <a:chExt cx="729360" cy="799200"/>
          </a:xfrm>
        </p:grpSpPr>
        <p:sp>
          <p:nvSpPr>
            <p:cNvPr id="219" name=""/>
            <p:cNvSpPr/>
            <p:nvPr/>
          </p:nvSpPr>
          <p:spPr>
            <a:xfrm flipH="1" flipV="1">
              <a:off x="5858280" y="4323240"/>
              <a:ext cx="728280" cy="6894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8806400">
              <a:off x="5889960" y="4242960"/>
              <a:ext cx="149400" cy="155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6582240" y="4505400"/>
            <a:ext cx="902160" cy="516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4782200">
            <a:off x="7219800" y="4402080"/>
            <a:ext cx="193680" cy="16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79000" y="378792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98520" y="429264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75720" y="393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67440" cy="1224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5120" y="321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99736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点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在角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的平分线上吗？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三角形的三条角平分线有什么关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3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50920" y="214200"/>
            <a:ext cx="77929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ahoma"/>
                <a:ea typeface="隶书"/>
              </a:rPr>
              <a:t>活动四　做一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５　课堂反思，强化思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981000"/>
            <a:ext cx="71298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ahoma"/>
                <a:ea typeface="隶书"/>
              </a:rPr>
              <a:t>活动五　想一想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１）这节课我们解决了什么问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２）你感悟到了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3141720"/>
            <a:ext cx="511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题？ 你是怎么做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0920" y="234936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，为了促进当地旅游发展，政府要在三条公路围成的某一块平地上修建一个度假村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使这个度假村到三条公路的距离相等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个度假村可以在何处修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67440" cy="1055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476360" y="98100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幼圆"/>
              </a:rPr>
              <a:t>思考题</a:t>
            </a:r>
            <a:endParaRPr b="1" lang="en-US" sz="4400" spc="-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932360" y="3500280"/>
            <a:ext cx="2735280" cy="2303640"/>
            <a:chOff x="4932360" y="3500280"/>
            <a:chExt cx="2735280" cy="2303640"/>
          </a:xfrm>
        </p:grpSpPr>
        <p:grpSp>
          <p:nvGrpSpPr>
            <p:cNvPr id="238" name=""/>
            <p:cNvGrpSpPr/>
            <p:nvPr/>
          </p:nvGrpSpPr>
          <p:grpSpPr>
            <a:xfrm>
              <a:off x="5076720" y="3500280"/>
              <a:ext cx="2016000" cy="2303640"/>
              <a:chOff x="5076720" y="3500280"/>
              <a:chExt cx="2016000" cy="2303640"/>
            </a:xfrm>
          </p:grpSpPr>
          <p:sp>
            <p:nvSpPr>
              <p:cNvPr id="239" name=""/>
              <p:cNvSpPr/>
              <p:nvPr/>
            </p:nvSpPr>
            <p:spPr>
              <a:xfrm flipH="1">
                <a:off x="5076720" y="3571560"/>
                <a:ext cx="2016000" cy="2016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00720" y="3500280"/>
                <a:ext cx="647640" cy="2303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932360" y="5084640"/>
              <a:ext cx="2735280" cy="144360"/>
            </a:xfrm>
            <a:prstGeom prst="line">
              <a:avLst/>
            </a:prstGeom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26370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3059280" y="2719440"/>
            <a:ext cx="4537080" cy="2538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66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97920" y="3429000"/>
            <a:ext cx="2009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不要说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23796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１　创设情境，探索新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Tahoma"/>
                <a:ea typeface="隶书"/>
              </a:rPr>
              <a:t>   </a:t>
            </a:r>
            <a:r>
              <a:rPr b="1" lang="zh-CN" sz="3600" spc="-1" strike="noStrike">
                <a:solidFill>
                  <a:srgbClr val="008080"/>
                </a:solidFill>
                <a:latin typeface="Tahoma"/>
                <a:ea typeface="隶书"/>
              </a:rPr>
              <a:t>活动一：猪八戒的烦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今年春季，高老庄气候干旱。为了保证收成，村民要及时灌溉田地。高老汉的田地恰好位于两条水渠的角平分线上，为了使所铺设水袋的长度最短，高老汉问猪八戒应如何引水灌溉，若能想出办法就把女儿嫁给他，否则免谈。这可急坏了八戒，你能帮他娶到媳妇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你能帮他确定从田地到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渠的最短距离吗？到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渠的最短距离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请你观察，比较到两渠的距离之间有什么关系？量一量你的猜测正确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由此你发现了什么结论。你能证明吗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-241560"/>
            <a:ext cx="856944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</a:rPr>
              <a:t>２动手实践，巩固新知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活动二   折一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、 你能否通过折叠的方式将∠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平分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、你能否进行第二次折叠，折出一个直角三角形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第一条折痕为斜边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）呢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、将折叠的图形展开，观察两次折叠形成的三条折痕？你能得出什么结论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、这一结论，你能用数学知识来证明吗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? 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（你有几种方法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076720" y="4303800"/>
            <a:ext cx="2881080" cy="2556360"/>
            <a:chOff x="5076720" y="4303800"/>
            <a:chExt cx="2881080" cy="2556360"/>
          </a:xfrm>
        </p:grpSpPr>
        <p:sp>
          <p:nvSpPr>
            <p:cNvPr id="111" name=""/>
            <p:cNvSpPr/>
            <p:nvPr/>
          </p:nvSpPr>
          <p:spPr>
            <a:xfrm>
              <a:off x="5076720" y="541728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14640" y="548316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49720" y="640044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63040" y="5220720"/>
              <a:ext cx="44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8920" y="430380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19880" y="5548680"/>
              <a:ext cx="2068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519520" y="4696920"/>
              <a:ext cx="1540440" cy="85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530320" y="5548320"/>
              <a:ext cx="1540440" cy="851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1640" y="5352120"/>
              <a:ext cx="295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5548680"/>
              <a:ext cx="146160" cy="3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63040" y="5483160"/>
              <a:ext cx="44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23880" y="522072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6572520" y="4961160"/>
              <a:ext cx="424800" cy="587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89280" y="5073480"/>
              <a:ext cx="10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77120" y="5090040"/>
              <a:ext cx="2030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69280" y="5551200"/>
              <a:ext cx="424800" cy="587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334200" y="5874480"/>
              <a:ext cx="107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63440" y="5891400"/>
              <a:ext cx="2030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92800" y="462996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95680" y="6072840"/>
              <a:ext cx="4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415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３　尝试运用，探索发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活动三：关于城市建设的思索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思考：如图，要在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区 建一集贸市场，使它到公路、铁路的距离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）离公路与铁路交叉处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米，这个集贸市场应建于何处。（在图上标出它的位置，比例尺为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20000</a:t>
            </a:r>
            <a:r>
              <a:rPr b="1" lang="zh-CN" sz="28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53840" y="4653000"/>
            <a:ext cx="3097440" cy="1584000"/>
            <a:chOff x="2553840" y="4653000"/>
            <a:chExt cx="3097440" cy="1584000"/>
          </a:xfrm>
        </p:grpSpPr>
        <p:grpSp>
          <p:nvGrpSpPr>
            <p:cNvPr id="133" name=""/>
            <p:cNvGrpSpPr/>
            <p:nvPr/>
          </p:nvGrpSpPr>
          <p:grpSpPr>
            <a:xfrm>
              <a:off x="2553840" y="4653000"/>
              <a:ext cx="2864160" cy="1584000"/>
              <a:chOff x="2553840" y="4653000"/>
              <a:chExt cx="2864160" cy="1584000"/>
            </a:xfrm>
          </p:grpSpPr>
          <p:sp>
            <p:nvSpPr>
              <p:cNvPr id="134" name=""/>
              <p:cNvSpPr/>
              <p:nvPr/>
            </p:nvSpPr>
            <p:spPr>
              <a:xfrm>
                <a:off x="2554200" y="5189040"/>
                <a:ext cx="2863800" cy="10479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553840" y="4653000"/>
                <a:ext cx="2577960" cy="13849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 txBox="1"/>
            <p:nvPr/>
          </p:nvSpPr>
          <p:spPr>
            <a:xfrm rot="5400000">
              <a:off x="5409000" y="5315760"/>
              <a:ext cx="244800" cy="2397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Ｓ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5292720" y="4508640"/>
            <a:ext cx="67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铁路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08720" y="6021360"/>
            <a:ext cx="66024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公路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91440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）若是离公路与铁路交叉处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600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米，这个集            贸市场应建于何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）若去掉“离公路与铁路交叉处多少米”这个   条件，集贸市场建于何处？能建多少个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）如果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区内有一点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到公路、铁路的距离相等，你能说出</a:t>
            </a:r>
            <a:r>
              <a:rPr b="1" lang="en-US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的位置吗？能证明你的结论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40000" y="4005360"/>
            <a:ext cx="3097080" cy="1584000"/>
            <a:chOff x="4140000" y="4005360"/>
            <a:chExt cx="3097080" cy="1584000"/>
          </a:xfrm>
        </p:grpSpPr>
        <p:grpSp>
          <p:nvGrpSpPr>
            <p:cNvPr id="141" name=""/>
            <p:cNvGrpSpPr/>
            <p:nvPr/>
          </p:nvGrpSpPr>
          <p:grpSpPr>
            <a:xfrm>
              <a:off x="4140000" y="4005360"/>
              <a:ext cx="2863800" cy="1584000"/>
              <a:chOff x="4140000" y="4005360"/>
              <a:chExt cx="2863800" cy="1584000"/>
            </a:xfrm>
          </p:grpSpPr>
          <p:sp>
            <p:nvSpPr>
              <p:cNvPr id="142" name=""/>
              <p:cNvSpPr/>
              <p:nvPr/>
            </p:nvSpPr>
            <p:spPr>
              <a:xfrm>
                <a:off x="4140360" y="4541400"/>
                <a:ext cx="2863440" cy="104796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4140000" y="4005360"/>
                <a:ext cx="2577960" cy="138492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 txBox="1"/>
            <p:nvPr/>
          </p:nvSpPr>
          <p:spPr>
            <a:xfrm rot="5400000">
              <a:off x="6994800" y="4668120"/>
              <a:ext cx="244800" cy="2397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Ｓ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6948360" y="3716280"/>
            <a:ext cx="67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铁路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236000" y="5445000"/>
            <a:ext cx="66024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公路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38440" y="4292640"/>
            <a:ext cx="542520" cy="939240"/>
            <a:chOff x="6238440" y="4292640"/>
            <a:chExt cx="542520" cy="939240"/>
          </a:xfrm>
        </p:grpSpPr>
        <p:sp>
          <p:nvSpPr>
            <p:cNvPr id="148" name=""/>
            <p:cNvSpPr/>
            <p:nvPr/>
          </p:nvSpPr>
          <p:spPr>
            <a:xfrm>
              <a:off x="6238440" y="429264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ahoma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82440" y="47113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076720" y="4724280"/>
            <a:ext cx="302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6360" y="4365720"/>
            <a:ext cx="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84720" y="4365720"/>
            <a:ext cx="287280" cy="936000"/>
            <a:chOff x="6084720" y="4365720"/>
            <a:chExt cx="287280" cy="936000"/>
          </a:xfrm>
        </p:grpSpPr>
        <p:sp>
          <p:nvSpPr>
            <p:cNvPr id="153" name=""/>
            <p:cNvSpPr/>
            <p:nvPr/>
          </p:nvSpPr>
          <p:spPr>
            <a:xfrm flipH="1" flipV="1">
              <a:off x="6084720" y="4365720"/>
              <a:ext cx="287280" cy="43128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56000" y="4797000"/>
              <a:ext cx="216000" cy="50472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904000" y="4424040"/>
            <a:ext cx="290160" cy="779760"/>
            <a:chOff x="5904000" y="4424040"/>
            <a:chExt cx="290160" cy="779760"/>
          </a:xfrm>
        </p:grpSpPr>
        <p:grpSp>
          <p:nvGrpSpPr>
            <p:cNvPr id="156" name=""/>
            <p:cNvGrpSpPr/>
            <p:nvPr/>
          </p:nvGrpSpPr>
          <p:grpSpPr>
            <a:xfrm>
              <a:off x="5904000" y="4424040"/>
              <a:ext cx="290160" cy="193680"/>
              <a:chOff x="5904000" y="4424040"/>
              <a:chExt cx="290160" cy="19368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5904000" y="4424040"/>
                <a:ext cx="94680" cy="19368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998680" y="4522320"/>
                <a:ext cx="195480" cy="9540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5942520" y="5063400"/>
              <a:ext cx="49680" cy="140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88960" y="5060520"/>
              <a:ext cx="188280" cy="669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29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隶书"/>
              </a:rPr>
              <a:t>思想升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176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ahoma"/>
                <a:ea typeface="楷体_GB2312"/>
              </a:rPr>
              <a:t>角平分线的性质</a:t>
            </a:r>
            <a:r>
              <a:rPr b="0" lang="zh-CN" sz="3600" spc="-1" strike="noStrike">
                <a:solidFill>
                  <a:srgbClr val="ff33cc"/>
                </a:solidFill>
                <a:latin typeface="Tahoma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ff33cc"/>
                </a:solidFill>
                <a:latin typeface="Tahoma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OP</a:t>
            </a: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平分∠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AOB</a:t>
            </a: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又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PA⊥OA, PB⊥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平分线上的点到角的两边距离相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Tahoma"/>
              </a:rPr>
              <a:t>　　　　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3280" y="2852280"/>
            <a:ext cx="4500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角平分线的判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    ∵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又∵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PA⊥OA</a:t>
            </a: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PB⊥OB</a:t>
            </a:r>
            <a:br>
              <a:rPr sz="2400"/>
            </a:b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OP</a:t>
            </a: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平分∠</a:t>
            </a:r>
            <a:r>
              <a:rPr b="1" lang="en-US" sz="2400" spc="-1" strike="noStrike">
                <a:solidFill>
                  <a:srgbClr val="996600"/>
                </a:solidFill>
                <a:latin typeface="Tahoma"/>
              </a:rPr>
              <a:t>A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的内部到角的两边距离相等的点在角的平分线上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1413000"/>
            <a:ext cx="3168720" cy="1998000"/>
            <a:chOff x="2771640" y="1413000"/>
            <a:chExt cx="3168720" cy="1998000"/>
          </a:xfrm>
        </p:grpSpPr>
        <p:sp>
          <p:nvSpPr>
            <p:cNvPr id="165" name=""/>
            <p:cNvSpPr/>
            <p:nvPr/>
          </p:nvSpPr>
          <p:spPr>
            <a:xfrm rot="2400000">
              <a:off x="4222080" y="1699200"/>
              <a:ext cx="132480" cy="134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771640" y="1413000"/>
              <a:ext cx="3168720" cy="1998000"/>
              <a:chOff x="2771640" y="1413000"/>
              <a:chExt cx="3168720" cy="1998000"/>
            </a:xfrm>
          </p:grpSpPr>
          <p:sp>
            <p:nvSpPr>
              <p:cNvPr id="167" name=""/>
              <p:cNvSpPr/>
              <p:nvPr/>
            </p:nvSpPr>
            <p:spPr>
              <a:xfrm>
                <a:off x="4884840" y="2951280"/>
                <a:ext cx="43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771640" y="1413000"/>
                <a:ext cx="3168720" cy="1974240"/>
                <a:chOff x="2771640" y="1413000"/>
                <a:chExt cx="3168720" cy="1974240"/>
              </a:xfrm>
            </p:grpSpPr>
            <p:sp>
              <p:nvSpPr>
                <p:cNvPr id="169" name=""/>
                <p:cNvSpPr/>
                <p:nvPr/>
              </p:nvSpPr>
              <p:spPr>
                <a:xfrm flipV="1">
                  <a:off x="3036600" y="2027520"/>
                  <a:ext cx="2507760" cy="93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2771640" y="1413000"/>
                  <a:ext cx="3168720" cy="1974240"/>
                  <a:chOff x="2771640" y="1413000"/>
                  <a:chExt cx="3168720" cy="19742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4884840" y="2832480"/>
                    <a:ext cx="131040" cy="134640"/>
                  </a:xfrm>
                  <a:prstGeom prst="rect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771640" y="1413000"/>
                    <a:ext cx="3168720" cy="1974240"/>
                    <a:chOff x="2771640" y="1413000"/>
                    <a:chExt cx="3168720" cy="19742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893760" y="1424520"/>
                      <a:ext cx="369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771640" y="2927520"/>
                      <a:ext cx="369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3017160" y="1413000"/>
                      <a:ext cx="2923200" cy="1577880"/>
                      <a:chOff x="3017160" y="1413000"/>
                      <a:chExt cx="2923200" cy="157788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 flipH="1">
                        <a:off x="3017160" y="1413000"/>
                        <a:ext cx="1541160" cy="157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 flipV="1">
                        <a:off x="3017520" y="2966760"/>
                        <a:ext cx="2922840" cy="234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5015880" y="2229120"/>
                        <a:ext cx="0" cy="738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 flipH="1" flipV="1">
                        <a:off x="4289400" y="1692000"/>
                        <a:ext cx="726480" cy="5367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951800" y="1827000"/>
                      <a:ext cx="429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81" name=""/>
          <p:cNvSpPr/>
          <p:nvPr/>
        </p:nvSpPr>
        <p:spPr>
          <a:xfrm>
            <a:off x="4427640" y="314172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720" y="1407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４　分层练习  评价自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2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ahoma"/>
                <a:ea typeface="隶书"/>
              </a:rPr>
              <a:t>活动四　做一做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练习一  判断：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P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∠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平分线，则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E=PF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E⊥OA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E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F⊥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则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E=PF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（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在∠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平分线上任取一点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点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到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距离等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cm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则点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到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距离等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cm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）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884720" y="2637000"/>
            <a:ext cx="216000" cy="360000"/>
            <a:chOff x="7884720" y="2637000"/>
            <a:chExt cx="216000" cy="360000"/>
          </a:xfrm>
        </p:grpSpPr>
        <p:sp>
          <p:nvSpPr>
            <p:cNvPr id="185" name=""/>
            <p:cNvSpPr/>
            <p:nvPr/>
          </p:nvSpPr>
          <p:spPr>
            <a:xfrm>
              <a:off x="7885080" y="263700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884720" y="263700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835280" y="3716280"/>
            <a:ext cx="215280" cy="360000"/>
            <a:chOff x="1835280" y="3716280"/>
            <a:chExt cx="215280" cy="360000"/>
          </a:xfrm>
        </p:grpSpPr>
        <p:sp>
          <p:nvSpPr>
            <p:cNvPr id="188" name=""/>
            <p:cNvSpPr/>
            <p:nvPr/>
          </p:nvSpPr>
          <p:spPr>
            <a:xfrm>
              <a:off x="1835280" y="3716280"/>
              <a:ext cx="21528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835280" y="3716280"/>
              <a:ext cx="21528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84360" y="5300640"/>
            <a:ext cx="304920" cy="380880"/>
            <a:chOff x="2484360" y="5300640"/>
            <a:chExt cx="304920" cy="380880"/>
          </a:xfrm>
        </p:grpSpPr>
        <p:sp>
          <p:nvSpPr>
            <p:cNvPr id="191" name=""/>
            <p:cNvSpPr/>
            <p:nvPr/>
          </p:nvSpPr>
          <p:spPr>
            <a:xfrm>
              <a:off x="2484360" y="5452920"/>
              <a:ext cx="7632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560680" y="5300640"/>
              <a:ext cx="2286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练习二  判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若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E=PF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则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P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∠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平分线。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  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若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E⊥OA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F⊥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则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P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∠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平分线。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    ) NMB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已知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到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A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距离等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cm,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且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到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距离等于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cm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则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∠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平分线上（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76360" y="4797360"/>
            <a:ext cx="304920" cy="380880"/>
            <a:chOff x="1476360" y="4797360"/>
            <a:chExt cx="304920" cy="380880"/>
          </a:xfrm>
        </p:grpSpPr>
        <p:sp>
          <p:nvSpPr>
            <p:cNvPr id="196" name=""/>
            <p:cNvSpPr/>
            <p:nvPr/>
          </p:nvSpPr>
          <p:spPr>
            <a:xfrm>
              <a:off x="1476360" y="4949640"/>
              <a:ext cx="7632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552680" y="4797360"/>
              <a:ext cx="2286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740360" y="2205000"/>
            <a:ext cx="216000" cy="360000"/>
            <a:chOff x="7740360" y="2205000"/>
            <a:chExt cx="216000" cy="360000"/>
          </a:xfrm>
        </p:grpSpPr>
        <p:sp>
          <p:nvSpPr>
            <p:cNvPr id="199" name=""/>
            <p:cNvSpPr/>
            <p:nvPr/>
          </p:nvSpPr>
          <p:spPr>
            <a:xfrm>
              <a:off x="7740720" y="220500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740360" y="220500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1640" y="3284640"/>
            <a:ext cx="216000" cy="360000"/>
            <a:chOff x="4571640" y="3284640"/>
            <a:chExt cx="216000" cy="360000"/>
          </a:xfrm>
        </p:grpSpPr>
        <p:sp>
          <p:nvSpPr>
            <p:cNvPr id="202" name=""/>
            <p:cNvSpPr/>
            <p:nvPr/>
          </p:nvSpPr>
          <p:spPr>
            <a:xfrm>
              <a:off x="4572000" y="328464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71640" y="3284640"/>
              <a:ext cx="215640" cy="36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3:14:37Z</dcterms:created>
  <dc:creator>数学中国</dc:creator>
  <dc:description>彰显数学魅力！演绎网站传奇！</dc:description>
  <cp:keywords>数学中国</cp:keywords>
  <dc:language>en-US</dc:language>
  <cp:lastModifiedBy>kx</cp:lastModifiedBy>
  <dcterms:modified xsi:type="dcterms:W3CDTF">2014-03-10T12:44:57Z</dcterms:modified>
  <cp:revision>29</cp:revision>
  <dc:subject>数学中国</dc:subject>
  <dc:title>数学中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</Properties>
</file>