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F94-C28B-4226-BAE3-B0682BFF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CB0-7A22-4BB0-A1D9-20FDCD2B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5FE-6689-4467-9719-07C33B07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5D5-051C-4467-B35B-0322F408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12F-6E79-42A0-BE7A-B4DFB2F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E7D-9E77-4160-BC6A-10FAFB90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A3E-F750-4298-A98F-FA5357EA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425-019E-4FDD-B5F6-4C3B7C4B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EF0-95A5-4BA0-9617-EF61156E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D0D-2025-4425-A47B-9BDFF7E9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457-6E41-4CC7-97C4-B827ACBE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EF0-79A4-45BC-B64F-BA8AD1E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784C-27EB-4745-A8D4-EECFB72B8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413000"/>
            <a:ext cx="647676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003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11.2</a:t>
            </a:r>
            <a:r>
              <a:rPr b="0" lang="zh-CN" sz="54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三角形全等的条件⑶</a:t>
            </a:r>
            <a:endParaRPr b="0" lang="en-US" sz="5400" spc="1" strike="noStrike">
              <a:ln w="255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771640" y="3213000"/>
            <a:ext cx="4114800" cy="1218960"/>
            <a:chOff x="2771640" y="3213000"/>
            <a:chExt cx="4114800" cy="1218960"/>
          </a:xfrm>
        </p:grpSpPr>
        <p:sp>
          <p:nvSpPr>
            <p:cNvPr id="44" name=""/>
            <p:cNvSpPr/>
            <p:nvPr/>
          </p:nvSpPr>
          <p:spPr>
            <a:xfrm>
              <a:off x="2771640" y="3213000"/>
              <a:ext cx="1676160" cy="1218960"/>
            </a:xfrm>
            <a:prstGeom prst="triangle">
              <a:avLst>
                <a:gd name="adj" fmla="val 50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09920" y="3213000"/>
              <a:ext cx="1676520" cy="12189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547640" y="2492280"/>
            <a:ext cx="6934320" cy="2362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76360" y="-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_204334" descr=""/>
          <p:cNvPicPr/>
          <p:nvPr/>
        </p:nvPicPr>
        <p:blipFill>
          <a:blip r:embed="rId2"/>
          <a:srcRect l="34469" t="29029" r="7695" b="34977"/>
          <a:stretch/>
        </p:blipFill>
        <p:spPr>
          <a:xfrm>
            <a:off x="0" y="0"/>
            <a:ext cx="883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79280" y="1413000"/>
            <a:ext cx="82296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学习了角边角、角角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注意角角边、角边角中两角与边的区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会根据已知两角及一边画三角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进一步学会用推理证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360" y="18900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结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16000" y="2133720"/>
            <a:ext cx="6696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谢谢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!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下课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227664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0120" y="36576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55627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99280" y="304920"/>
            <a:ext cx="34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是全等三角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219320"/>
            <a:ext cx="7772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判定两个三角形全等要具备什么条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57200" y="30492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1240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三</a:t>
            </a:r>
            <a:r>
              <a:rPr b="0" lang="zh-CN" sz="36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应相等的两个三角形全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边边边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67880" y="3962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边角边</a:t>
            </a:r>
            <a:r>
              <a:rPr b="0" lang="zh-CN" sz="4400" spc="-1" strike="noStrike">
                <a:solidFill>
                  <a:srgbClr val="cc6600"/>
                </a:solidFill>
                <a:latin typeface="华文琥珀"/>
                <a:ea typeface="华文琥珀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724280"/>
            <a:ext cx="87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</a:t>
            </a:r>
            <a:r>
              <a:rPr b="0" lang="zh-CN" sz="3200" spc="-1" strike="noStrike">
                <a:solidFill>
                  <a:srgbClr val="ff66cc"/>
                </a:solidFill>
                <a:latin typeface="Times New Roman"/>
                <a:ea typeface="华文新魏"/>
              </a:rPr>
              <a:t>两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它们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夹角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应相等的两个三角形全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21932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张教学用的三角形硬纸板不小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撕坏了，如图，你能制作一张与原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样大小的新教具？能恢复原来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原貌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0"/>
            <a:ext cx="3962160" cy="1219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怎么办？可以帮帮我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00800" y="13716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312408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12408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419360" y="5943600"/>
            <a:ext cx="9903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4267080"/>
            <a:ext cx="533520" cy="1757520"/>
          </a:xfrm>
          <a:custGeom>
            <a:avLst/>
            <a:gdLst/>
            <a:ahLst/>
            <a:rect l="l" t="t" r="r" b="b"/>
            <a:pathLst>
              <a:path w="336" h="1107">
                <a:moveTo>
                  <a:pt x="101" y="0"/>
                </a:moveTo>
                <a:cubicBezTo>
                  <a:pt x="102" y="0"/>
                  <a:pt x="195" y="19"/>
                  <a:pt x="203" y="23"/>
                </a:cubicBezTo>
                <a:cubicBezTo>
                  <a:pt x="227" y="35"/>
                  <a:pt x="271" y="68"/>
                  <a:pt x="271" y="68"/>
                </a:cubicBezTo>
                <a:cubicBezTo>
                  <a:pt x="321" y="145"/>
                  <a:pt x="271" y="216"/>
                  <a:pt x="203" y="260"/>
                </a:cubicBezTo>
                <a:cubicBezTo>
                  <a:pt x="210" y="275"/>
                  <a:pt x="213" y="293"/>
                  <a:pt x="225" y="305"/>
                </a:cubicBezTo>
                <a:cubicBezTo>
                  <a:pt x="336" y="416"/>
                  <a:pt x="220" y="249"/>
                  <a:pt x="293" y="362"/>
                </a:cubicBezTo>
                <a:cubicBezTo>
                  <a:pt x="234" y="381"/>
                  <a:pt x="184" y="414"/>
                  <a:pt x="124" y="430"/>
                </a:cubicBezTo>
                <a:cubicBezTo>
                  <a:pt x="46" y="482"/>
                  <a:pt x="82" y="467"/>
                  <a:pt x="22" y="486"/>
                </a:cubicBezTo>
                <a:cubicBezTo>
                  <a:pt x="51" y="496"/>
                  <a:pt x="84" y="496"/>
                  <a:pt x="112" y="509"/>
                </a:cubicBezTo>
                <a:cubicBezTo>
                  <a:pt x="137" y="520"/>
                  <a:pt x="180" y="554"/>
                  <a:pt x="180" y="554"/>
                </a:cubicBezTo>
                <a:cubicBezTo>
                  <a:pt x="208" y="595"/>
                  <a:pt x="241" y="617"/>
                  <a:pt x="282" y="644"/>
                </a:cubicBezTo>
                <a:cubicBezTo>
                  <a:pt x="265" y="712"/>
                  <a:pt x="276" y="674"/>
                  <a:pt x="248" y="757"/>
                </a:cubicBezTo>
                <a:cubicBezTo>
                  <a:pt x="239" y="783"/>
                  <a:pt x="203" y="787"/>
                  <a:pt x="180" y="802"/>
                </a:cubicBezTo>
                <a:cubicBezTo>
                  <a:pt x="170" y="809"/>
                  <a:pt x="157" y="809"/>
                  <a:pt x="146" y="814"/>
                </a:cubicBezTo>
                <a:cubicBezTo>
                  <a:pt x="93" y="837"/>
                  <a:pt x="57" y="862"/>
                  <a:pt x="0" y="881"/>
                </a:cubicBezTo>
                <a:cubicBezTo>
                  <a:pt x="4" y="892"/>
                  <a:pt x="4" y="906"/>
                  <a:pt x="11" y="915"/>
                </a:cubicBezTo>
                <a:cubicBezTo>
                  <a:pt x="19" y="926"/>
                  <a:pt x="38" y="926"/>
                  <a:pt x="45" y="938"/>
                </a:cubicBezTo>
                <a:cubicBezTo>
                  <a:pt x="58" y="962"/>
                  <a:pt x="60" y="991"/>
                  <a:pt x="67" y="1017"/>
                </a:cubicBezTo>
                <a:cubicBezTo>
                  <a:pt x="62" y="1040"/>
                  <a:pt x="38" y="1107"/>
                  <a:pt x="90" y="11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4920" y="304920"/>
            <a:ext cx="3942000" cy="685800"/>
            <a:chOff x="304920" y="304920"/>
            <a:chExt cx="3942000" cy="6858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04920" y="30492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677600" y="380880"/>
              <a:ext cx="256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cc"/>
                  </a:solidFill>
                  <a:latin typeface="隶书"/>
                  <a:ea typeface="隶书"/>
                </a:rPr>
                <a:t>创设情景</a:t>
              </a:r>
              <a:r>
                <a:rPr b="0" lang="zh-CN" sz="3200" spc="-1" strike="noStrike">
                  <a:solidFill>
                    <a:srgbClr val="ff66cc"/>
                  </a:solidFill>
                  <a:latin typeface="隶书"/>
                  <a:ea typeface="隶书"/>
                </a:rPr>
                <a:t>,</a:t>
              </a:r>
              <a:r>
                <a:rPr b="0" lang="zh-CN" sz="3200" spc="-1" strike="noStrike">
                  <a:solidFill>
                    <a:srgbClr val="ff66cc"/>
                  </a:solidFill>
                  <a:latin typeface="隶书"/>
                  <a:ea typeface="隶书"/>
                </a:rPr>
                <a:t>实例引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146560" y="990720"/>
            <a:ext cx="2625840" cy="5257800"/>
            <a:chOff x="5146560" y="990720"/>
            <a:chExt cx="2625840" cy="5257800"/>
          </a:xfrm>
        </p:grpSpPr>
        <p:sp>
          <p:nvSpPr>
            <p:cNvPr id="69" name=""/>
            <p:cNvSpPr/>
            <p:nvPr/>
          </p:nvSpPr>
          <p:spPr>
            <a:xfrm flipV="1">
              <a:off x="5181480" y="990720"/>
              <a:ext cx="18288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10280" y="990720"/>
              <a:ext cx="762120" cy="525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5943600" y="5866920"/>
              <a:ext cx="1828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46560" y="2817720"/>
              <a:ext cx="1216080" cy="3135240"/>
            </a:xfrm>
            <a:custGeom>
              <a:avLst/>
              <a:gdLst/>
              <a:ahLst/>
              <a:rect l="l" t="t" r="r" b="b"/>
              <a:pathLst>
                <a:path w="766" h="1975">
                  <a:moveTo>
                    <a:pt x="73" y="0"/>
                  </a:moveTo>
                  <a:cubicBezTo>
                    <a:pt x="174" y="68"/>
                    <a:pt x="116" y="38"/>
                    <a:pt x="249" y="82"/>
                  </a:cubicBezTo>
                  <a:cubicBezTo>
                    <a:pt x="266" y="88"/>
                    <a:pt x="279" y="103"/>
                    <a:pt x="296" y="106"/>
                  </a:cubicBezTo>
                  <a:cubicBezTo>
                    <a:pt x="374" y="119"/>
                    <a:pt x="531" y="129"/>
                    <a:pt x="531" y="129"/>
                  </a:cubicBezTo>
                  <a:cubicBezTo>
                    <a:pt x="432" y="163"/>
                    <a:pt x="354" y="236"/>
                    <a:pt x="261" y="282"/>
                  </a:cubicBezTo>
                  <a:cubicBezTo>
                    <a:pt x="225" y="354"/>
                    <a:pt x="188" y="425"/>
                    <a:pt x="120" y="470"/>
                  </a:cubicBezTo>
                  <a:cubicBezTo>
                    <a:pt x="116" y="482"/>
                    <a:pt x="115" y="495"/>
                    <a:pt x="108" y="505"/>
                  </a:cubicBezTo>
                  <a:cubicBezTo>
                    <a:pt x="99" y="519"/>
                    <a:pt x="70" y="525"/>
                    <a:pt x="73" y="541"/>
                  </a:cubicBezTo>
                  <a:cubicBezTo>
                    <a:pt x="76" y="558"/>
                    <a:pt x="103" y="559"/>
                    <a:pt x="120" y="564"/>
                  </a:cubicBezTo>
                  <a:cubicBezTo>
                    <a:pt x="166" y="579"/>
                    <a:pt x="261" y="600"/>
                    <a:pt x="261" y="600"/>
                  </a:cubicBezTo>
                  <a:cubicBezTo>
                    <a:pt x="249" y="694"/>
                    <a:pt x="237" y="757"/>
                    <a:pt x="155" y="811"/>
                  </a:cubicBezTo>
                  <a:cubicBezTo>
                    <a:pt x="288" y="838"/>
                    <a:pt x="421" y="835"/>
                    <a:pt x="555" y="858"/>
                  </a:cubicBezTo>
                  <a:cubicBezTo>
                    <a:pt x="575" y="917"/>
                    <a:pt x="590" y="993"/>
                    <a:pt x="625" y="1046"/>
                  </a:cubicBezTo>
                  <a:cubicBezTo>
                    <a:pt x="510" y="1075"/>
                    <a:pt x="407" y="1115"/>
                    <a:pt x="296" y="1152"/>
                  </a:cubicBezTo>
                  <a:cubicBezTo>
                    <a:pt x="265" y="1162"/>
                    <a:pt x="231" y="1162"/>
                    <a:pt x="202" y="1176"/>
                  </a:cubicBezTo>
                  <a:cubicBezTo>
                    <a:pt x="94" y="1230"/>
                    <a:pt x="142" y="1215"/>
                    <a:pt x="61" y="1234"/>
                  </a:cubicBezTo>
                  <a:cubicBezTo>
                    <a:pt x="45" y="1242"/>
                    <a:pt x="18" y="1241"/>
                    <a:pt x="14" y="1258"/>
                  </a:cubicBezTo>
                  <a:cubicBezTo>
                    <a:pt x="0" y="1316"/>
                    <a:pt x="107" y="1400"/>
                    <a:pt x="132" y="1411"/>
                  </a:cubicBezTo>
                  <a:cubicBezTo>
                    <a:pt x="175" y="1431"/>
                    <a:pt x="226" y="1426"/>
                    <a:pt x="273" y="1434"/>
                  </a:cubicBezTo>
                  <a:cubicBezTo>
                    <a:pt x="296" y="1438"/>
                    <a:pt x="343" y="1446"/>
                    <a:pt x="343" y="1446"/>
                  </a:cubicBezTo>
                  <a:cubicBezTo>
                    <a:pt x="355" y="1454"/>
                    <a:pt x="378" y="1455"/>
                    <a:pt x="379" y="1469"/>
                  </a:cubicBezTo>
                  <a:cubicBezTo>
                    <a:pt x="386" y="1547"/>
                    <a:pt x="352" y="1597"/>
                    <a:pt x="296" y="1634"/>
                  </a:cubicBezTo>
                  <a:cubicBezTo>
                    <a:pt x="447" y="1683"/>
                    <a:pt x="305" y="1644"/>
                    <a:pt x="578" y="1669"/>
                  </a:cubicBezTo>
                  <a:cubicBezTo>
                    <a:pt x="641" y="1675"/>
                    <a:pt x="705" y="1702"/>
                    <a:pt x="766" y="1716"/>
                  </a:cubicBezTo>
                  <a:cubicBezTo>
                    <a:pt x="716" y="1733"/>
                    <a:pt x="665" y="1739"/>
                    <a:pt x="614" y="1752"/>
                  </a:cubicBezTo>
                  <a:cubicBezTo>
                    <a:pt x="602" y="1760"/>
                    <a:pt x="587" y="1764"/>
                    <a:pt x="578" y="1775"/>
                  </a:cubicBezTo>
                  <a:cubicBezTo>
                    <a:pt x="559" y="1796"/>
                    <a:pt x="531" y="1846"/>
                    <a:pt x="531" y="1846"/>
                  </a:cubicBezTo>
                  <a:cubicBezTo>
                    <a:pt x="523" y="1869"/>
                    <a:pt x="518" y="1894"/>
                    <a:pt x="508" y="1916"/>
                  </a:cubicBezTo>
                  <a:cubicBezTo>
                    <a:pt x="496" y="1943"/>
                    <a:pt x="459" y="1975"/>
                    <a:pt x="508" y="1928"/>
                  </a:cubicBezTo>
                  <a:lnTo>
                    <a:pt x="550" y="18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>
            <a:off x="2742840" y="2819520"/>
            <a:ext cx="243828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743200" y="5105520"/>
            <a:ext cx="32004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952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6095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533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765000"/>
            <a:ext cx="797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=DE, ∠A= ∠D, ∠B= ∠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3640" y="0"/>
            <a:ext cx="116640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探究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00000" y="1484280"/>
            <a:ext cx="2484720" cy="1899720"/>
            <a:chOff x="900000" y="1484280"/>
            <a:chExt cx="2484720" cy="1899720"/>
          </a:xfrm>
        </p:grpSpPr>
        <p:grpSp>
          <p:nvGrpSpPr>
            <p:cNvPr id="83" name=""/>
            <p:cNvGrpSpPr/>
            <p:nvPr/>
          </p:nvGrpSpPr>
          <p:grpSpPr>
            <a:xfrm>
              <a:off x="1042560" y="1844640"/>
              <a:ext cx="1945080" cy="1152720"/>
              <a:chOff x="1042560" y="1844640"/>
              <a:chExt cx="1945080" cy="115272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1042560" y="1844640"/>
                <a:ext cx="151308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42920" y="2997360"/>
                <a:ext cx="19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56000" y="1844640"/>
                <a:ext cx="43164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3640" y="1484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29242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79640" y="2852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851280" y="1484280"/>
            <a:ext cx="2663640" cy="1756440"/>
            <a:chOff x="3851280" y="1484280"/>
            <a:chExt cx="2663640" cy="1756440"/>
          </a:xfrm>
        </p:grpSpPr>
        <p:sp>
          <p:nvSpPr>
            <p:cNvPr id="91" name=""/>
            <p:cNvSpPr/>
            <p:nvPr/>
          </p:nvSpPr>
          <p:spPr>
            <a:xfrm>
              <a:off x="6010200" y="278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1280" y="278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35640" y="1484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210200" y="1844640"/>
              <a:ext cx="1944360" cy="1152360"/>
              <a:chOff x="4210200" y="1844640"/>
              <a:chExt cx="1944360" cy="1152360"/>
            </a:xfrm>
          </p:grpSpPr>
          <p:sp>
            <p:nvSpPr>
              <p:cNvPr id="95" name=""/>
              <p:cNvSpPr/>
              <p:nvPr/>
            </p:nvSpPr>
            <p:spPr>
              <a:xfrm flipH="1">
                <a:off x="4210200" y="1844640"/>
                <a:ext cx="151272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10200" y="299700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22920" y="1844640"/>
                <a:ext cx="43128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250920" y="357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角边角公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角和它们的夹边对应相等的两个三角形全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(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42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何语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40000" y="4221000"/>
            <a:ext cx="6408720" cy="2128320"/>
            <a:chOff x="2340000" y="4221000"/>
            <a:chExt cx="6408720" cy="2128320"/>
          </a:xfrm>
        </p:grpSpPr>
        <p:sp>
          <p:nvSpPr>
            <p:cNvPr id="101" name=""/>
            <p:cNvSpPr/>
            <p:nvPr/>
          </p:nvSpPr>
          <p:spPr>
            <a:xfrm>
              <a:off x="2340000" y="4221000"/>
              <a:ext cx="64087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在△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和△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△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BC≌△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71640" y="4725720"/>
              <a:ext cx="216000" cy="1152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6200" y="4654080"/>
              <a:ext cx="13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= ∠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0160" y="51573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=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75840" y="558936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= ∠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95320" y="587808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711E-006 L -0.33455 -0.00162 E">
                                      <p:cBhvr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44720" y="549360"/>
            <a:ext cx="2484000" cy="1899360"/>
            <a:chOff x="1044720" y="549360"/>
            <a:chExt cx="2484000" cy="1899360"/>
          </a:xfrm>
        </p:grpSpPr>
        <p:grpSp>
          <p:nvGrpSpPr>
            <p:cNvPr id="108" name=""/>
            <p:cNvGrpSpPr/>
            <p:nvPr/>
          </p:nvGrpSpPr>
          <p:grpSpPr>
            <a:xfrm>
              <a:off x="1187280" y="909360"/>
              <a:ext cx="1944360" cy="1152360"/>
              <a:chOff x="1187280" y="909360"/>
              <a:chExt cx="1944360" cy="1152360"/>
            </a:xfrm>
          </p:grpSpPr>
          <p:sp>
            <p:nvSpPr>
              <p:cNvPr id="109" name=""/>
              <p:cNvSpPr/>
              <p:nvPr/>
            </p:nvSpPr>
            <p:spPr>
              <a:xfrm flipH="1">
                <a:off x="1187280" y="909360"/>
                <a:ext cx="151272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87280" y="20617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00000" y="909360"/>
                <a:ext cx="43128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448000" y="5493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4720" y="1989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4000" y="1917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995640" y="549360"/>
            <a:ext cx="2663640" cy="1756440"/>
            <a:chOff x="3995640" y="549360"/>
            <a:chExt cx="2663640" cy="1756440"/>
          </a:xfrm>
        </p:grpSpPr>
        <p:sp>
          <p:nvSpPr>
            <p:cNvPr id="116" name=""/>
            <p:cNvSpPr/>
            <p:nvPr/>
          </p:nvSpPr>
          <p:spPr>
            <a:xfrm>
              <a:off x="6154560" y="1846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5640" y="1846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80000" y="549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354560" y="909720"/>
              <a:ext cx="1944360" cy="1152360"/>
              <a:chOff x="4354560" y="909720"/>
              <a:chExt cx="1944360" cy="115236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4354560" y="909720"/>
                <a:ext cx="151272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54560" y="206208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67280" y="909720"/>
                <a:ext cx="43128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179280" y="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试一试，你行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99480" y="2852640"/>
            <a:ext cx="13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 ∠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378936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68360" y="2924280"/>
            <a:ext cx="1871640" cy="1396080"/>
            <a:chOff x="468360" y="2924280"/>
            <a:chExt cx="1871640" cy="1396080"/>
          </a:xfrm>
        </p:grpSpPr>
        <p:sp>
          <p:nvSpPr>
            <p:cNvPr id="127" name=""/>
            <p:cNvSpPr/>
            <p:nvPr/>
          </p:nvSpPr>
          <p:spPr>
            <a:xfrm>
              <a:off x="807120" y="2924280"/>
              <a:ext cx="13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= ∠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7320" y="3860640"/>
              <a:ext cx="14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= ∠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8360" y="314172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71640" y="3357720"/>
              <a:ext cx="1368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902520" y="3357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=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03640" y="3141720"/>
            <a:ext cx="1658880" cy="1107360"/>
            <a:chOff x="3203640" y="3141720"/>
            <a:chExt cx="1658880" cy="1107360"/>
          </a:xfrm>
        </p:grpSpPr>
        <p:sp>
          <p:nvSpPr>
            <p:cNvPr id="133" name=""/>
            <p:cNvSpPr/>
            <p:nvPr/>
          </p:nvSpPr>
          <p:spPr>
            <a:xfrm>
              <a:off x="3203640" y="314172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18000" y="378936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Ｃ＝ ∠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92360" y="371628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492360" y="32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ＡＣ＝Ｄ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24360" y="2852640"/>
            <a:ext cx="1887840" cy="1467720"/>
            <a:chOff x="5724360" y="2852640"/>
            <a:chExt cx="1887840" cy="1467720"/>
          </a:xfrm>
        </p:grpSpPr>
        <p:sp>
          <p:nvSpPr>
            <p:cNvPr id="138" name=""/>
            <p:cNvSpPr/>
            <p:nvPr/>
          </p:nvSpPr>
          <p:spPr>
            <a:xfrm>
              <a:off x="6206400" y="3860640"/>
              <a:ext cx="14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= ∠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8920" y="371628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4360" y="2997360"/>
              <a:ext cx="216000" cy="1223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65640" y="285264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Ｃ＝ ∠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867280" y="3213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ＢＣ＝Ｅ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10000" y="5084640"/>
            <a:ext cx="32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△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ABC≌△D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9520" y="5300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33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76720" y="35002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9810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，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=∠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C=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952880"/>
            <a:ext cx="3809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952880" y="380880"/>
            <a:ext cx="3733920" cy="3733560"/>
            <a:chOff x="4952880" y="380880"/>
            <a:chExt cx="3733920" cy="373356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4952880" y="380880"/>
              <a:ext cx="373392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454720" y="187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5600" y="21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74200" y="177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77080" y="2171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一用，懂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7280" y="981000"/>
            <a:ext cx="20872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Ｃ＝ ∠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709720"/>
            <a:ext cx="598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∠2, ∠D=∠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BA=∠B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=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公共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BA=∠B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D≌△AB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160" y="2627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7120" y="1916280"/>
            <a:ext cx="324972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否全等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0"/>
            <a:ext cx="3672000" cy="1052640"/>
          </a:xfrm>
          <a:prstGeom prst="wedgeEllipseCallout">
            <a:avLst>
              <a:gd name="adj1" fmla="val -41916"/>
              <a:gd name="adj2" fmla="val 61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思考：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S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条件可以证明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9160" y="270828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8240" y="32846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450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40464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有两角和它们中的一边对应相等的两个三角形全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简写成“角角边”或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AS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6553080" y="4648320"/>
            <a:ext cx="2590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57150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6320" y="1897200"/>
            <a:ext cx="4647600" cy="2669400"/>
            <a:chOff x="76320" y="1897200"/>
            <a:chExt cx="4647600" cy="2669400"/>
          </a:xfrm>
        </p:grpSpPr>
        <p:sp>
          <p:nvSpPr>
            <p:cNvPr id="169" name=""/>
            <p:cNvSpPr/>
            <p:nvPr/>
          </p:nvSpPr>
          <p:spPr>
            <a:xfrm>
              <a:off x="457200" y="2583000"/>
              <a:ext cx="75600" cy="1523880"/>
            </a:xfrm>
            <a:custGeom>
              <a:avLst/>
              <a:gdLst>
                <a:gd name="textAreaLeft" fmla="*/ 48240 w 75600"/>
                <a:gd name="textAreaRight" fmla="*/ 75960 w 75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6320" y="1897200"/>
              <a:ext cx="4647600" cy="2669400"/>
              <a:chOff x="76320" y="1897200"/>
              <a:chExt cx="4647600" cy="266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609480" y="2506680"/>
                <a:ext cx="411444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AE=A’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已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∠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A=∠A’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已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）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∠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B=∠C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已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240" y="1897200"/>
                <a:ext cx="449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几何语言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：在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△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ABE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△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A’C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6320" y="4106880"/>
                <a:ext cx="45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∴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△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B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≌△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’C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S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76320" y="763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实际应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181480" y="2286000"/>
            <a:ext cx="3581640" cy="3306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62720" y="5257800"/>
            <a:ext cx="3581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40" y="907920"/>
            <a:ext cx="8202600" cy="1595880"/>
            <a:chOff x="1440" y="907920"/>
            <a:chExt cx="8202600" cy="1595880"/>
          </a:xfrm>
        </p:grpSpPr>
        <p:sp>
          <p:nvSpPr>
            <p:cNvPr id="179" name=""/>
            <p:cNvSpPr/>
            <p:nvPr/>
          </p:nvSpPr>
          <p:spPr>
            <a:xfrm>
              <a:off x="660240" y="907920"/>
              <a:ext cx="75438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已知：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上，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上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相交于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B=A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B=∠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D=A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40" y="9079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61722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686800" y="6172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413000"/>
            <a:ext cx="345600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⊥AC,CD⊥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445080" y="2852640"/>
            <a:ext cx="933480" cy="1224000"/>
            <a:chOff x="6445080" y="2852640"/>
            <a:chExt cx="933480" cy="1224000"/>
          </a:xfrm>
        </p:grpSpPr>
        <p:sp>
          <p:nvSpPr>
            <p:cNvPr id="185" name=""/>
            <p:cNvSpPr/>
            <p:nvPr/>
          </p:nvSpPr>
          <p:spPr>
            <a:xfrm>
              <a:off x="6877080" y="28526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2920" y="3141720"/>
              <a:ext cx="254160" cy="166680"/>
            </a:xfrm>
            <a:custGeom>
              <a:avLst/>
              <a:gdLst/>
              <a:ahLst/>
              <a:rect l="l" t="t" r="r" b="b"/>
              <a:pathLst>
                <a:path w="160" h="105">
                  <a:moveTo>
                    <a:pt x="23" y="0"/>
                  </a:moveTo>
                  <a:cubicBezTo>
                    <a:pt x="11" y="37"/>
                    <a:pt x="0" y="75"/>
                    <a:pt x="23" y="90"/>
                  </a:cubicBezTo>
                  <a:cubicBezTo>
                    <a:pt x="46" y="105"/>
                    <a:pt x="137" y="90"/>
                    <a:pt x="16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77080" y="2997360"/>
              <a:ext cx="253800" cy="166680"/>
            </a:xfrm>
            <a:custGeom>
              <a:avLst/>
              <a:gdLst/>
              <a:ahLst/>
              <a:rect l="l" t="t" r="r" b="b"/>
              <a:pathLst>
                <a:path w="160" h="105">
                  <a:moveTo>
                    <a:pt x="23" y="0"/>
                  </a:moveTo>
                  <a:cubicBezTo>
                    <a:pt x="11" y="37"/>
                    <a:pt x="0" y="75"/>
                    <a:pt x="23" y="90"/>
                  </a:cubicBezTo>
                  <a:cubicBezTo>
                    <a:pt x="46" y="105"/>
                    <a:pt x="137" y="90"/>
                    <a:pt x="160" y="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45080" y="325908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04000" y="32130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40000" y="1341360"/>
            <a:ext cx="143820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43240" y="1989000"/>
            <a:ext cx="13680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D=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981000"/>
            <a:ext cx="8269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变式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81000"/>
            <a:ext cx="8269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变式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15:56:00Z</dcterms:created>
  <dc:creator/>
  <dc:description/>
  <dc:language>en-US</dc:language>
  <cp:lastModifiedBy>微软用户</cp:lastModifiedBy>
  <dcterms:modified xsi:type="dcterms:W3CDTF">2008-09-07T05:32:03Z</dcterms:modified>
  <cp:revision>46</cp:revision>
  <dc:subject/>
  <dc:title>边角边公理</dc:title>
</cp:coreProperties>
</file>