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breeze.wav" ContentType="audio/x-wav"/>
  <Override PartName="/ppt/media/whoosh.wav" ContentType="audio/x-wav"/>
  <Override PartName="/ppt/media/image2.png" ContentType="image/png"/>
  <Override PartName="/ppt/media/cashreg.wav" ContentType="audio/x-wav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BF4-AE4D-4879-83CC-DED289C5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358-6B99-443E-B530-8E63AB5C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E09-6C69-4E2D-B49C-D2DD5A86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F44-4103-4908-A8FD-8C4B4025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B14-5042-4D86-99D9-FAA5B00F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268-C48F-4FC1-B525-40B196BF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348-7291-4D9C-83D3-B4542AF5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A4B-5E88-4C7F-AC3A-36C1F9A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052-9FC2-42A1-BBF8-D5C926DD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7EC-214D-4247-80BF-92220E7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BCA-AC6B-41D8-89C9-7665ED3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484-A33C-4258-B254-CFB7B304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5B75-5344-4EE2-9F13-60888868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whoosh.wav" TargetMode="External"/><Relationship Id="rId5" Type="http://schemas.microsoft.com/office/2007/relationships/media" Target="file:///tmp/home/.config/libreoffice/4/user/gallery/whoosh.wav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000" y="876240"/>
            <a:ext cx="25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华文行楷"/>
              </a:rPr>
              <a:t>老师们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6000" spc="-1" strike="noStrike">
                <a:solidFill>
                  <a:srgbClr val="008000"/>
                </a:solidFill>
                <a:latin typeface="Arial"/>
                <a:ea typeface="华文行楷"/>
              </a:rPr>
              <a:t>同学们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76440" y="3284640"/>
            <a:ext cx="25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幼圆"/>
              </a:rPr>
              <a:t>下午好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  <a:ea typeface="幼圆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27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30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3212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算一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y )( x-y)+(2x+y )( 2x-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(x-3)-(x+7)(x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一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+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-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2b+2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2b-2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写成平方差公式形式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52520" cy="936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20962800">
            <a:off x="684000" y="475920"/>
            <a:ext cx="2638440" cy="1038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4"/>
                <a:gd name="adj2" fmla="val -3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显身手</a:t>
            </a:r>
            <a:endParaRPr b="1" lang="en-US" sz="48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6191280" y="1989000"/>
            <a:ext cx="29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5x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-2y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2565360"/>
            <a:ext cx="18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-3x+4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692280"/>
            <a:ext cx="1800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58920" y="3714840"/>
            <a:ext cx="334800" cy="725040"/>
            <a:chOff x="1258920" y="3714840"/>
            <a:chExt cx="334800" cy="7250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258920" y="3714840"/>
              <a:ext cx="2340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422720" y="3714840"/>
              <a:ext cx="234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66480" y="3858480"/>
              <a:ext cx="18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9760" y="3858480"/>
              <a:ext cx="18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68360" y="4869000"/>
            <a:ext cx="446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a+2b)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-(2c)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3527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6732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00004×199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99cc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200000+4</a:t>
            </a:r>
            <a:r>
              <a:rPr b="0" lang="zh-CN" sz="3600" spc="-1" strike="noStrike">
                <a:solidFill>
                  <a:srgbClr val="0099cc"/>
                </a:solidFill>
                <a:latin typeface="Arial"/>
              </a:rPr>
              <a:t>）（</a:t>
            </a: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200000-4</a:t>
            </a:r>
            <a:r>
              <a:rPr b="0" lang="zh-CN" sz="3600" spc="-1" strike="noStrike">
                <a:solidFill>
                  <a:srgbClr val="0099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= 200000</a:t>
            </a:r>
            <a:r>
              <a:rPr b="0" lang="en-US" sz="3600" spc="-1" strike="noStrike" baseline="30000">
                <a:solidFill>
                  <a:srgbClr val="0099cc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- 4</a:t>
            </a:r>
            <a:r>
              <a:rPr b="0" lang="en-US" sz="3600" spc="-1" strike="noStrike" baseline="30000">
                <a:solidFill>
                  <a:srgbClr val="0099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= 40000000000 -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Arial"/>
              </a:rPr>
              <a:t>= 39999999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620640"/>
            <a:ext cx="2781360" cy="105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成功体验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84000" y="691920"/>
            <a:ext cx="3429360" cy="686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(a+b)(a-b)=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-b</a:t>
            </a:r>
            <a:r>
              <a:rPr b="1" lang="en-US" sz="32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两个数的和与这两个数的差的积等于这两个数的平方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500280"/>
            <a:ext cx="860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平方差公式中字母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可代表一个数、一个单                  项式或多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35280" y="2563920"/>
            <a:ext cx="6335640" cy="235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556000" y="765000"/>
            <a:ext cx="3695400" cy="924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拓展探究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83480" y="2421000"/>
            <a:ext cx="259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幼圆"/>
              </a:rPr>
              <a:t>谢 谢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  <a:ea typeface="幼圆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710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419200" y="2498760"/>
            <a:ext cx="4305600" cy="186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 见！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981000"/>
            <a:ext cx="5975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你能用简单方法计算下列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002×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1000+2)(1000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×1000-2×1000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999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200004×199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51008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乘法公式──平方差公式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观察下列多项式，并进行计算，你能发现什么规律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x+1)(x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x+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+2)(m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2m+2m-2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2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+1)(2x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(2x) </a:t>
            </a:r>
            <a:r>
              <a:rPr b="1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2x+2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(2x) </a:t>
            </a:r>
            <a:r>
              <a:rPr b="1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4x </a:t>
            </a:r>
            <a:r>
              <a:rPr b="1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08872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a+b)(a-b)=a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-b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两个数的和与这两个数的差的积等于这两个数的平方差。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9079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边长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大正方形底板上挖去一个边长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小正方形（如图甲），然后将其裁成两个矩形（如图乙），通过计算阴影的面积可以验证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2708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276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a+b)(a-b)=a</a:t>
            </a:r>
            <a:r>
              <a:rPr b="0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b</a:t>
            </a:r>
            <a:r>
              <a:rPr b="0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26560" y="3141720"/>
            <a:ext cx="4032720" cy="3389760"/>
            <a:chOff x="826560" y="3141720"/>
            <a:chExt cx="4032720" cy="3389760"/>
          </a:xfrm>
        </p:grpSpPr>
        <p:grpSp>
          <p:nvGrpSpPr>
            <p:cNvPr id="55" name=""/>
            <p:cNvGrpSpPr/>
            <p:nvPr/>
          </p:nvGrpSpPr>
          <p:grpSpPr>
            <a:xfrm>
              <a:off x="826560" y="3141720"/>
              <a:ext cx="4032720" cy="3384360"/>
              <a:chOff x="826560" y="3141720"/>
              <a:chExt cx="4032720" cy="3384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826560" y="3213000"/>
                <a:ext cx="3312000" cy="3313080"/>
                <a:chOff x="826560" y="3213000"/>
                <a:chExt cx="3312000" cy="3313080"/>
              </a:xfrm>
            </p:grpSpPr>
            <p:grpSp>
              <p:nvGrpSpPr>
                <p:cNvPr id="57" name=""/>
                <p:cNvGrpSpPr/>
                <p:nvPr/>
              </p:nvGrpSpPr>
              <p:grpSpPr>
                <a:xfrm>
                  <a:off x="1260360" y="3717720"/>
                  <a:ext cx="2303280" cy="2303640"/>
                  <a:chOff x="1260360" y="3717720"/>
                  <a:chExt cx="2303280" cy="23036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1260360" y="3717720"/>
                    <a:ext cx="2303280" cy="230364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771280" y="5229000"/>
                    <a:ext cx="792000" cy="792360"/>
                  </a:xfrm>
                  <a:prstGeom prst="rect">
                    <a:avLst/>
                  </a:prstGeom>
                  <a:solidFill>
                    <a:srgbClr val="ffff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 flipH="1">
                  <a:off x="826560" y="371772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26560" y="602136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771640" y="6021360"/>
                  <a:ext cx="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563640" y="602136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563640" y="522900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63640" y="6021360"/>
                  <a:ext cx="57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1258560" y="3285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3563640" y="321300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627280" y="3430440"/>
                  <a:ext cx="93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1258200" y="3430440"/>
                  <a:ext cx="79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1042920" y="3717720"/>
                  <a:ext cx="0" cy="72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42920" y="4941720"/>
                  <a:ext cx="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346200" y="6238800"/>
                  <a:ext cx="21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2771640" y="62388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3779640" y="5229000"/>
                  <a:ext cx="0" cy="21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779640" y="58053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258560" y="6021360"/>
                  <a:ext cx="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63640" y="371772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79640" y="4581360"/>
                  <a:ext cx="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3779640" y="371736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266920" y="6238800"/>
                  <a:ext cx="50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1258200" y="6238800"/>
                  <a:ext cx="5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2195280" y="31417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Arial"/>
                    <a:ea typeface="华文中宋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26920" y="43657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Arial"/>
                    <a:ea typeface="华文中宋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62200" y="4005360"/>
                <a:ext cx="129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a-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35280" y="530064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00"/>
                    </a:solidFill>
                    <a:latin typeface="Arial"/>
                    <a:ea typeface="华文中宋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690560" y="5877000"/>
                <a:ext cx="151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a-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987640" y="59500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Arial"/>
                  <a:ea typeface="华文中宋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076720" y="3716280"/>
            <a:ext cx="2305080" cy="151308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3716280"/>
            <a:ext cx="792000" cy="151128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16360" y="537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956360" y="54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508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6360" y="501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22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71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88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4076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999"/>
                </a:solidFill>
                <a:latin typeface="Arial"/>
              </a:rPr>
              <a:t>快乐学习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i="1" lang="zh-CN" sz="4400" spc="-1" strike="noStrike">
                <a:solidFill>
                  <a:srgbClr val="009999"/>
                </a:solidFill>
                <a:latin typeface="Arial"/>
              </a:rPr>
              <a:t>：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运用平方差公式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 3x+2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3x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3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b+2a)(2a-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2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 -x+2y )(-x-2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-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(2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119700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cc"/>
                          </a:solidFill>
                          <a:latin typeface="新宋体"/>
                          <a:ea typeface="新宋体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99cc"/>
                          </a:solidFill>
                          <a:latin typeface="新宋体"/>
                          <a:ea typeface="新宋体"/>
                        </a:rPr>
                        <a:t>下列各式计算对不对？若不对应怎样改正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619280" y="175500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1)(x+2)(x-2)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92360" y="4292640"/>
          <a:ext cx="6551640" cy="701640"/>
        </p:xfrm>
        <a:graphic>
          <a:graphicData uri="http://schemas.openxmlformats.org/drawingml/2006/table">
            <a:tbl>
              <a:tblPr/>
              <a:tblGrid>
                <a:gridCol w="65516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(2)(-3a-2)(3a-2)= 9a</a:t>
                      </a:r>
                      <a:r>
                        <a:rPr b="1" lang="en-US" sz="4000" spc="-1" strike="noStrike" baseline="30000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443640" y="5157720"/>
          <a:ext cx="1873080" cy="701640"/>
        </p:xfrm>
        <a:graphic>
          <a:graphicData uri="http://schemas.openxmlformats.org/drawingml/2006/table">
            <a:tbl>
              <a:tblPr/>
              <a:tblGrid>
                <a:gridCol w="1873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4-9a</a:t>
                      </a:r>
                      <a:r>
                        <a:rPr b="1" lang="en-US" sz="4000" spc="-1" strike="noStrike" baseline="30000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435640" y="2276640"/>
          <a:ext cx="2158920" cy="131112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x</a:t>
                      </a:r>
                      <a:r>
                        <a:rPr b="1" lang="en-US" sz="4000" spc="-1" strike="noStrike" baseline="30000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新宋体"/>
                          <a:ea typeface="新宋体"/>
                        </a:rPr>
                        <a:t>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 txBox="1"/>
          <p:nvPr/>
        </p:nvSpPr>
        <p:spPr>
          <a:xfrm>
            <a:off x="468360" y="0"/>
            <a:ext cx="274320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牛刀小试</a:t>
            </a:r>
            <a:endParaRPr b="0" lang="en-US" sz="5400" spc="1" strike="noStrike">
              <a:ln w="1260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1" name="breeze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4920" y="70920"/>
            <a:ext cx="7650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999"/>
                </a:solidFill>
                <a:latin typeface="Arial"/>
              </a:rPr>
              <a:t>快乐学习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i="1" lang="zh-CN" sz="4400" spc="-1" strike="noStrike">
                <a:solidFill>
                  <a:srgbClr val="009999"/>
                </a:solidFill>
                <a:latin typeface="Arial"/>
              </a:rPr>
              <a:t>：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          计 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331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02×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(100+2)(100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10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2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9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46400" y="1647720"/>
            <a:ext cx="4640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y+2 )( y-2)-(y-1)(y+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2</a:t>
            </a:r>
            <a:r>
              <a:rPr b="0" lang="en-US" sz="2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(y</a:t>
            </a:r>
            <a:r>
              <a:rPr b="0" lang="en-US" sz="2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+5y-y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4-y</a:t>
            </a:r>
            <a:r>
              <a:rPr b="0" lang="en-US" sz="2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4y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= -4y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1" name="cashreg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255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256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33843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800" spc="-1" strike="noStrike">
                <a:solidFill>
                  <a:srgbClr val="ff0000"/>
                </a:solidFill>
                <a:latin typeface="Arial"/>
              </a:rPr>
              <a:t>试一试：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a+b)(-b+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a+2b)(3a-2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+b)(a-b)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1989000"/>
            <a:ext cx="165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-b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278136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9a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-4b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3645000"/>
            <a:ext cx="216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-b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4437000"/>
            <a:ext cx="18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-b</a:t>
            </a:r>
            <a:r>
              <a:rPr b="1" lang="en-US" sz="38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whoosh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24:07Z</dcterms:created>
  <dc:creator>微软用户</dc:creator>
  <dc:description/>
  <dc:language>en-US</dc:language>
  <cp:lastModifiedBy>微软用户</cp:lastModifiedBy>
  <dcterms:modified xsi:type="dcterms:W3CDTF">2014-03-09T14:28:11Z</dcterms:modified>
  <cp:revision>92</cp:revision>
  <dc:subject/>
  <dc:title>《乘法公式──平方差公式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  <property fmtid="{D5CDD505-2E9C-101B-9397-08002B2CF9AE}" pid="3" name="NXTAG2">
    <vt:lpwstr>0008000e06000000000001024120</vt:lpwstr>
  </property>
</Properties>
</file>