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A09-BAAB-4ECD-94D0-1ECF175F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DD3-F887-4C07-ABE5-A8A213D2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053-0EA7-443F-BAE3-7AB19C8F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1BF-BCC8-4450-8C1C-4FA6B46C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DEB-868E-4FC7-90A2-2AD1D293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21F-9BE9-4C17-AD5F-D0391052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923-2C0C-449D-ABB2-F625DDA0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F33-D4B0-4793-B940-33F05F3F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C38-5551-494E-9879-E633FBE4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D54-5FED-4D9E-8CB0-1C17F600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104-E48D-4382-8883-AC855498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8A9-102E-4A4C-9FC9-E12E483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627D-09FE-4F76-8E8D-A92866ED3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qiusuo.nyist.net/zhuanti/guoqing/fengyu/yiguo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usabilitypartners.se/aboutus/clock.gif&amp;imgrefurl=http://www.usabilitypartners.se/aboutus/background.shtml&amp;h=156&amp;w=156&amp;prev=/images%3Fq%3Dclock%26svnum%3D10%26hl%3Dzh-CN%26lr%3D%26ie%3DUTF-8%26oe%3DUTF-8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2060640"/>
            <a:ext cx="6546600" cy="23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图形的旋转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265480" cy="2265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23590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429000"/>
            <a:ext cx="88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（２）分针匀速旋转一周需要</a:t>
            </a:r>
            <a:r>
              <a:rPr b="1" lang="en-US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　　　分，因此旋转</a:t>
            </a:r>
            <a:r>
              <a:rPr b="1" lang="en-US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分，分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　　　旋转的角度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292720" y="4797360"/>
            <a:ext cx="3382920" cy="1224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404640"/>
            <a:ext cx="876312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琥珀"/>
                <a:ea typeface="华文琥珀"/>
              </a:rPr>
              <a:t>解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（１）它的旋转中心是钟表的</a:t>
            </a: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轴心</a:t>
            </a: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925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523880"/>
            <a:ext cx="5715000" cy="2492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38080" y="4419720"/>
            <a:ext cx="7162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可以看作是一个花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连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旋转所形成的，每次旋转分别等于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  </a:t>
            </a:r>
            <a:r>
              <a:rPr b="1" lang="zh-CN" sz="3600" spc="-1" strike="noStrike" baseline="30000">
                <a:solidFill>
                  <a:srgbClr val="ff0000"/>
                </a:solidFill>
                <a:latin typeface="Arial"/>
              </a:rPr>
              <a:t>，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 </a:t>
            </a:r>
            <a:r>
              <a:rPr b="1" lang="zh-CN" sz="3600" spc="-1" strike="noStrike" baseline="30000">
                <a:solidFill>
                  <a:srgbClr val="ff0000"/>
                </a:solidFill>
                <a:latin typeface="Arial"/>
              </a:rPr>
              <a:t>，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16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   </a:t>
            </a:r>
            <a:r>
              <a:rPr b="1" lang="zh-CN" sz="3600" spc="-1" strike="noStrike" baseline="30000">
                <a:solidFill>
                  <a:srgbClr val="ff0000"/>
                </a:solidFill>
                <a:latin typeface="Arial"/>
              </a:rPr>
              <a:t>，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88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题：香港区徽可以看作是什么“基本图案”通过怎样的旋转而得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练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琥珀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琥珀"/>
              </a:rPr>
              <a:t>本图案可以看做是一个菱形通过几次旋转得到的？每次旋转了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91640" y="2034000"/>
            <a:ext cx="3385080" cy="3224880"/>
            <a:chOff x="791640" y="2034000"/>
            <a:chExt cx="3385080" cy="3224880"/>
          </a:xfrm>
        </p:grpSpPr>
        <p:sp>
          <p:nvSpPr>
            <p:cNvPr id="216" name=""/>
            <p:cNvSpPr/>
            <p:nvPr/>
          </p:nvSpPr>
          <p:spPr>
            <a:xfrm rot="5196600">
              <a:off x="1677240" y="3896280"/>
              <a:ext cx="1659960" cy="1008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91640" y="2034000"/>
              <a:ext cx="3348360" cy="2023920"/>
              <a:chOff x="791640" y="2034000"/>
              <a:chExt cx="3348360" cy="2023920"/>
            </a:xfrm>
          </p:grpSpPr>
          <p:sp>
            <p:nvSpPr>
              <p:cNvPr id="218" name=""/>
              <p:cNvSpPr/>
              <p:nvPr/>
            </p:nvSpPr>
            <p:spPr>
              <a:xfrm rot="5338800">
                <a:off x="1617480" y="2368440"/>
                <a:ext cx="1659240" cy="100800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8946000">
                <a:off x="2361960" y="2744280"/>
                <a:ext cx="1655640" cy="93384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728000">
                <a:off x="914040" y="2782800"/>
                <a:ext cx="1655640" cy="93384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rot="12499200">
              <a:off x="2398320" y="3579840"/>
              <a:ext cx="1655640" cy="93384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946000">
              <a:off x="947520" y="3620880"/>
              <a:ext cx="1655640" cy="9342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343400" y="2286000"/>
            <a:ext cx="4419720" cy="1595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可以看做是二个相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琥珀"/>
              </a:rPr>
              <a:t>菱形通过几次旋转得到的？每次旋转了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4572000"/>
            <a:ext cx="4343400" cy="1595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可以看做是几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琥珀"/>
              </a:rPr>
              <a:t>菱形通过几次旋转得到的？每次旋转了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13440" y="594360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02680" y="365760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 ,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3716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,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,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,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,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965960" y="1972080"/>
            <a:ext cx="2216520" cy="2029680"/>
            <a:chOff x="1965960" y="1972080"/>
            <a:chExt cx="2216520" cy="2029680"/>
          </a:xfrm>
        </p:grpSpPr>
        <p:sp>
          <p:nvSpPr>
            <p:cNvPr id="229" name=""/>
            <p:cNvSpPr/>
            <p:nvPr/>
          </p:nvSpPr>
          <p:spPr>
            <a:xfrm rot="8946000">
              <a:off x="2404440" y="2710440"/>
              <a:ext cx="1656000" cy="932040"/>
            </a:xfrm>
            <a:prstGeom prst="flowChartDecision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338800">
              <a:off x="1657080" y="2304720"/>
              <a:ext cx="1655640" cy="1008000"/>
            </a:xfrm>
            <a:prstGeom prst="flowChartDecision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91640" y="2384280"/>
            <a:ext cx="3348360" cy="2874240"/>
            <a:chOff x="791640" y="2384280"/>
            <a:chExt cx="3348360" cy="2874240"/>
          </a:xfrm>
        </p:grpSpPr>
        <p:sp>
          <p:nvSpPr>
            <p:cNvPr id="232" name=""/>
            <p:cNvSpPr/>
            <p:nvPr/>
          </p:nvSpPr>
          <p:spPr>
            <a:xfrm rot="5196600">
              <a:off x="1676880" y="3895920"/>
              <a:ext cx="1660680" cy="1008000"/>
            </a:xfrm>
            <a:prstGeom prst="flowChartDecision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8946000">
              <a:off x="2361600" y="2742840"/>
              <a:ext cx="1655640" cy="934920"/>
            </a:xfrm>
            <a:prstGeom prst="flowChartDecision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728000">
              <a:off x="914400" y="2781360"/>
              <a:ext cx="1655640" cy="934560"/>
            </a:xfrm>
            <a:prstGeom prst="flowChartDecision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92360" y="2048400"/>
            <a:ext cx="3346920" cy="2020320"/>
            <a:chOff x="792360" y="2048400"/>
            <a:chExt cx="3346920" cy="2020320"/>
          </a:xfrm>
        </p:grpSpPr>
        <p:sp>
          <p:nvSpPr>
            <p:cNvPr id="236" name=""/>
            <p:cNvSpPr/>
            <p:nvPr/>
          </p:nvSpPr>
          <p:spPr>
            <a:xfrm rot="5338800">
              <a:off x="1619280" y="2381040"/>
              <a:ext cx="1655640" cy="1008000"/>
            </a:xfrm>
            <a:prstGeom prst="flowChartDecision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8946000">
              <a:off x="2361600" y="2757600"/>
              <a:ext cx="1655640" cy="931680"/>
            </a:xfrm>
            <a:prstGeom prst="flowChartDecision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728000">
              <a:off x="914400" y="2795760"/>
              <a:ext cx="1655640" cy="931680"/>
            </a:xfrm>
            <a:prstGeom prst="flowChartDecision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189040" y="586728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404640"/>
            <a:ext cx="893124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 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等边三角形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一点，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 旋转后到达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旋转中心是哪一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旋转了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如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中点，那么经过上述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转后，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到了什么位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13480" y="3573360"/>
            <a:ext cx="2630520" cy="2392200"/>
            <a:chOff x="6513480" y="3573360"/>
            <a:chExt cx="2630520" cy="2392200"/>
          </a:xfrm>
        </p:grpSpPr>
        <p:grpSp>
          <p:nvGrpSpPr>
            <p:cNvPr id="242" name=""/>
            <p:cNvGrpSpPr/>
            <p:nvPr/>
          </p:nvGrpSpPr>
          <p:grpSpPr>
            <a:xfrm>
              <a:off x="6802560" y="3918960"/>
              <a:ext cx="2022480" cy="1578240"/>
              <a:chOff x="6802560" y="3918960"/>
              <a:chExt cx="2022480" cy="1578240"/>
            </a:xfrm>
          </p:grpSpPr>
          <p:sp>
            <p:nvSpPr>
              <p:cNvPr id="243" name=""/>
              <p:cNvSpPr/>
              <p:nvPr/>
            </p:nvSpPr>
            <p:spPr>
              <a:xfrm>
                <a:off x="6802560" y="3932280"/>
                <a:ext cx="1806480" cy="1557360"/>
              </a:xfrm>
              <a:prstGeom prst="triangle">
                <a:avLst>
                  <a:gd name="adj" fmla="val 50000"/>
                </a:avLst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7350480" y="3960720"/>
                <a:ext cx="361440" cy="1513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03280" y="3918960"/>
                <a:ext cx="1105200" cy="1101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8623440" y="5018400"/>
                <a:ext cx="201600" cy="47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8712000" y="47973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46720" y="54165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529480" y="54450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13480" y="5373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21480" y="35733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16680" y="4417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28000" y="4402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404"/>
                  </a:solidFill>
                  <a:latin typeface="Arial"/>
                </a:rPr>
                <a:t>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50920" y="465300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旋转中心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524340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旋转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200" y="577224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到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中点位置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440"/>
                            </p:stCondLst>
                            <p:childTnLst>
                              <p:par>
                                <p:cTn id="2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图形的旋转是由什么   决定的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图形的旋转是由旋转中心和旋转的角度决定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1440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课堂回顾：这节课，主要学习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981080"/>
            <a:ext cx="85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平面内，将一个图形绕着一个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定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沿某个方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转动一个角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这样的图形运动称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旋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295280"/>
            <a:ext cx="220968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转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3200400"/>
            <a:ext cx="221004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转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91720" y="38862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旋转不改变图形的大小和形状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69560" y="4648320"/>
            <a:ext cx="51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任意一对对应点与旋转中心的连线所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度都是旋转角，旋转角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25320" y="586728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应点到旋转中心的距离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213372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这个定点称为</a:t>
            </a:r>
            <a:r>
              <a:rPr b="1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旋转中心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转动的角称为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琥珀"/>
                <a:ea typeface="华文琥珀"/>
              </a:rPr>
              <a:t>旋转角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959080" y="3283560"/>
            <a:ext cx="1415880" cy="257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3352680"/>
            <a:ext cx="152388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8360" y="3087360"/>
            <a:ext cx="1063800" cy="27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52840" y="2939400"/>
            <a:ext cx="572040" cy="28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12280" y="2911320"/>
            <a:ext cx="62640" cy="29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947560" y="2928240"/>
            <a:ext cx="448920" cy="29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965200" y="3027600"/>
            <a:ext cx="946800" cy="27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257800" y="4343400"/>
            <a:ext cx="3292560" cy="1066680"/>
            <a:chOff x="5257800" y="4343400"/>
            <a:chExt cx="3292560" cy="1066680"/>
          </a:xfrm>
        </p:grpSpPr>
        <p:sp>
          <p:nvSpPr>
            <p:cNvPr id="53" name=""/>
            <p:cNvSpPr/>
            <p:nvPr/>
          </p:nvSpPr>
          <p:spPr>
            <a:xfrm>
              <a:off x="5257800" y="4343400"/>
              <a:ext cx="329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旋转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5029200"/>
              <a:ext cx="76176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360760" y="5791320"/>
            <a:ext cx="1400040" cy="855720"/>
            <a:chOff x="5360760" y="5791320"/>
            <a:chExt cx="1400040" cy="855720"/>
          </a:xfrm>
        </p:grpSpPr>
        <p:sp>
          <p:nvSpPr>
            <p:cNvPr id="56" name=""/>
            <p:cNvSpPr/>
            <p:nvPr/>
          </p:nvSpPr>
          <p:spPr>
            <a:xfrm>
              <a:off x="5360760" y="59436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旋转中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0960" y="5791320"/>
              <a:ext cx="30492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平面内，将一个图形绕着一个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定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沿某个方向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转动一个角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这样的图形运动称为旋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3352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3505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917000"/>
            <a:ext cx="8352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列现象中属于旋转的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下水位逐年下降；②传送带的移动；③方向盘的转动；④水龙头开关的转动；⑤钟摆的运动；⑥荡秋千运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.2     B.3     C.4    D.5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61080"/>
            <a:ext cx="3097080" cy="7034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练习</a:t>
            </a:r>
            <a:r>
              <a:rPr b="1" lang="en-US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60520" y="1766880"/>
            <a:ext cx="589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平移和旋转的异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相同：都是一种运动；运动前后   不改变图形的形状和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384400">
            <a:off x="5645160" y="1528560"/>
            <a:ext cx="1969920" cy="522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97680" y="1227240"/>
            <a:ext cx="14436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7" name="未知"/>
          <p:cNvSpPr/>
          <p:nvPr/>
        </p:nvSpPr>
        <p:spPr>
          <a:xfrm>
            <a:off x="6580080" y="71280"/>
            <a:ext cx="1440000" cy="287640"/>
          </a:xfrm>
          <a:custGeom>
            <a:avLst/>
            <a:gdLst/>
            <a:ahLst/>
            <a:rect l="l" t="t" r="r" b="b"/>
            <a:pathLst>
              <a:path w="1678" h="462">
                <a:moveTo>
                  <a:pt x="0" y="462"/>
                </a:moveTo>
                <a:cubicBezTo>
                  <a:pt x="19" y="420"/>
                  <a:pt x="38" y="378"/>
                  <a:pt x="91" y="325"/>
                </a:cubicBezTo>
                <a:cubicBezTo>
                  <a:pt x="144" y="272"/>
                  <a:pt x="242" y="189"/>
                  <a:pt x="317" y="144"/>
                </a:cubicBezTo>
                <a:cubicBezTo>
                  <a:pt x="392" y="99"/>
                  <a:pt x="476" y="76"/>
                  <a:pt x="544" y="53"/>
                </a:cubicBezTo>
                <a:cubicBezTo>
                  <a:pt x="612" y="30"/>
                  <a:pt x="650" y="16"/>
                  <a:pt x="726" y="8"/>
                </a:cubicBezTo>
                <a:cubicBezTo>
                  <a:pt x="802" y="0"/>
                  <a:pt x="923" y="1"/>
                  <a:pt x="998" y="8"/>
                </a:cubicBezTo>
                <a:cubicBezTo>
                  <a:pt x="1073" y="15"/>
                  <a:pt x="1119" y="30"/>
                  <a:pt x="1179" y="53"/>
                </a:cubicBezTo>
                <a:cubicBezTo>
                  <a:pt x="1239" y="76"/>
                  <a:pt x="1308" y="114"/>
                  <a:pt x="1361" y="144"/>
                </a:cubicBezTo>
                <a:cubicBezTo>
                  <a:pt x="1414" y="174"/>
                  <a:pt x="1452" y="197"/>
                  <a:pt x="1497" y="235"/>
                </a:cubicBezTo>
                <a:cubicBezTo>
                  <a:pt x="1542" y="273"/>
                  <a:pt x="1603" y="333"/>
                  <a:pt x="1633" y="371"/>
                </a:cubicBezTo>
                <a:cubicBezTo>
                  <a:pt x="1663" y="409"/>
                  <a:pt x="1671" y="447"/>
                  <a:pt x="1678" y="4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84800" y="2003400"/>
            <a:ext cx="2160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16440" y="806400"/>
            <a:ext cx="1191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696640" y="945000"/>
            <a:ext cx="3355200" cy="2903400"/>
            <a:chOff x="5696640" y="945000"/>
            <a:chExt cx="3355200" cy="2903400"/>
          </a:xfrm>
        </p:grpSpPr>
        <p:sp>
          <p:nvSpPr>
            <p:cNvPr id="71" name=""/>
            <p:cNvSpPr/>
            <p:nvPr/>
          </p:nvSpPr>
          <p:spPr>
            <a:xfrm rot="2384400">
              <a:off x="5635800" y="1514160"/>
              <a:ext cx="1969920" cy="522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384400">
              <a:off x="7142400" y="2756880"/>
              <a:ext cx="1969920" cy="522000"/>
            </a:xfrm>
            <a:prstGeom prst="flowChartDecision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300800" y="231948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73880" y="2535120"/>
            <a:ext cx="144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O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" name=""/>
          <p:cNvSpPr/>
          <p:nvPr/>
        </p:nvSpPr>
        <p:spPr>
          <a:xfrm>
            <a:off x="929160" y="32241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6040" y="3736800"/>
          <a:ext cx="8967960" cy="3121200"/>
        </p:xfrm>
        <a:graphic>
          <a:graphicData uri="http://schemas.openxmlformats.org/drawingml/2006/table">
            <a:tbl>
              <a:tblPr/>
              <a:tblGrid>
                <a:gridCol w="2970360"/>
                <a:gridCol w="3159000"/>
                <a:gridCol w="283860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运动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运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衡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直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移动一定距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旋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顺时针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逆时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转动一定的角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7" name=""/>
          <p:cNvGrpSpPr/>
          <p:nvPr/>
        </p:nvGrpSpPr>
        <p:grpSpPr>
          <a:xfrm>
            <a:off x="0" y="88920"/>
            <a:ext cx="2158200" cy="1680120"/>
            <a:chOff x="0" y="88920"/>
            <a:chExt cx="2158200" cy="1680120"/>
          </a:xfrm>
        </p:grpSpPr>
        <p:sp>
          <p:nvSpPr>
            <p:cNvPr id="78" name=""/>
            <p:cNvSpPr/>
            <p:nvPr/>
          </p:nvSpPr>
          <p:spPr>
            <a:xfrm>
              <a:off x="1070640" y="88920"/>
              <a:ext cx="2160" cy="111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88920"/>
              <a:ext cx="2158200" cy="1680120"/>
              <a:chOff x="0" y="88920"/>
              <a:chExt cx="2158200" cy="168012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1203840"/>
                <a:ext cx="2158200" cy="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0" y="88920"/>
                <a:ext cx="2157480" cy="1680120"/>
                <a:chOff x="0" y="88920"/>
                <a:chExt cx="2157480" cy="16801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41800" y="1766880"/>
                  <a:ext cx="528120" cy="2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0" y="88920"/>
                  <a:ext cx="2157480" cy="1677240"/>
                  <a:chOff x="0" y="88920"/>
                  <a:chExt cx="2157480" cy="16772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0" y="1203120"/>
                    <a:ext cx="541800" cy="563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1069920" y="1203120"/>
                    <a:ext cx="1087560" cy="563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H="1">
                    <a:off x="541800" y="88920"/>
                    <a:ext cx="527760" cy="11142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" name=""/>
          <p:cNvSpPr/>
          <p:nvPr/>
        </p:nvSpPr>
        <p:spPr>
          <a:xfrm>
            <a:off x="1870200" y="808200"/>
            <a:ext cx="216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036800" y="-371520"/>
            <a:ext cx="76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520" y="96840"/>
            <a:ext cx="2160000" cy="1680120"/>
            <a:chOff x="20520" y="96840"/>
            <a:chExt cx="2160000" cy="1680120"/>
          </a:xfrm>
        </p:grpSpPr>
        <p:sp>
          <p:nvSpPr>
            <p:cNvPr id="90" name=""/>
            <p:cNvSpPr/>
            <p:nvPr/>
          </p:nvSpPr>
          <p:spPr>
            <a:xfrm>
              <a:off x="1091880" y="96840"/>
              <a:ext cx="2160" cy="111492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0520" y="96840"/>
              <a:ext cx="2160000" cy="1680120"/>
              <a:chOff x="20520" y="96840"/>
              <a:chExt cx="2160000" cy="1680120"/>
            </a:xfrm>
          </p:grpSpPr>
          <p:sp>
            <p:nvSpPr>
              <p:cNvPr id="92" name=""/>
              <p:cNvSpPr/>
              <p:nvPr/>
            </p:nvSpPr>
            <p:spPr>
              <a:xfrm>
                <a:off x="20520" y="1211760"/>
                <a:ext cx="2160000" cy="2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20520" y="96840"/>
                <a:ext cx="2159280" cy="1680120"/>
                <a:chOff x="20520" y="96840"/>
                <a:chExt cx="2159280" cy="1680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63040" y="1774800"/>
                  <a:ext cx="528480" cy="2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20520" y="96840"/>
                  <a:ext cx="2159280" cy="1677240"/>
                  <a:chOff x="20520" y="96840"/>
                  <a:chExt cx="2159280" cy="16772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20520" y="1211040"/>
                    <a:ext cx="542160" cy="5630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V="1">
                    <a:off x="1091520" y="1211040"/>
                    <a:ext cx="1088280" cy="5630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H="1">
                    <a:off x="562680" y="96840"/>
                    <a:ext cx="528480" cy="11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09480"/>
            <a:ext cx="876312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如果把钟表的指针看做四边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它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旋转得      到四边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F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个旋转过程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旋转中心是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经过旋转，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移动到什么位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旋转角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有什么关系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O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O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什么大小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22544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5029200"/>
            <a:ext cx="1155600" cy="1155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86200" y="1600200"/>
            <a:ext cx="2971800" cy="398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旋转中心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2209680"/>
            <a:ext cx="2133720" cy="398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和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的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429000"/>
            <a:ext cx="2286000" cy="398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O=DO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=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495680"/>
            <a:ext cx="1800000" cy="703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OD=∠B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819520"/>
            <a:ext cx="3504960" cy="398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OD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和∠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BO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都是旋转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384400">
            <a:off x="5105520" y="5514480"/>
            <a:ext cx="196992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3147600">
            <a:off x="5227200" y="5329440"/>
            <a:ext cx="196992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3655800">
            <a:off x="5388840" y="5303520"/>
            <a:ext cx="197028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72200" y="5181480"/>
            <a:ext cx="14436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1" name=""/>
          <p:cNvSpPr/>
          <p:nvPr/>
        </p:nvSpPr>
        <p:spPr>
          <a:xfrm rot="4317600">
            <a:off x="5587560" y="5230800"/>
            <a:ext cx="197028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025000">
            <a:off x="5749560" y="5159160"/>
            <a:ext cx="196992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694000">
            <a:off x="5947920" y="5159160"/>
            <a:ext cx="196992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6174000">
            <a:off x="6109920" y="5159160"/>
            <a:ext cx="196992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6902400">
            <a:off x="6306840" y="5230800"/>
            <a:ext cx="1970280" cy="522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7465200">
            <a:off x="6451200" y="5303520"/>
            <a:ext cx="197028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8139000">
            <a:off x="6590520" y="5443200"/>
            <a:ext cx="197028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6041880" y="3957480"/>
            <a:ext cx="1440000" cy="287640"/>
          </a:xfrm>
          <a:custGeom>
            <a:avLst/>
            <a:gdLst/>
            <a:ahLst/>
            <a:rect l="l" t="t" r="r" b="b"/>
            <a:pathLst>
              <a:path w="1678" h="462">
                <a:moveTo>
                  <a:pt x="0" y="462"/>
                </a:moveTo>
                <a:cubicBezTo>
                  <a:pt x="19" y="420"/>
                  <a:pt x="38" y="378"/>
                  <a:pt x="91" y="325"/>
                </a:cubicBezTo>
                <a:cubicBezTo>
                  <a:pt x="144" y="272"/>
                  <a:pt x="242" y="189"/>
                  <a:pt x="317" y="144"/>
                </a:cubicBezTo>
                <a:cubicBezTo>
                  <a:pt x="392" y="99"/>
                  <a:pt x="476" y="76"/>
                  <a:pt x="544" y="53"/>
                </a:cubicBezTo>
                <a:cubicBezTo>
                  <a:pt x="612" y="30"/>
                  <a:pt x="650" y="16"/>
                  <a:pt x="726" y="8"/>
                </a:cubicBezTo>
                <a:cubicBezTo>
                  <a:pt x="802" y="0"/>
                  <a:pt x="923" y="1"/>
                  <a:pt x="998" y="8"/>
                </a:cubicBezTo>
                <a:cubicBezTo>
                  <a:pt x="1073" y="15"/>
                  <a:pt x="1119" y="30"/>
                  <a:pt x="1179" y="53"/>
                </a:cubicBezTo>
                <a:cubicBezTo>
                  <a:pt x="1239" y="76"/>
                  <a:pt x="1308" y="114"/>
                  <a:pt x="1361" y="144"/>
                </a:cubicBezTo>
                <a:cubicBezTo>
                  <a:pt x="1414" y="174"/>
                  <a:pt x="1452" y="197"/>
                  <a:pt x="1497" y="235"/>
                </a:cubicBezTo>
                <a:cubicBezTo>
                  <a:pt x="1542" y="273"/>
                  <a:pt x="1603" y="333"/>
                  <a:pt x="1633" y="371"/>
                </a:cubicBezTo>
                <a:cubicBezTo>
                  <a:pt x="1663" y="409"/>
                  <a:pt x="1671" y="447"/>
                  <a:pt x="1678" y="4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537160" y="5900760"/>
            <a:ext cx="2160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176800" y="4821120"/>
            <a:ext cx="1191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34240" y="6550200"/>
            <a:ext cx="14436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O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21520" y="5397480"/>
            <a:ext cx="2160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913520" y="5829480"/>
            <a:ext cx="144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45520" y="4676760"/>
            <a:ext cx="144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6761160" y="63342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等边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绕着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按某个方向旋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得到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2924280"/>
            <a:ext cx="2808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924000" y="2923920"/>
            <a:ext cx="2808360" cy="26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242100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300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56610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20000" y="386064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宋体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2205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30360"/>
            <a:ext cx="8569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等边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绕着点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某个方向旋转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得到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3789360"/>
            <a:ext cx="2808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4725600">
            <a:off x="3492360" y="1339560"/>
            <a:ext cx="2808360" cy="2665440"/>
          </a:xfrm>
          <a:prstGeom prst="triangle">
            <a:avLst>
              <a:gd name="adj" fmla="val 4571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242100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5300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56610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450864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35280" y="5373360"/>
            <a:ext cx="1152720" cy="1152360"/>
          </a:xfrm>
          <a:prstGeom prst="line">
            <a:avLst/>
          </a:prstGeom>
          <a:ln w="4428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851280" y="4292640"/>
            <a:ext cx="1008000" cy="100800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3789360"/>
            <a:ext cx="2519640" cy="1511280"/>
          </a:xfrm>
          <a:prstGeom prst="line">
            <a:avLst/>
          </a:prstGeom>
          <a:ln w="4428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859280" y="2349360"/>
            <a:ext cx="1297080" cy="2951280"/>
          </a:xfrm>
          <a:prstGeom prst="line">
            <a:avLst/>
          </a:prstGeom>
          <a:ln w="4428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71640" y="5300640"/>
            <a:ext cx="3887640" cy="1152720"/>
          </a:xfrm>
          <a:prstGeom prst="line">
            <a:avLst/>
          </a:prstGeom>
          <a:ln w="4428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348000" y="1557360"/>
            <a:ext cx="1511280" cy="3743280"/>
          </a:xfrm>
          <a:prstGeom prst="line">
            <a:avLst/>
          </a:prstGeom>
          <a:ln w="4428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宋体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1268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宋体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3933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宋体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5084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2578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琥珀"/>
              </a:rPr>
              <a:t>（４）对应点到旋转中心的距离相等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0"/>
            <a:ext cx="6324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琥珀"/>
              </a:rPr>
              <a:t>旋转的基本性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28720" y="121932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琥珀"/>
              </a:rPr>
              <a:t>（１）旋转不改变图形的大小和形状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86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琥珀"/>
              </a:rPr>
              <a:t>（２）图形上的每一点都绕旋转中心沿相同方向转动了相同的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733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琥珀"/>
              </a:rPr>
              <a:t>（３）任意一对对应点与旋转中心的连线所成的角度都是旋转角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例１：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钟表的分针匀速旋转一周需要</a:t>
            </a:r>
            <a:r>
              <a:rPr b="1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分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（１）指出它的旋转中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（２）经过</a:t>
            </a:r>
            <a:r>
              <a:rPr b="1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分，分针旋转了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5800" y="2819520"/>
            <a:ext cx="2952720" cy="2952720"/>
            <a:chOff x="685800" y="2819520"/>
            <a:chExt cx="2952720" cy="2952720"/>
          </a:xfrm>
        </p:grpSpPr>
        <p:grpSp>
          <p:nvGrpSpPr>
            <p:cNvPr id="158" name=""/>
            <p:cNvGrpSpPr/>
            <p:nvPr/>
          </p:nvGrpSpPr>
          <p:grpSpPr>
            <a:xfrm>
              <a:off x="685800" y="2819520"/>
              <a:ext cx="2952720" cy="2952720"/>
              <a:chOff x="685800" y="2819520"/>
              <a:chExt cx="2952720" cy="2952720"/>
            </a:xfrm>
          </p:grpSpPr>
          <p:sp>
            <p:nvSpPr>
              <p:cNvPr id="159" name=""/>
              <p:cNvSpPr/>
              <p:nvPr/>
            </p:nvSpPr>
            <p:spPr>
              <a:xfrm>
                <a:off x="685800" y="2819520"/>
                <a:ext cx="2952720" cy="2952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070000" y="2916360"/>
                <a:ext cx="1843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1880" y="4222800"/>
                <a:ext cx="18396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62280" y="3159360"/>
                <a:ext cx="183960" cy="19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24160" y="3110040"/>
                <a:ext cx="18396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08000" y="3544920"/>
                <a:ext cx="1843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76640" y="4853160"/>
                <a:ext cx="183960" cy="19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76640" y="3641760"/>
                <a:ext cx="18396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08480" y="4222800"/>
                <a:ext cx="18396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68680" y="5337360"/>
                <a:ext cx="183960" cy="19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61920" y="4853160"/>
                <a:ext cx="184320" cy="19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24160" y="5288040"/>
                <a:ext cx="183960" cy="19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70000" y="5529240"/>
                <a:ext cx="1843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16080" y="2916360"/>
                <a:ext cx="92160" cy="1403280"/>
              </a:xfrm>
              <a:prstGeom prst="triangle">
                <a:avLst>
                  <a:gd name="adj" fmla="val 5294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70000" y="4222800"/>
                <a:ext cx="1843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85800" y="2819520"/>
              <a:ext cx="2952720" cy="2952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0000" y="2916360"/>
              <a:ext cx="18432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880" y="4222800"/>
              <a:ext cx="1839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62280" y="3159360"/>
              <a:ext cx="183960" cy="19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4160" y="3110040"/>
              <a:ext cx="1839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08000" y="3544920"/>
              <a:ext cx="18432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76640" y="4853160"/>
              <a:ext cx="183960" cy="19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6640" y="3641760"/>
              <a:ext cx="1839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08480" y="4222800"/>
              <a:ext cx="1839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8680" y="5337360"/>
              <a:ext cx="183960" cy="19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61920" y="4853160"/>
              <a:ext cx="184320" cy="19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24160" y="5288040"/>
              <a:ext cx="183960" cy="19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70000" y="5529240"/>
              <a:ext cx="18432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16080" y="2916360"/>
              <a:ext cx="92160" cy="1403280"/>
            </a:xfrm>
            <a:prstGeom prst="triangle">
              <a:avLst>
                <a:gd name="adj" fmla="val 5294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70000" y="4222800"/>
              <a:ext cx="18432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105520" y="2895480"/>
            <a:ext cx="2952720" cy="2952720"/>
            <a:chOff x="5105520" y="2895480"/>
            <a:chExt cx="2952720" cy="2952720"/>
          </a:xfrm>
        </p:grpSpPr>
        <p:grpSp>
          <p:nvGrpSpPr>
            <p:cNvPr id="190" name=""/>
            <p:cNvGrpSpPr/>
            <p:nvPr/>
          </p:nvGrpSpPr>
          <p:grpSpPr>
            <a:xfrm>
              <a:off x="5105520" y="2895480"/>
              <a:ext cx="2952720" cy="2952720"/>
              <a:chOff x="5105520" y="2895480"/>
              <a:chExt cx="2952720" cy="2952720"/>
            </a:xfrm>
          </p:grpSpPr>
          <p:sp>
            <p:nvSpPr>
              <p:cNvPr id="191" name=""/>
              <p:cNvSpPr/>
              <p:nvPr/>
            </p:nvSpPr>
            <p:spPr>
              <a:xfrm>
                <a:off x="5105520" y="2895480"/>
                <a:ext cx="2952720" cy="2952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89720" y="2992320"/>
                <a:ext cx="1843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51600" y="4298760"/>
                <a:ext cx="18396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82000" y="3235320"/>
                <a:ext cx="183960" cy="19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43880" y="3186000"/>
                <a:ext cx="18396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27720" y="3620880"/>
                <a:ext cx="1843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96360" y="4929120"/>
                <a:ext cx="183960" cy="19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96360" y="3717720"/>
                <a:ext cx="18396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28200" y="4298760"/>
                <a:ext cx="18396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88400" y="5413320"/>
                <a:ext cx="183960" cy="19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81640" y="4929120"/>
                <a:ext cx="184320" cy="19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43880" y="5364000"/>
                <a:ext cx="183960" cy="19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89720" y="5605200"/>
                <a:ext cx="1843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7021200">
                <a:off x="7081200" y="4041720"/>
                <a:ext cx="95400" cy="1298520"/>
              </a:xfrm>
              <a:prstGeom prst="triangle">
                <a:avLst>
                  <a:gd name="adj" fmla="val 10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89720" y="4298760"/>
                <a:ext cx="1843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未知"/>
            <p:cNvSpPr/>
            <p:nvPr/>
          </p:nvSpPr>
          <p:spPr>
            <a:xfrm rot="1012800">
              <a:off x="6545160" y="4119480"/>
              <a:ext cx="37116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0" y="7"/>
                  </a:moveTo>
                  <a:cubicBezTo>
                    <a:pt x="30" y="3"/>
                    <a:pt x="61" y="0"/>
                    <a:pt x="91" y="7"/>
                  </a:cubicBezTo>
                  <a:cubicBezTo>
                    <a:pt x="121" y="14"/>
                    <a:pt x="159" y="29"/>
                    <a:pt x="182" y="52"/>
                  </a:cubicBezTo>
                  <a:cubicBezTo>
                    <a:pt x="205" y="75"/>
                    <a:pt x="220" y="113"/>
                    <a:pt x="227" y="143"/>
                  </a:cubicBezTo>
                  <a:cubicBezTo>
                    <a:pt x="234" y="173"/>
                    <a:pt x="234" y="219"/>
                    <a:pt x="227" y="23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440" y="2971800"/>
              <a:ext cx="91800" cy="1403280"/>
            </a:xfrm>
            <a:prstGeom prst="triangle">
              <a:avLst>
                <a:gd name="adj" fmla="val 5294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4:19:21Z</dcterms:created>
  <dc:creator/>
  <dc:description/>
  <dc:language>en-US</dc:language>
  <cp:lastModifiedBy>微软用户</cp:lastModifiedBy>
  <cp:lastPrinted>1899-12-30T00:00:00Z</cp:lastPrinted>
  <dcterms:modified xsi:type="dcterms:W3CDTF">2014-03-09T08:35:53Z</dcterms:modified>
  <cp:revision>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  <property fmtid="{D5CDD505-2E9C-101B-9397-08002B2CF9AE}" pid="3" name="NXTAG2">
    <vt:lpwstr>000800f807000000000001024120</vt:lpwstr>
  </property>
</Properties>
</file>