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402-60AB-4CE6-B5BB-03BF465B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139-659A-4D74-A1F1-918B8F14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0A8-2520-40C3-B336-EFAA7490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03C-5C6A-43B2-87D5-9D4C33C8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95E-C6E1-4913-9E8E-72D9A13C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355-BE66-4104-9F87-2998EB61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DF7-F128-4CB5-81F8-E550AE7E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838-A9BD-4A61-8398-06FE49C8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927-F80B-45CC-B01C-ACC1DE0B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EDA-76DF-40EF-ADC3-F7580725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B0B-FE46-44DF-9823-882EA8C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1B2-3B4A-42B7-8B50-FAEAB256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FF73-EE9D-475F-88F9-64041626ED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447920"/>
            <a:ext cx="6705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2.2.3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因式分解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1520" y="2208600"/>
            <a:ext cx="7221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下列方程，从中你能发现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新的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619720"/>
            <a:ext cx="760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因式分解使方程化为两个一次式乘积等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式，再使这两个一次式分别等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从而实现降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种解法叫作因式分解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990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9512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通过解下列方程，你能发现在解一元二次方程的过程中需要注意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38280" y="2895480"/>
          <a:ext cx="4038840" cy="68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2895480"/>
                    <a:ext cx="40388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38280" y="3505320"/>
          <a:ext cx="4800600" cy="116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3505320"/>
                    <a:ext cx="480060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438280" y="4648320"/>
          <a:ext cx="4038840" cy="688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8280" y="4648320"/>
                    <a:ext cx="403884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438280" y="5486400"/>
          <a:ext cx="3733920" cy="72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5486400"/>
                    <a:ext cx="37339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307548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归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配方法要先配方，再降次，通过配方法可以推出求根公式；公式法直接利用求根公式；因式分解法要先使方程一边为两个一次因式相乘，另一边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再分别使各一次因式等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配方法、公式法适用于所有的一元二次方程，因式分解法用于某些一元二次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解一元二次方程的基本思路是：将二次方程化为一次方程，即降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160020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根据物理学规律，如果把一个物体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地面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速度竖直上抛，那么经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物体离地面的高度（单位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733920" y="3429000"/>
          <a:ext cx="220968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3429000"/>
                    <a:ext cx="22096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540520" y="4099680"/>
            <a:ext cx="491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根据上述规律求出物体经过多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秒回到地面吗？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（课件：竖直上抛的物体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30320" y="2177640"/>
            <a:ext cx="299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关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57400" y="3298680"/>
          <a:ext cx="54864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298680"/>
                    <a:ext cx="54864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914040" y="4204440"/>
            <a:ext cx="19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取何值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90440" y="4951080"/>
            <a:ext cx="545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方程有两个不相等的实数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方程有两个相等的实数根，并求出这两个等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方程没有实数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39364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因式分解法可以方便快捷地解一些一元二次方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49560" y="4494960"/>
            <a:ext cx="47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业：习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pyx</cp:lastModifiedBy>
  <dcterms:modified xsi:type="dcterms:W3CDTF">2007-04-20T01:10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