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64C-BEE6-4D38-AADF-5E93838B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B88F-9353-4B8E-A725-7E197DF8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4AA-85AF-47D9-825A-CB3380EB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AF60-32BE-4951-B806-C14AFD65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FA0-E47F-43A6-949C-2339B2BE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3C2-F201-4A20-A66A-7B212CE2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6F6C-39B1-4C8D-A092-1FEA7D8B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D55-EC8A-41FE-89C6-9EF574A1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8E2-B59D-4B2E-8D47-BC689DD7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BEB-2704-4676-BCF7-B7FE4EB3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F109-F060-42DF-A144-C408D625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711E-9FA5-4029-ADFC-2AAD10AD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66A5-D6A2-41A5-8DA8-7854CDF5F1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1447920"/>
            <a:ext cx="6705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. 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公式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2710080"/>
            <a:ext cx="761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某养鸡厂的矩形鸡舍长靠墙，现在有材料可以制作竹篱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，若欲围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方米的鸡舍，鸡舍的长和宽应是多少？能围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方米的鸡舍吗，若可以求出长和宽，若不能说明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（课件：围矩形场地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2160" y="1905480"/>
            <a:ext cx="4674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节你遇到了什么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解决问题的过程中你采取了什么方法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56200" y="5104440"/>
            <a:ext cx="605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习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.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，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828080"/>
            <a:ext cx="76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配方法解下列方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295280" y="2743200"/>
          <a:ext cx="5430960" cy="258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743200"/>
                    <a:ext cx="5430960" cy="25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9092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2375640"/>
            <a:ext cx="76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元二次方程的求根公式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743200" y="3276720"/>
          <a:ext cx="3838680" cy="217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3276720"/>
                    <a:ext cx="3838680" cy="21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9092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2071440"/>
            <a:ext cx="76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用公式法解下列方程，从中你能发现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5800" y="41140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828800" y="2895480"/>
          <a:ext cx="4114800" cy="26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895480"/>
                    <a:ext cx="411480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1460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648160"/>
            <a:ext cx="8381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归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）一元二次方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的根是由一元二次方程的系数 确定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）在解一元二次方程时，可先把方程化为一般形式，然后在                           的前提下，把 各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系数的值代入求根公式，可求得方程的两个根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）由求根公式可以知道一元二次方程最多有两个实数根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200400" y="2522520"/>
            <a:ext cx="5410080" cy="1897200"/>
            <a:chOff x="3200400" y="2522520"/>
            <a:chExt cx="5410080" cy="1897200"/>
          </a:xfrm>
        </p:grpSpPr>
        <p:graphicFrame>
          <p:nvGraphicFramePr>
            <p:cNvPr id="67" name=""/>
            <p:cNvGraphicFramePr/>
            <p:nvPr/>
          </p:nvGraphicFramePr>
          <p:xfrm>
            <a:off x="3200400" y="3867120"/>
            <a:ext cx="2209680" cy="552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00400" y="3867120"/>
                      <a:ext cx="220968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" name=""/>
            <p:cNvGraphicFramePr/>
            <p:nvPr/>
          </p:nvGraphicFramePr>
          <p:xfrm>
            <a:off x="4343400" y="2522520"/>
            <a:ext cx="4267080" cy="677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43400" y="2522520"/>
                      <a:ext cx="4267080" cy="67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58320" y="1676160"/>
            <a:ext cx="59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用公式法解下列方程，根据方程根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情况你有什么结论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981080" y="2895480"/>
          <a:ext cx="4800600" cy="266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895480"/>
                    <a:ext cx="48006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1460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85800" y="1446840"/>
            <a:ext cx="9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743200" y="2133720"/>
          <a:ext cx="1981080" cy="51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2133720"/>
                    <a:ext cx="19810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087640" y="2724120"/>
          <a:ext cx="4419360" cy="731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87640" y="2724120"/>
                    <a:ext cx="441936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544840" y="3486240"/>
          <a:ext cx="3657600" cy="1342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44840" y="3486240"/>
                    <a:ext cx="3657600" cy="13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620800" y="5010120"/>
          <a:ext cx="3276720" cy="1197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20800" y="5010120"/>
                    <a:ext cx="32767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58400" y="2190600"/>
            <a:ext cx="628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当                        时，一元二次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5800" y="1675440"/>
            <a:ext cx="9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8120" y="2590920"/>
          <a:ext cx="1981080" cy="51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590920"/>
                    <a:ext cx="19810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438280" y="3124080"/>
          <a:ext cx="4419720" cy="731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8280" y="3124080"/>
                    <a:ext cx="441972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332720" y="2619360"/>
            <a:ext cx="61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当                      时，一元二次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00400" y="4495680"/>
          <a:ext cx="2438280" cy="107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0400" y="4495680"/>
                    <a:ext cx="2438280" cy="10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5800" y="1629360"/>
            <a:ext cx="9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971800" y="2305080"/>
          <a:ext cx="198108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305080"/>
                    <a:ext cx="19810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590920" y="2895480"/>
          <a:ext cx="4419360" cy="731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90920" y="2895480"/>
                    <a:ext cx="441936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256760" y="2314440"/>
            <a:ext cx="628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当                        时，一元二次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无实数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pyx</cp:lastModifiedBy>
  <dcterms:modified xsi:type="dcterms:W3CDTF">2007-04-19T06:39:35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