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D694-1100-4617-B70A-E2CD2232D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AAAA-E1F4-408C-942A-5DA9FDA14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44D2-9597-4CE7-8F92-0B2791192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E896-28B1-402C-9285-425152041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704D4-3E64-40DA-8A23-61CC100B1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6055B-4121-4344-B864-D4BF41F03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549C2-8764-4AA4-9582-7F2CAF2E2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223C5-8EF8-4DB4-8F57-9A5834268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10AF6-3AF9-4355-A9A1-05EA0CE6C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32E08-2823-4482-A108-7162360C0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FFE46-B805-4242-A118-5EF8A60FA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1FF1-3580-4EEE-87C8-C99AFA34D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46521-AA6D-44AC-8353-35AE54494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B3311-2644-4190-A797-4E897326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05B20-3FF6-4853-8682-26578F636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E0836-1EDF-4676-BEC9-83604F30C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D7EA2-D474-469E-8F89-BCBA78D1B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88F4-3FD7-4583-846E-6E03C0F95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5AE2-9C1E-4217-9391-7F8DD3F60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A214-CD00-4932-8C18-88C14BDED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3E3A-98D7-4A56-8A51-D9EB66903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43C3-8053-4517-8AAC-C99C40D8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9269-8043-4431-B62D-0D37C43FB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34E5-5F8D-4A90-BA90-0ADD7E84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10D82-B13A-4D7B-834C-1771F249C4CA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079D6-9E61-4C32-A98F-D5A26068A3BB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细胞的分裂与分化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411280" y="501336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德州经济开发区赵虎镇赵宅中学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                               </a:t>
            </a: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付金平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540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动物细胞分裂示意图</a:t>
            </a:r>
            <a:br>
              <a:rPr sz="4000"/>
            </a:b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54064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362320"/>
            <a:ext cx="1828800" cy="287280"/>
          </a:xfrm>
          <a:prstGeom prst="rightArrow">
            <a:avLst>
              <a:gd name="adj1" fmla="val 50000"/>
              <a:gd name="adj2" fmla="val 159148"/>
            </a:avLst>
          </a:prstGeom>
          <a:solidFill>
            <a:srgbClr val="ff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348000" y="4221000"/>
            <a:ext cx="3792600" cy="2179800"/>
            <a:chOff x="3348000" y="4221000"/>
            <a:chExt cx="3792600" cy="2179800"/>
          </a:xfrm>
        </p:grpSpPr>
        <p:sp>
          <p:nvSpPr>
            <p:cNvPr id="110" name=""/>
            <p:cNvSpPr/>
            <p:nvPr/>
          </p:nvSpPr>
          <p:spPr>
            <a:xfrm>
              <a:off x="3348000" y="4221000"/>
              <a:ext cx="14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Arial"/>
                  <a:ea typeface="隶书"/>
                </a:rPr>
                <a:t>新细胞</a:t>
              </a:r>
              <a:r>
                <a:rPr b="1" lang="zh-CN" sz="2400" spc="-1" strike="noStrike">
                  <a:solidFill>
                    <a:srgbClr val="007a77"/>
                  </a:solidFill>
                  <a:latin typeface="Arial"/>
                  <a:ea typeface="隶书"/>
                </a:rPr>
                <a:t>1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486400" y="4267080"/>
              <a:ext cx="165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Arial"/>
                  <a:ea typeface="隶书"/>
                </a:rPr>
                <a:t>新细胞</a:t>
              </a:r>
              <a:r>
                <a:rPr b="1" lang="zh-CN" sz="2400" spc="-1" strike="noStrike">
                  <a:solidFill>
                    <a:srgbClr val="007a77"/>
                  </a:solidFill>
                  <a:latin typeface="Arial"/>
                  <a:ea typeface="隶书"/>
                </a:rPr>
                <a:t>2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112" name=""/>
            <p:cNvGraphicFramePr/>
            <p:nvPr/>
          </p:nvGraphicFramePr>
          <p:xfrm>
            <a:off x="3371760" y="4848120"/>
            <a:ext cx="971640" cy="15526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371760" y="4848120"/>
                      <a:ext cx="971640" cy="15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5715000" y="4848120"/>
            <a:ext cx="971640" cy="15526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715000" y="4848120"/>
                      <a:ext cx="971640" cy="15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/>
          <p:cNvSpPr/>
          <p:nvPr/>
        </p:nvSpPr>
        <p:spPr>
          <a:xfrm rot="5482200">
            <a:off x="4761720" y="2781360"/>
            <a:ext cx="762120" cy="2361960"/>
          </a:xfrm>
          <a:custGeom>
            <a:avLst/>
            <a:gdLst>
              <a:gd name="textAreaLeft" fmla="*/ 487080 w 762120"/>
              <a:gd name="textAreaRight" fmla="*/ 762480 w 76212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914400" y="1447920"/>
            <a:ext cx="990720" cy="20095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7"/>
          <a:stretch/>
        </p:blipFill>
        <p:spPr>
          <a:xfrm>
            <a:off x="4419720" y="1600200"/>
            <a:ext cx="15062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64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Arial"/>
                <a:ea typeface="黑体"/>
              </a:rPr>
              <a:t>植物细胞在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  <a:ea typeface="黑体"/>
              </a:rPr>
              <a:t>分裂</a:t>
            </a:r>
            <a:r>
              <a:rPr b="0" lang="zh-CN" sz="4400" spc="-1" strike="noStrike">
                <a:solidFill>
                  <a:srgbClr val="007a77"/>
                </a:solidFill>
                <a:latin typeface="Arial"/>
                <a:ea typeface="黑体"/>
              </a:rPr>
              <a:t>时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16000" y="1844280"/>
            <a:ext cx="8540640" cy="41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  <a:ea typeface="黑体"/>
              </a:rPr>
              <a:t>最先是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  <a:ea typeface="黑体"/>
              </a:rPr>
              <a:t>_______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  <a:ea typeface="黑体"/>
              </a:rPr>
              <a:t>一分为二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  <a:ea typeface="黑体"/>
              </a:rPr>
              <a:t>;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  <a:ea typeface="黑体"/>
              </a:rPr>
              <a:t>同时把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  <a:ea typeface="黑体"/>
              </a:rPr>
              <a:t>______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  <a:ea typeface="黑体"/>
              </a:rPr>
              <a:t>一分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  <a:ea typeface="黑体"/>
              </a:rPr>
              <a:t>为二，然后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  <a:ea typeface="黑体"/>
              </a:rPr>
              <a:t>,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  <a:ea typeface="黑体"/>
              </a:rPr>
              <a:t>在两个细胞核中央出现了新的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7a77"/>
                </a:solidFill>
                <a:uFillTx/>
                <a:latin typeface="Arial"/>
                <a:ea typeface="黑体"/>
              </a:rPr>
              <a:t>————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  <a:ea typeface="黑体"/>
              </a:rPr>
              <a:t>和————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  <a:ea typeface="黑体"/>
              </a:rPr>
              <a:t>;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  <a:ea typeface="黑体"/>
              </a:rPr>
              <a:t>形成了</a:t>
            </a:r>
            <a:r>
              <a:rPr b="0" lang="zh-CN" sz="3200" spc="-1" strike="noStrike" u="sng">
                <a:solidFill>
                  <a:srgbClr val="007a77"/>
                </a:solidFill>
                <a:uFillTx/>
                <a:latin typeface="Arial"/>
                <a:ea typeface="黑体"/>
              </a:rPr>
              <a:t>———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  <a:ea typeface="黑体"/>
              </a:rPr>
              <a:t>新细胞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56000" y="19162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7a77"/>
                </a:solidFill>
                <a:uFillTx/>
                <a:latin typeface="Arial"/>
              </a:rPr>
              <a:t>细胞核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093080" y="1844640"/>
            <a:ext cx="12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细胞质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58920" y="2852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细胞膜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348000" y="285264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细胞壁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227640" y="292428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两个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0920" y="1125000"/>
            <a:ext cx="85406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920" y="620640"/>
            <a:ext cx="8540640" cy="540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动物细胞分裂时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  <a:ea typeface="黑体"/>
              </a:rPr>
              <a:t>       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  <a:ea typeface="黑体"/>
              </a:rPr>
              <a:t>最先是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  <a:ea typeface="黑体"/>
              </a:rPr>
              <a:t>_____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  <a:ea typeface="黑体"/>
              </a:rPr>
              <a:t>一分为二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  <a:ea typeface="黑体"/>
              </a:rPr>
              <a:t>;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  <a:ea typeface="黑体"/>
              </a:rPr>
              <a:t>同时把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  <a:ea typeface="黑体"/>
              </a:rPr>
              <a:t>_____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  <a:ea typeface="黑体"/>
              </a:rPr>
              <a:t>一分为二，然后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  <a:ea typeface="黑体"/>
              </a:rPr>
              <a:t>,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  <a:ea typeface="黑体"/>
              </a:rPr>
              <a:t>两个细胞核中央，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  <a:ea typeface="黑体"/>
              </a:rPr>
              <a:t>_____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  <a:ea typeface="黑体"/>
              </a:rPr>
              <a:t>向内凹陷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  <a:ea typeface="黑体"/>
              </a:rPr>
              <a:t>,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  <a:ea typeface="黑体"/>
              </a:rPr>
              <a:t>形成了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  <a:ea typeface="黑体"/>
              </a:rPr>
              <a:t>_____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  <a:ea typeface="黑体"/>
              </a:rPr>
              <a:t>新细胞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  <a:ea typeface="黑体"/>
              </a:rPr>
              <a:t>.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484360" y="148428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细胞核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16720" y="141300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细胞质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940360" y="191628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细胞膜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56000" y="242100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两个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二者异同点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相同点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同点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340000" y="1413000"/>
            <a:ext cx="453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40000" y="2060640"/>
            <a:ext cx="680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都是先细胞核一分为二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;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细胞质一分为二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95640" y="3573360"/>
            <a:ext cx="62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动物细胞是两个细胞核中央的细胞膜向内凹陷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71640" y="4581360"/>
            <a:ext cx="7993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植物细胞是在两个细胞核中央形成新的细胞壁和细胞膜。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隶书"/>
              </a:rPr>
              <a:t>请同学们排出细胞分裂过程的正确顺序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348000" y="1989000"/>
            <a:ext cx="1676520" cy="2208600"/>
            <a:chOff x="3348000" y="1989000"/>
            <a:chExt cx="1676520" cy="2208600"/>
          </a:xfrm>
        </p:grpSpPr>
        <p:pic>
          <p:nvPicPr>
            <p:cNvPr id="141" name="" descr=""/>
            <p:cNvPicPr/>
            <p:nvPr/>
          </p:nvPicPr>
          <p:blipFill>
            <a:blip r:embed="rId2"/>
            <a:stretch/>
          </p:blipFill>
          <p:spPr>
            <a:xfrm>
              <a:off x="3348000" y="1989000"/>
              <a:ext cx="1676520" cy="149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4073040" y="3494160"/>
              <a:ext cx="32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7a77"/>
                  </a:solidFill>
                  <a:latin typeface="Times New Roman"/>
                </a:rPr>
                <a:t>B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6732720" y="1989000"/>
            <a:ext cx="1674720" cy="2164320"/>
            <a:chOff x="6732720" y="1989000"/>
            <a:chExt cx="1674720" cy="2164320"/>
          </a:xfrm>
        </p:grpSpPr>
        <p:pic>
          <p:nvPicPr>
            <p:cNvPr id="144" name="" descr=""/>
            <p:cNvPicPr/>
            <p:nvPr/>
          </p:nvPicPr>
          <p:blipFill>
            <a:blip r:embed="rId3"/>
            <a:stretch/>
          </p:blipFill>
          <p:spPr>
            <a:xfrm>
              <a:off x="6732720" y="1989000"/>
              <a:ext cx="1674720" cy="146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7378560" y="3449880"/>
              <a:ext cx="519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7a77"/>
                  </a:solidFill>
                  <a:latin typeface="Times New Roman"/>
                </a:rPr>
                <a:t>C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685800" y="4038480"/>
            <a:ext cx="1879560" cy="2338560"/>
            <a:chOff x="685800" y="4038480"/>
            <a:chExt cx="1879560" cy="2338560"/>
          </a:xfrm>
        </p:grpSpPr>
        <p:pic>
          <p:nvPicPr>
            <p:cNvPr id="147" name="" descr=""/>
            <p:cNvPicPr/>
            <p:nvPr/>
          </p:nvPicPr>
          <p:blipFill>
            <a:blip r:embed="rId4"/>
            <a:stretch/>
          </p:blipFill>
          <p:spPr>
            <a:xfrm>
              <a:off x="685800" y="4038480"/>
              <a:ext cx="1879560" cy="167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1417680" y="5673600"/>
              <a:ext cx="54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7a77"/>
                  </a:solidFill>
                  <a:latin typeface="Times New Roman"/>
                </a:rPr>
                <a:t>D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419640" y="4221000"/>
            <a:ext cx="1828800" cy="2327400"/>
            <a:chOff x="3419640" y="4221000"/>
            <a:chExt cx="1828800" cy="2327400"/>
          </a:xfrm>
        </p:grpSpPr>
        <p:pic>
          <p:nvPicPr>
            <p:cNvPr id="150" name="" descr=""/>
            <p:cNvPicPr/>
            <p:nvPr/>
          </p:nvPicPr>
          <p:blipFill>
            <a:blip r:embed="rId5"/>
            <a:stretch/>
          </p:blipFill>
          <p:spPr>
            <a:xfrm>
              <a:off x="3419640" y="4221000"/>
              <a:ext cx="1828800" cy="165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4262400" y="5844960"/>
              <a:ext cx="48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7a77"/>
                  </a:solidFill>
                  <a:latin typeface="Times New Roman"/>
                </a:rPr>
                <a:t>E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7020000" y="4005360"/>
            <a:ext cx="1700280" cy="2417760"/>
            <a:chOff x="7020000" y="4005360"/>
            <a:chExt cx="1700280" cy="2417760"/>
          </a:xfrm>
        </p:grpSpPr>
        <p:pic>
          <p:nvPicPr>
            <p:cNvPr id="153" name="" descr=""/>
            <p:cNvPicPr/>
            <p:nvPr/>
          </p:nvPicPr>
          <p:blipFill>
            <a:blip r:embed="rId6"/>
            <a:stretch/>
          </p:blipFill>
          <p:spPr>
            <a:xfrm>
              <a:off x="7020000" y="4005360"/>
              <a:ext cx="1700280" cy="175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7707600" y="57196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7a77"/>
                  </a:solidFill>
                  <a:latin typeface="Times New Roman"/>
                </a:rPr>
                <a:t>F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611280" y="2060640"/>
            <a:ext cx="1727280" cy="2195280"/>
            <a:chOff x="611280" y="2060640"/>
            <a:chExt cx="1727280" cy="2195280"/>
          </a:xfrm>
        </p:grpSpPr>
        <p:pic>
          <p:nvPicPr>
            <p:cNvPr id="156" name="" descr=""/>
            <p:cNvPicPr/>
            <p:nvPr/>
          </p:nvPicPr>
          <p:blipFill>
            <a:blip r:embed="rId7"/>
            <a:stretch/>
          </p:blipFill>
          <p:spPr>
            <a:xfrm>
              <a:off x="611280" y="2060640"/>
              <a:ext cx="1727280" cy="149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1218600" y="3552480"/>
              <a:ext cx="685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7a77"/>
                  </a:solidFill>
                  <a:latin typeface="Times New Roman"/>
                </a:rPr>
                <a:t>A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7a77"/>
                </a:solidFill>
                <a:uFillTx/>
                <a:latin typeface="Arial"/>
              </a:rPr>
              <a:t>                          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细胞分裂的结果是————————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细胞核中含有遗传物质，当细胞核分裂时，细胞核中的遗传物质会不会减半？为什么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708360" y="155736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细胞数目增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细胞分裂时遗传物质变化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258920" y="1989000"/>
            <a:ext cx="691344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细胞分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细胞分裂时：细胞核内的</a:t>
            </a:r>
            <a:r>
              <a:rPr b="0" lang="zh-CN" sz="3200" spc="-1" strike="noStrike">
                <a:solidFill>
                  <a:srgbClr val="dc5900"/>
                </a:solidFill>
                <a:latin typeface="Arial"/>
              </a:rPr>
              <a:t>遗传物质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先经过复制，然后</a:t>
            </a:r>
            <a:r>
              <a:rPr b="0" lang="zh-CN" sz="3200" spc="-1" strike="noStrike">
                <a:solidFill>
                  <a:srgbClr val="dc5900"/>
                </a:solidFill>
                <a:latin typeface="Arial"/>
              </a:rPr>
              <a:t>平均分配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到二个新细胞中，使新细胞内得遗传物质与亲代细胞保持一致。从而保证了遗传物质在细胞的前后代之间的连续性和稳定性．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什么是细胞生长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412640"/>
            <a:ext cx="85406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细胞在适宜的温度下，不断地从周围环境中吸收水、营养物质，并且转变成自身的物质，体积逐渐增大，这就是细胞的生长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细胞体积的大小和体积增长的速度都受到环境条件的影响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324000" y="4221000"/>
            <a:ext cx="472428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细胞分化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830268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由一个受精卵发育而成的生物体的各种细胞，在形态、结构和功能上为什么会有明显的差异呢？这就和细胞的分化有关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什么是细胞分化呢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79280" y="475920"/>
            <a:ext cx="462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细胞分裂与分化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学习目标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619280" y="2697120"/>
            <a:ext cx="523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1.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描述细胞分裂的基本过程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2.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概述生物体的各种组织是由细胞分裂、分化形成的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3.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识别人体的几种基本组织和植物体的几种主要组织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细胞分化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540640" cy="31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在正常情况下，经过细胞分裂产生的新细胞，在遗传物质的作用下，其形态、结构、功能随着细胞的生长出现了差异，这就是细胞的分化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那些形态相似、结构相同、具有一定功能的细胞群叫做组织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细胞分化的结果是：形成组织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植物组织有那些呢？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95280" y="1916280"/>
            <a:ext cx="3030840" cy="2364480"/>
            <a:chOff x="395280" y="1916280"/>
            <a:chExt cx="3030840" cy="2364480"/>
          </a:xfrm>
        </p:grpSpPr>
        <p:grpSp>
          <p:nvGrpSpPr>
            <p:cNvPr id="174" name=""/>
            <p:cNvGrpSpPr/>
            <p:nvPr/>
          </p:nvGrpSpPr>
          <p:grpSpPr>
            <a:xfrm>
              <a:off x="395280" y="1916280"/>
              <a:ext cx="1793880" cy="2364480"/>
              <a:chOff x="395280" y="1916280"/>
              <a:chExt cx="1793880" cy="2364480"/>
            </a:xfrm>
          </p:grpSpPr>
          <p:pic>
            <p:nvPicPr>
              <p:cNvPr id="17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95280" y="1916280"/>
                <a:ext cx="1793880" cy="1904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" name=""/>
              <p:cNvSpPr/>
              <p:nvPr/>
            </p:nvSpPr>
            <p:spPr>
              <a:xfrm>
                <a:off x="623880" y="3821040"/>
                <a:ext cx="1523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7a77"/>
                    </a:solidFill>
                    <a:latin typeface="Times New Roman"/>
                  </a:rPr>
                  <a:t>营养组织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 rot="12963600">
              <a:off x="1843200" y="3130200"/>
              <a:ext cx="1676160" cy="228240"/>
            </a:xfrm>
            <a:prstGeom prst="rightArrow">
              <a:avLst>
                <a:gd name="adj1" fmla="val 50000"/>
                <a:gd name="adj2" fmla="val 183596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654880" y="1916280"/>
            <a:ext cx="3186000" cy="2093040"/>
            <a:chOff x="5654880" y="1916280"/>
            <a:chExt cx="3186000" cy="2093040"/>
          </a:xfrm>
        </p:grpSpPr>
        <p:grpSp>
          <p:nvGrpSpPr>
            <p:cNvPr id="179" name=""/>
            <p:cNvGrpSpPr/>
            <p:nvPr/>
          </p:nvGrpSpPr>
          <p:grpSpPr>
            <a:xfrm>
              <a:off x="6723000" y="1916280"/>
              <a:ext cx="2117880" cy="2093040"/>
              <a:chOff x="6723000" y="1916280"/>
              <a:chExt cx="2117880" cy="2093040"/>
            </a:xfrm>
          </p:grpSpPr>
          <p:pic>
            <p:nvPicPr>
              <p:cNvPr id="18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723000" y="1916280"/>
                <a:ext cx="2117880" cy="155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1" name=""/>
              <p:cNvSpPr/>
              <p:nvPr/>
            </p:nvSpPr>
            <p:spPr>
              <a:xfrm>
                <a:off x="6951600" y="3549600"/>
                <a:ext cx="160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7a77"/>
                    </a:solidFill>
                    <a:latin typeface="Times New Roman"/>
                  </a:rPr>
                  <a:t>保护组织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182" name=""/>
            <p:cNvSpPr/>
            <p:nvPr/>
          </p:nvSpPr>
          <p:spPr>
            <a:xfrm rot="19603200">
              <a:off x="5580000" y="3049200"/>
              <a:ext cx="1676520" cy="228240"/>
            </a:xfrm>
            <a:prstGeom prst="rightArrow">
              <a:avLst>
                <a:gd name="adj1" fmla="val 50000"/>
                <a:gd name="adj2" fmla="val 183636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6281640" y="4076640"/>
            <a:ext cx="2862360" cy="2491560"/>
            <a:chOff x="6281640" y="4076640"/>
            <a:chExt cx="2862360" cy="2491560"/>
          </a:xfrm>
        </p:grpSpPr>
        <p:grpSp>
          <p:nvGrpSpPr>
            <p:cNvPr id="184" name=""/>
            <p:cNvGrpSpPr/>
            <p:nvPr/>
          </p:nvGrpSpPr>
          <p:grpSpPr>
            <a:xfrm>
              <a:off x="7620120" y="4076640"/>
              <a:ext cx="1523880" cy="2491560"/>
              <a:chOff x="7620120" y="4076640"/>
              <a:chExt cx="1523880" cy="2491560"/>
            </a:xfrm>
          </p:grpSpPr>
          <p:pic>
            <p:nvPicPr>
              <p:cNvPr id="18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772400" y="4076640"/>
                <a:ext cx="1066320" cy="2099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" name=""/>
              <p:cNvSpPr/>
              <p:nvPr/>
            </p:nvSpPr>
            <p:spPr>
              <a:xfrm>
                <a:off x="7620120" y="6108480"/>
                <a:ext cx="1523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7a77"/>
                    </a:solidFill>
                    <a:latin typeface="Times New Roman"/>
                  </a:rPr>
                  <a:t>机械组织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 rot="1408800">
              <a:off x="6248160" y="4762080"/>
              <a:ext cx="1904760" cy="228600"/>
            </a:xfrm>
            <a:prstGeom prst="rightArrow">
              <a:avLst>
                <a:gd name="adj1" fmla="val 50000"/>
                <a:gd name="adj2" fmla="val 20830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395280" y="4365720"/>
            <a:ext cx="3259440" cy="2324880"/>
            <a:chOff x="395280" y="4365720"/>
            <a:chExt cx="3259440" cy="2324880"/>
          </a:xfrm>
        </p:grpSpPr>
        <p:grpSp>
          <p:nvGrpSpPr>
            <p:cNvPr id="189" name=""/>
            <p:cNvGrpSpPr/>
            <p:nvPr/>
          </p:nvGrpSpPr>
          <p:grpSpPr>
            <a:xfrm>
              <a:off x="395280" y="4365720"/>
              <a:ext cx="1599840" cy="2324880"/>
              <a:chOff x="395280" y="4365720"/>
              <a:chExt cx="1599840" cy="2324880"/>
            </a:xfrm>
          </p:grpSpPr>
          <p:pic>
            <p:nvPicPr>
              <p:cNvPr id="19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99840" y="4365720"/>
                <a:ext cx="1218960" cy="188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1" name=""/>
              <p:cNvSpPr/>
              <p:nvPr/>
            </p:nvSpPr>
            <p:spPr>
              <a:xfrm>
                <a:off x="395280" y="6230880"/>
                <a:ext cx="1599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7a77"/>
                    </a:solidFill>
                    <a:latin typeface="Times New Roman"/>
                  </a:rPr>
                  <a:t>输导组织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 rot="9640200">
              <a:off x="1772640" y="4892400"/>
              <a:ext cx="1904760" cy="186480"/>
            </a:xfrm>
            <a:prstGeom prst="rightArrow">
              <a:avLst>
                <a:gd name="adj1" fmla="val 50000"/>
                <a:gd name="adj2" fmla="val 25535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pic>
        <p:nvPicPr>
          <p:cNvPr id="193" name="" descr=""/>
          <p:cNvPicPr/>
          <p:nvPr/>
        </p:nvPicPr>
        <p:blipFill>
          <a:blip r:embed="rId6"/>
          <a:stretch/>
        </p:blipFill>
        <p:spPr>
          <a:xfrm>
            <a:off x="3780000" y="2852640"/>
            <a:ext cx="1800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5406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动物细胞组织有那些呢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79280" y="981000"/>
            <a:ext cx="3292920" cy="2332440"/>
            <a:chOff x="179280" y="981000"/>
            <a:chExt cx="3292920" cy="2332440"/>
          </a:xfrm>
        </p:grpSpPr>
        <p:grpSp>
          <p:nvGrpSpPr>
            <p:cNvPr id="196" name=""/>
            <p:cNvGrpSpPr/>
            <p:nvPr/>
          </p:nvGrpSpPr>
          <p:grpSpPr>
            <a:xfrm>
              <a:off x="179280" y="981000"/>
              <a:ext cx="2438280" cy="2112120"/>
              <a:chOff x="179280" y="981000"/>
              <a:chExt cx="2438280" cy="2112120"/>
            </a:xfrm>
          </p:grpSpPr>
          <p:pic>
            <p:nvPicPr>
              <p:cNvPr id="19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79280" y="981000"/>
                <a:ext cx="2438280" cy="155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8" name=""/>
              <p:cNvSpPr/>
              <p:nvPr/>
            </p:nvSpPr>
            <p:spPr>
              <a:xfrm>
                <a:off x="438480" y="2633400"/>
                <a:ext cx="1614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7a77"/>
                    </a:solidFill>
                    <a:latin typeface="Times New Roman"/>
                  </a:rPr>
                  <a:t>上皮组织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199" name=""/>
            <p:cNvSpPr/>
            <p:nvPr/>
          </p:nvSpPr>
          <p:spPr>
            <a:xfrm rot="13400400">
              <a:off x="2406240" y="2723760"/>
              <a:ext cx="1143000" cy="228600"/>
            </a:xfrm>
            <a:prstGeom prst="rightArrow">
              <a:avLst>
                <a:gd name="adj1" fmla="val 50000"/>
                <a:gd name="adj2" fmla="val 125000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5350680" y="981000"/>
            <a:ext cx="3584880" cy="2399040"/>
            <a:chOff x="5350680" y="981000"/>
            <a:chExt cx="3584880" cy="2399040"/>
          </a:xfrm>
        </p:grpSpPr>
        <p:grpSp>
          <p:nvGrpSpPr>
            <p:cNvPr id="201" name=""/>
            <p:cNvGrpSpPr/>
            <p:nvPr/>
          </p:nvGrpSpPr>
          <p:grpSpPr>
            <a:xfrm>
              <a:off x="6259320" y="981000"/>
              <a:ext cx="2676240" cy="2077560"/>
              <a:chOff x="6259320" y="981000"/>
              <a:chExt cx="2676240" cy="2077560"/>
            </a:xfrm>
          </p:grpSpPr>
          <p:pic>
            <p:nvPicPr>
              <p:cNvPr id="20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259320" y="981000"/>
                <a:ext cx="2676240" cy="1555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>
                <a:off x="6901560" y="2598840"/>
                <a:ext cx="148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7a77"/>
                    </a:solidFill>
                    <a:latin typeface="Times New Roman"/>
                  </a:rPr>
                  <a:t>神经组织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204" name=""/>
            <p:cNvSpPr/>
            <p:nvPr/>
          </p:nvSpPr>
          <p:spPr>
            <a:xfrm rot="19242600">
              <a:off x="5292720" y="2784600"/>
              <a:ext cx="1195200" cy="244440"/>
            </a:xfrm>
            <a:prstGeom prst="rightArrow">
              <a:avLst>
                <a:gd name="adj1" fmla="val 50000"/>
                <a:gd name="adj2" fmla="val 122239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468360" y="3799800"/>
            <a:ext cx="3390480" cy="2806200"/>
            <a:chOff x="468360" y="3799800"/>
            <a:chExt cx="3390480" cy="2806200"/>
          </a:xfrm>
        </p:grpSpPr>
        <p:grpSp>
          <p:nvGrpSpPr>
            <p:cNvPr id="206" name=""/>
            <p:cNvGrpSpPr/>
            <p:nvPr/>
          </p:nvGrpSpPr>
          <p:grpSpPr>
            <a:xfrm>
              <a:off x="468360" y="4479840"/>
              <a:ext cx="2514600" cy="2126160"/>
              <a:chOff x="468360" y="4479840"/>
              <a:chExt cx="2514600" cy="2126160"/>
            </a:xfrm>
          </p:grpSpPr>
          <p:pic>
            <p:nvPicPr>
              <p:cNvPr id="20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68360" y="4479840"/>
                <a:ext cx="2514600" cy="154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>
                <a:off x="1001520" y="6146280"/>
                <a:ext cx="160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7a77"/>
                    </a:solidFill>
                    <a:latin typeface="Times New Roman"/>
                  </a:rPr>
                  <a:t>肌肉组织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 rot="8545800">
              <a:off x="2701440" y="4149360"/>
              <a:ext cx="1219320" cy="211320"/>
            </a:xfrm>
            <a:prstGeom prst="rightArrow">
              <a:avLst>
                <a:gd name="adj1" fmla="val 50000"/>
                <a:gd name="adj2" fmla="val 144250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5116320" y="3755160"/>
            <a:ext cx="3598920" cy="2915280"/>
            <a:chOff x="5116320" y="3755160"/>
            <a:chExt cx="3598920" cy="2915280"/>
          </a:xfrm>
        </p:grpSpPr>
        <p:grpSp>
          <p:nvGrpSpPr>
            <p:cNvPr id="211" name=""/>
            <p:cNvGrpSpPr/>
            <p:nvPr/>
          </p:nvGrpSpPr>
          <p:grpSpPr>
            <a:xfrm>
              <a:off x="6048360" y="4390920"/>
              <a:ext cx="2666880" cy="2279520"/>
              <a:chOff x="6048360" y="4390920"/>
              <a:chExt cx="2666880" cy="2279520"/>
            </a:xfrm>
          </p:grpSpPr>
          <p:pic>
            <p:nvPicPr>
              <p:cNvPr id="212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048360" y="4390920"/>
                <a:ext cx="2666880" cy="1735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3" name=""/>
              <p:cNvSpPr/>
              <p:nvPr/>
            </p:nvSpPr>
            <p:spPr>
              <a:xfrm>
                <a:off x="6683400" y="6210720"/>
                <a:ext cx="190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7a77"/>
                    </a:solidFill>
                    <a:latin typeface="Times New Roman"/>
                  </a:rPr>
                  <a:t>结缔组织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 rot="2088600">
              <a:off x="5076720" y="4076280"/>
              <a:ext cx="1200240" cy="237960"/>
            </a:xfrm>
            <a:prstGeom prst="rightArrow">
              <a:avLst>
                <a:gd name="adj1" fmla="val 50000"/>
                <a:gd name="adj2" fmla="val 12609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pic>
        <p:nvPicPr>
          <p:cNvPr id="215" name="" descr=""/>
          <p:cNvPicPr/>
          <p:nvPr/>
        </p:nvPicPr>
        <p:blipFill>
          <a:blip r:embed="rId6"/>
          <a:stretch/>
        </p:blipFill>
        <p:spPr>
          <a:xfrm>
            <a:off x="3924360" y="2852640"/>
            <a:ext cx="12762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组织作用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301680" y="1905120"/>
          <a:ext cx="8540640" cy="4600440"/>
        </p:xfrm>
        <a:graphic>
          <a:graphicData uri="http://schemas.openxmlformats.org/drawingml/2006/table">
            <a:tbl>
              <a:tblPr/>
              <a:tblGrid>
                <a:gridCol w="417600"/>
                <a:gridCol w="1473120"/>
                <a:gridCol w="2730600"/>
                <a:gridCol w="391932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  <a:ea typeface="黑体"/>
                        </a:rPr>
                        <a:t>组织名称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  <a:ea typeface="黑体"/>
                        </a:rPr>
                        <a:t>分布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  <a:ea typeface="黑体"/>
                        </a:rPr>
                        <a:t>功能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45972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  <a:ea typeface="黑体"/>
                        </a:rPr>
                        <a:t>植物组织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cc"/>
                          </a:solidFill>
                          <a:latin typeface="Arial"/>
                          <a:ea typeface="黑体"/>
                        </a:rPr>
                        <a:t>保护组织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0099"/>
                          </a:solidFill>
                          <a:latin typeface="Arial"/>
                          <a:ea typeface="黑体"/>
                        </a:rPr>
                        <a:t>叶的表皮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0099"/>
                          </a:solidFill>
                          <a:latin typeface="Arial"/>
                          <a:ea typeface="黑体"/>
                        </a:rPr>
                        <a:t>保护作用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cc"/>
                          </a:solidFill>
                          <a:latin typeface="Arial"/>
                          <a:ea typeface="黑体"/>
                        </a:rPr>
                        <a:t>营养组织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0099"/>
                          </a:solidFill>
                          <a:latin typeface="Arial"/>
                          <a:ea typeface="黑体"/>
                        </a:rPr>
                        <a:t>叶肉、果肉等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0099"/>
                          </a:solidFill>
                          <a:latin typeface="Arial"/>
                          <a:ea typeface="黑体"/>
                        </a:rPr>
                        <a:t>营养作用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cc"/>
                          </a:solidFill>
                          <a:latin typeface="Arial"/>
                          <a:ea typeface="黑体"/>
                        </a:rPr>
                        <a:t>分生组织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0099"/>
                          </a:solidFill>
                          <a:latin typeface="Arial"/>
                          <a:ea typeface="黑体"/>
                        </a:rPr>
                        <a:t>茎、根尖顶端等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0099"/>
                          </a:solidFill>
                          <a:latin typeface="Arial"/>
                          <a:ea typeface="黑体"/>
                        </a:rPr>
                        <a:t>细胞有分裂能力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cc"/>
                          </a:solidFill>
                          <a:latin typeface="Arial"/>
                          <a:ea typeface="黑体"/>
                        </a:rPr>
                        <a:t>输导组织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0099"/>
                          </a:solidFill>
                          <a:latin typeface="Arial"/>
                          <a:ea typeface="黑体"/>
                        </a:rPr>
                        <a:t>导管、筛管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0099"/>
                          </a:solidFill>
                          <a:latin typeface="Arial"/>
                          <a:ea typeface="黑体"/>
                        </a:rPr>
                        <a:t>输导水分、无机盐、有机物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5972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Arial"/>
                          <a:ea typeface="黑体"/>
                        </a:rPr>
                        <a:t>人体基本组织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cc"/>
                          </a:solidFill>
                          <a:latin typeface="Arial"/>
                          <a:ea typeface="黑体"/>
                        </a:rPr>
                        <a:t>上皮组织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0099"/>
                          </a:solidFill>
                          <a:latin typeface="Arial"/>
                          <a:ea typeface="黑体"/>
                        </a:rPr>
                        <a:t>皮肤的表皮层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0099"/>
                          </a:solidFill>
                          <a:latin typeface="Arial"/>
                          <a:ea typeface="黑体"/>
                        </a:rPr>
                        <a:t>保护、分泌功能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80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cc"/>
                          </a:solidFill>
                          <a:latin typeface="Arial"/>
                          <a:ea typeface="黑体"/>
                        </a:rPr>
                        <a:t>结缔组织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0099"/>
                          </a:solidFill>
                          <a:latin typeface="Arial"/>
                          <a:ea typeface="黑体"/>
                        </a:rPr>
                        <a:t>血液、骨、脂肪等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0099"/>
                          </a:solidFill>
                          <a:latin typeface="Arial"/>
                          <a:ea typeface="黑体"/>
                        </a:rPr>
                        <a:t>营养、连接、支持、保护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cc"/>
                          </a:solidFill>
                          <a:latin typeface="Arial"/>
                          <a:ea typeface="黑体"/>
                        </a:rPr>
                        <a:t>肌肉组织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0099"/>
                          </a:solidFill>
                          <a:latin typeface="Arial"/>
                          <a:ea typeface="黑体"/>
                        </a:rPr>
                        <a:t>骨骼肌等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0099"/>
                          </a:solidFill>
                          <a:latin typeface="Arial"/>
                          <a:ea typeface="黑体"/>
                        </a:rPr>
                        <a:t>运动功能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90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cc"/>
                          </a:solidFill>
                          <a:latin typeface="Arial"/>
                          <a:ea typeface="黑体"/>
                        </a:rPr>
                        <a:t>神经组织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0099"/>
                          </a:solidFill>
                          <a:latin typeface="Arial"/>
                          <a:ea typeface="黑体"/>
                        </a:rPr>
                        <a:t>脑、脊髓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0099"/>
                          </a:solidFill>
                          <a:latin typeface="Arial"/>
                          <a:ea typeface="黑体"/>
                        </a:rPr>
                        <a:t>接受刺激、产生兴奋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0099"/>
                          </a:solidFill>
                          <a:latin typeface="Arial"/>
                          <a:ea typeface="黑体"/>
                        </a:rPr>
                        <a:t>传导兴奋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-324000" y="-4572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肿瘤的形成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细胞分裂受遗传物质的控制。正常情况下，分裂产生的细胞按一定的规律，循序渐进的分化，不久就变成成熟细胞，不在分裂。但是有时候细胞分裂可能会在各种因素的影响下失去控制，不断分裂而不分化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例如：癌细胞，就具有很强的增生能力，会很快形成癌组织，长成恶性肿瘤，危害生物体健康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达标检测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动物细胞分裂的最后一步是在原细胞的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中央形成新的（ 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A.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细胞壁                           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B.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细胞膜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C.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细胞壁和细胞膜           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D.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细胞核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与植物长大关系最密切的是（ 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A.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细胞生长与分化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B.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细胞的分裂与分化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C.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液泡的增大与增多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D.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细胞的分裂与生长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132000" y="256536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940360" y="4365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1680" y="299160"/>
            <a:ext cx="8540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1680" y="907920"/>
            <a:ext cx="8540640" cy="51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细胞分化得过程是指（ 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A.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细胞体积增大 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B.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细胞之间相互连接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C.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细胞恢复分裂能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D.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细胞形态、结构、功能向特定方向发展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4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下列与番茄得正常生长发育密切相关的生理过程是（ 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A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细胞的分裂   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B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细胞的分化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C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细胞的生长   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D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以上三项都是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643280" y="98100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95640" y="386064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你的收获有那些？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a77"/>
                </a:solidFill>
                <a:latin typeface="华文新魏"/>
                <a:ea typeface="华文新魏"/>
              </a:rPr>
              <a:t>细胞分裂使细胞</a:t>
            </a:r>
            <a:r>
              <a:rPr b="0" lang="zh-CN" sz="4800" spc="-1" strike="noStrike" u="sng">
                <a:solidFill>
                  <a:srgbClr val="007a77"/>
                </a:solidFill>
                <a:uFillTx/>
                <a:latin typeface="华文新魏"/>
                <a:ea typeface="华文新魏"/>
              </a:rPr>
              <a:t>数目增多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a77"/>
                </a:solidFill>
                <a:latin typeface="华文新魏"/>
                <a:ea typeface="华文新魏"/>
              </a:rPr>
              <a:t>细胞生长能使细胞</a:t>
            </a:r>
            <a:r>
              <a:rPr b="0" lang="zh-CN" sz="4800" spc="-1" strike="noStrike" u="sng">
                <a:solidFill>
                  <a:srgbClr val="007a77"/>
                </a:solidFill>
                <a:uFillTx/>
                <a:latin typeface="华文新魏"/>
                <a:ea typeface="华文新魏"/>
              </a:rPr>
              <a:t>体积增大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a77"/>
                </a:solidFill>
                <a:latin typeface="华文新魏"/>
                <a:ea typeface="华文新魏"/>
              </a:rPr>
              <a:t>细胞数目增多，体积增大，生物体也 就会不断地长大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a77"/>
                </a:solidFill>
                <a:latin typeface="华文新魏"/>
                <a:ea typeface="华文新魏"/>
              </a:rPr>
              <a:t>细胞分化形成</a:t>
            </a:r>
            <a:r>
              <a:rPr b="0" lang="zh-CN" sz="4800" spc="-1" strike="noStrike" u="sng">
                <a:solidFill>
                  <a:srgbClr val="007a77"/>
                </a:solidFill>
                <a:uFillTx/>
                <a:latin typeface="华文新魏"/>
                <a:ea typeface="华文新魏"/>
              </a:rPr>
              <a:t>组织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小结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540640" cy="41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细胞的分裂与分化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780000" y="3500280"/>
            <a:ext cx="287280" cy="1800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24360" y="335772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细胞分裂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995640" y="4941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细胞分化与组织形成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219640" y="2997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细胞核、细胞质变化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219640" y="4437000"/>
            <a:ext cx="287280" cy="1800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003640" y="2421000"/>
            <a:ext cx="287640" cy="1800000"/>
          </a:xfrm>
          <a:custGeom>
            <a:avLst/>
            <a:gdLst>
              <a:gd name="textAreaLeft" fmla="*/ 183960 w 287640"/>
              <a:gd name="textAreaRight" fmla="*/ 288000 w 287640"/>
              <a:gd name="textAreaTop" fmla="*/ 46800 h 1800000"/>
              <a:gd name="textAreaBottom" fmla="*/ 1753200 h 180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292720" y="2276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概念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364000" y="3789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意义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51640" y="429264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细胞分化、组织的概念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796000" y="486900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植物体的主要组织及其功能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724360" y="5661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人体的基本组织及其功能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4000" y="549360"/>
            <a:ext cx="7488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受精卵发育基本过程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755640" y="1197000"/>
            <a:ext cx="7777080" cy="49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通过上网、看报刊查阅有关“细胞分裂与分化”、“细胞分裂与癌变”、及有关“基因研究方面的新进展”的知识。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课外延伸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-324000" y="0"/>
            <a:ext cx="975384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3240" y="260280"/>
            <a:ext cx="1003320" cy="38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7a77"/>
                </a:solidFill>
                <a:latin typeface="Arial"/>
              </a:rPr>
              <a:t>谢谢再见！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种子发芽生长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55640" y="2421000"/>
            <a:ext cx="763272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细胞分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生物体一般都有生长现象，即能由小长大。例如，一株幼小的苹果树苗会长成枝叶繁茂的苹果树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你想过没有生物体为什么能够由小变大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生物体变大原因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9640" y="2420640"/>
            <a:ext cx="2772000" cy="5763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cc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细胞数目增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80000" y="2421000"/>
            <a:ext cx="309564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Times New Roman"/>
                <a:ea typeface="黑体"/>
              </a:rPr>
              <a:t>细胞分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3780000" y="2781360"/>
            <a:ext cx="1512720" cy="0"/>
          </a:xfrm>
          <a:prstGeom prst="line">
            <a:avLst/>
          </a:prstGeom>
          <a:ln w="5724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8360" y="4365720"/>
            <a:ext cx="3168720" cy="5760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黑体"/>
              </a:rPr>
              <a:t>细胞体积增大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4292640"/>
            <a:ext cx="302400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Times New Roman"/>
                <a:ea typeface="黑体"/>
              </a:rPr>
              <a:t>细胞生长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3780000" y="4653000"/>
            <a:ext cx="1512720" cy="0"/>
          </a:xfrm>
          <a:prstGeom prst="line">
            <a:avLst/>
          </a:prstGeom>
          <a:ln w="5724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什么是细胞分裂呢？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细胞分裂是一个细胞分成两个细胞的过程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981000"/>
            <a:ext cx="3492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动动脑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1.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细胞分裂过程中变化最明显的是什么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2.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细胞分裂可分为哪两个基本的过程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3.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细胞分裂形成的两个细胞形态，结构相似吗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4.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动物细胞的分裂过程和植物细胞分裂过程有什么异同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植物细胞分裂示意图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187280" y="2565360"/>
            <a:ext cx="6697800" cy="24703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7T00:57:04Z</dcterms:created>
  <dc:creator>微软用户</dc:creator>
  <dc:description/>
  <dc:language>en-US</dc:language>
  <cp:lastModifiedBy>微软中国</cp:lastModifiedBy>
  <dcterms:modified xsi:type="dcterms:W3CDTF">2012-09-21T01:19:10Z</dcterms:modified>
  <cp:revision>17</cp:revision>
  <dc:subject/>
  <dc:title>细胞的分裂与分化</dc:title>
</cp:coreProperties>
</file>