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.jpeg" ContentType="image/jpeg"/>
  <Override PartName="/ppt/media/image3.jpeg" ContentType="image/jpeg"/>
  <Override PartName="/ppt/media/image30.jpeg" ContentType="image/jpeg"/>
  <Override PartName="/ppt/media/image27.jpeg" ContentType="image/jpeg"/>
  <Override PartName="/ppt/media/image6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31.gif" ContentType="image/gif"/>
  <Override PartName="/ppt/media/image11.jpeg" ContentType="image/jpeg"/>
  <Override PartName="/ppt/media/image5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440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6402240" cy="108576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6440"/>
                </a:solidFill>
                <a:latin typeface="Microsoft Sans Serif"/>
              </a:rPr>
              <a:t>Click to edit the title text format</a:t>
            </a:r>
            <a:endParaRPr b="1" lang="en-US" sz="36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0.jpeg"/><Relationship Id="rId7" Type="http://schemas.openxmlformats.org/officeDocument/2006/relationships/image" Target="../media/image19.jpeg"/><Relationship Id="rId8" Type="http://schemas.openxmlformats.org/officeDocument/2006/relationships/image" Target="../media/image13.png"/><Relationship Id="rId9" Type="http://schemas.openxmlformats.org/officeDocument/2006/relationships/image" Target="../media/image29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3120" cy="702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460440"/>
            <a:ext cx="7777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6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47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Unit 9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My favorite subject is scienc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4235400"/>
            <a:ext cx="7254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474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3895a"/>
                </a:solidFill>
                <a:latin typeface="Times New Roman"/>
              </a:rPr>
              <a:t>Nan Yuankou Schoo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3895a"/>
                </a:solidFill>
                <a:latin typeface="Times New Roman"/>
              </a:rPr>
              <a:t>By   Fang  Hongmei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3895a"/>
                </a:solidFill>
                <a:latin typeface="Times New Roman"/>
              </a:rPr>
              <a:t>Dec  13, 2013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2133720"/>
            <a:ext cx="6192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6920" y="2392200"/>
            <a:ext cx="626580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d474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Narrow"/>
              </a:rPr>
              <a:t>Welcome</a:t>
            </a:r>
            <a:endParaRPr b="0" lang="en-US" sz="9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13240" y="187488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411bc"/>
                </a:solidFill>
                <a:latin typeface="Times New Roman"/>
              </a:rPr>
              <a:t>Section A (1a--2d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03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25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朋友"/>
          <p:cNvPicPr/>
          <p:nvPr/>
        </p:nvPicPr>
        <p:blipFill>
          <a:blip r:embed="rId2"/>
          <a:stretch/>
        </p:blipFill>
        <p:spPr>
          <a:xfrm>
            <a:off x="2840040" y="2232000"/>
            <a:ext cx="2882880" cy="2448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/>
          <p:cNvSpPr/>
          <p:nvPr/>
        </p:nvSpPr>
        <p:spPr>
          <a:xfrm>
            <a:off x="395280" y="647640"/>
            <a:ext cx="3600360" cy="1440000"/>
          </a:xfrm>
          <a:prstGeom prst="wedgeRectCallout">
            <a:avLst>
              <a:gd name="adj1" fmla="val 36990"/>
              <a:gd name="adj2" fmla="val 78555"/>
            </a:avLst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’s your favorite subject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5075280" y="692280"/>
            <a:ext cx="1728720" cy="747720"/>
          </a:xfrm>
          <a:prstGeom prst="wedgeRectCallout">
            <a:avLst>
              <a:gd name="adj1" fmla="val -43388"/>
              <a:gd name="adj2" fmla="val 167064"/>
            </a:avLst>
          </a:prstGeom>
          <a:solidFill>
            <a:srgbClr val="ffffff"/>
          </a:solidFill>
          <a:ln w="19080">
            <a:solidFill>
              <a:srgbClr val="f86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cience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12000" y="1511280"/>
            <a:ext cx="2842920" cy="2808360"/>
            <a:chOff x="6012000" y="1511280"/>
            <a:chExt cx="2842920" cy="2808360"/>
          </a:xfrm>
        </p:grpSpPr>
        <p:sp>
          <p:nvSpPr>
            <p:cNvPr id="181" name="AutoShape 23"/>
            <p:cNvSpPr/>
            <p:nvPr/>
          </p:nvSpPr>
          <p:spPr>
            <a:xfrm>
              <a:off x="6012000" y="1511280"/>
              <a:ext cx="2842920" cy="2808360"/>
            </a:xfrm>
            <a:prstGeom prst="cloudCallout">
              <a:avLst>
                <a:gd name="adj1" fmla="val -70296"/>
                <a:gd name="adj2" fmla="val -15902"/>
              </a:avLst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2" name="Picture 16" descr="http://zxhq.org/Article/UploadFiles/200909/2009090123460374.jpg"/>
            <p:cNvPicPr/>
            <p:nvPr/>
          </p:nvPicPr>
          <p:blipFill>
            <a:blip r:embed="rId3"/>
            <a:stretch/>
          </p:blipFill>
          <p:spPr>
            <a:xfrm>
              <a:off x="6299640" y="2015280"/>
              <a:ext cx="2298600" cy="172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AutoShape 7"/>
          <p:cNvSpPr/>
          <p:nvPr/>
        </p:nvSpPr>
        <p:spPr>
          <a:xfrm>
            <a:off x="466560" y="4564080"/>
            <a:ext cx="2953080" cy="1413000"/>
          </a:xfrm>
          <a:prstGeom prst="wedgeRectCallout">
            <a:avLst>
              <a:gd name="adj1" fmla="val 41990"/>
              <a:gd name="adj2" fmla="val -87078"/>
            </a:avLst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y do you like science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06920" y="4535640"/>
            <a:ext cx="2664000" cy="1485720"/>
          </a:xfrm>
          <a:prstGeom prst="wedgeRectCallout">
            <a:avLst>
              <a:gd name="adj1" fmla="val -37546"/>
              <a:gd name="adj2" fmla="val -88888"/>
            </a:avLst>
          </a:prstGeom>
          <a:solidFill>
            <a:srgbClr val="ffffff"/>
          </a:solidFill>
          <a:ln w="19080">
            <a:solidFill>
              <a:srgbClr val="f86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cause it’s interesting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rcRect l="24632" t="0" r="26103" b="5236"/>
          <a:stretch/>
        </p:blipFill>
        <p:spPr>
          <a:xfrm>
            <a:off x="6222960" y="4511520"/>
            <a:ext cx="16257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95280" y="60948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A: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What is your favorite subject?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B: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My favorite subject is…    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A: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Why do you like it?           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B: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Because it’s…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>
            <a:lum bright="-6000"/>
          </a:blip>
          <a:srcRect l="7040" t="0" r="36656" b="5236"/>
          <a:stretch/>
        </p:blipFill>
        <p:spPr>
          <a:xfrm>
            <a:off x="4243320" y="2324160"/>
            <a:ext cx="144468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>
            <a:lum bright="6000"/>
          </a:blip>
          <a:srcRect l="21113" t="0" r="26103" b="1173"/>
          <a:stretch/>
        </p:blipFill>
        <p:spPr>
          <a:xfrm>
            <a:off x="1795320" y="4343400"/>
            <a:ext cx="1252800" cy="2225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17599" t="0" r="33142" b="16197"/>
          <a:stretch/>
        </p:blipFill>
        <p:spPr>
          <a:xfrm>
            <a:off x="3157560" y="4444920"/>
            <a:ext cx="1611360" cy="212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0"/>
            <a:ext cx="2743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Pair work</a:t>
            </a: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290760"/>
            <a:ext cx="11430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fun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745800">
            <a:off x="1804320" y="5009760"/>
            <a:ext cx="310032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interestin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375800">
            <a:off x="6756120" y="4343040"/>
            <a:ext cx="236196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excitin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707800">
            <a:off x="-98640" y="5089320"/>
            <a:ext cx="25146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relaxin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1120000">
            <a:off x="3048120" y="3511080"/>
            <a:ext cx="289548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importan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0425800">
            <a:off x="7055280" y="1164960"/>
            <a:ext cx="206352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useful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7" name="Picture 34" descr="5940087_100328086359_2"/>
          <p:cNvPicPr/>
          <p:nvPr/>
        </p:nvPicPr>
        <p:blipFill>
          <a:blip r:embed="rId6"/>
          <a:stretch/>
        </p:blipFill>
        <p:spPr>
          <a:xfrm>
            <a:off x="4856040" y="4486320"/>
            <a:ext cx="136692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20090411221201-922796193"/>
          <p:cNvPicPr/>
          <p:nvPr/>
        </p:nvPicPr>
        <p:blipFill>
          <a:blip r:embed="rId7"/>
          <a:stretch/>
        </p:blipFill>
        <p:spPr>
          <a:xfrm>
            <a:off x="5943600" y="2324160"/>
            <a:ext cx="1330200" cy="156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http://www.sjs.com.cn/images/col6/175.gif"/>
          <p:cNvPicPr/>
          <p:nvPr/>
        </p:nvPicPr>
        <p:blipFill>
          <a:blip r:embed="rId8"/>
          <a:stretch/>
        </p:blipFill>
        <p:spPr>
          <a:xfrm>
            <a:off x="7418520" y="2324160"/>
            <a:ext cx="1401480" cy="1511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4" descr="数学书封面"/>
          <p:cNvPicPr/>
          <p:nvPr/>
        </p:nvPicPr>
        <p:blipFill>
          <a:blip r:embed="rId9"/>
          <a:stretch/>
        </p:blipFill>
        <p:spPr>
          <a:xfrm>
            <a:off x="2660760" y="2324160"/>
            <a:ext cx="1388880" cy="12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1295280" y="2324160"/>
            <a:ext cx="1419480" cy="150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28440" y="2324160"/>
            <a:ext cx="150804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eas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4"/>
          <p:cNvSpPr/>
          <p:nvPr/>
        </p:nvSpPr>
        <p:spPr>
          <a:xfrm>
            <a:off x="142920" y="1486080"/>
            <a:ext cx="889308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1. Bob’s favorite day is ________.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2. Bob’s favorite subjects are ______________.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3. Bob’s P.E. teacher is _______.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4. Frank’s favorite day is _______. 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5. Bob thinks history is _______.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6. Frank thinks history is ___________. 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31640" y="-66600"/>
            <a:ext cx="2700360" cy="930240"/>
            <a:chOff x="431640" y="-66600"/>
            <a:chExt cx="2700360" cy="930240"/>
          </a:xfrm>
        </p:grpSpPr>
        <p:pic>
          <p:nvPicPr>
            <p:cNvPr id="205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431640" y="-66600"/>
              <a:ext cx="270036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7"/>
            <p:cNvSpPr/>
            <p:nvPr/>
          </p:nvSpPr>
          <p:spPr>
            <a:xfrm>
              <a:off x="431640" y="120960"/>
              <a:ext cx="258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Reading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7" name="Text Box 5"/>
          <p:cNvSpPr/>
          <p:nvPr/>
        </p:nvSpPr>
        <p:spPr>
          <a:xfrm>
            <a:off x="3349800" y="104760"/>
            <a:ext cx="56862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Read the dialogue in 2d. Then fill in the blanks.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900000" y="2781360"/>
            <a:ext cx="34736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P.E. and history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5038560" y="1533600"/>
            <a:ext cx="2052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Monday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5038560" y="3546360"/>
            <a:ext cx="19796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Mr. Hu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5362560" y="4032360"/>
            <a:ext cx="16556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Friday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580000" y="5524560"/>
            <a:ext cx="1692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boring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5038560" y="4759200"/>
            <a:ext cx="2522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interesting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4" name="Section A 2d" descr=""/>
          <p:cNvPicPr/>
          <p:nvPr/>
        </p:nvPicPr>
        <p:blipFill>
          <a:blip r:embed="rId3"/>
          <a:stretch/>
        </p:blipFill>
        <p:spPr>
          <a:xfrm>
            <a:off x="1044720" y="90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5263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920" y="12697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rank: Hi, Bob. How’s your day? 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Bob: It’s OK. I like Monday because I have 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P.E. and history. They’re my favorite 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subjects.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rank: Who’s your P.E. teacher?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Bob: Mr. Hu. He always plays games with </a:t>
            </a:r>
            <a:r>
              <a:rPr b="1" i="1" lang="zh-CN" sz="3600" spc="-1" strike="noStrike">
                <a:solidFill>
                  <a:srgbClr val="9900ff"/>
                </a:solidFill>
                <a:latin typeface="Times New Roman"/>
              </a:rPr>
              <a:t>us.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30240" y="-12600"/>
            <a:ext cx="2586240" cy="922320"/>
            <a:chOff x="-30240" y="-12600"/>
            <a:chExt cx="2586240" cy="922320"/>
          </a:xfrm>
        </p:grpSpPr>
        <p:pic>
          <p:nvPicPr>
            <p:cNvPr id="217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-30240" y="-12600"/>
              <a:ext cx="258624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7"/>
            <p:cNvSpPr/>
            <p:nvPr/>
          </p:nvSpPr>
          <p:spPr>
            <a:xfrm>
              <a:off x="-30240" y="173160"/>
              <a:ext cx="247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Pairwork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3851280" y="260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Role-play the conversation.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Oval 2"/>
          <p:cNvSpPr/>
          <p:nvPr/>
        </p:nvSpPr>
        <p:spPr>
          <a:xfrm>
            <a:off x="2556000" y="169920"/>
            <a:ext cx="1008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2d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64072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rank: That’s great. But why do you lik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tory?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t’s boring. 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Bob: Oh, I think history is interesting. 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What’s your favorite day?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rank: Friday.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Bob: Why?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rank: Because the next day is Saturday!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Bob: Ha ha! That’s for sure. I like Friday,</a:t>
            </a:r>
            <a:r>
              <a:rPr b="1" i="1" lang="zh-CN" sz="36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9900ff"/>
                </a:solidFill>
                <a:latin typeface="Times New Roman"/>
              </a:rPr>
              <a:t>too.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transition>
    <p:plus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26360" y="685800"/>
            <a:ext cx="129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474f"/>
                </a:solidFill>
                <a:latin typeface="Tahoma"/>
              </a:rPr>
              <a:t>小结 </a:t>
            </a:r>
            <a:r>
              <a:rPr b="1" lang="en-US" sz="4400" spc="-1" strike="noStrike">
                <a:solidFill>
                  <a:srgbClr val="ed474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5238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科目的名词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, P.E,  music, math, Chinese, geography, history    biolog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2895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4d4d4d"/>
                </a:solidFill>
                <a:latin typeface="Tahoma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述科目的形容词：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 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easy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ring, useful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ing,  difficul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ortant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635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个人喜好的表达法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ed474f"/>
                </a:solidFill>
                <a:latin typeface="Times New Roman"/>
                <a:ea typeface="Times New Roman"/>
              </a:rPr>
              <a:t>My favorit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or is red 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08720" y="1319040"/>
            <a:ext cx="637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your favorite subject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rite subject is history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r like history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it’s  interesting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your  history teacher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 Mr Hu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 you have  history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it on Friday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4360" y="53352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d474f"/>
                </a:solidFill>
                <a:latin typeface="Tahoma"/>
              </a:rPr>
              <a:t>小结 </a:t>
            </a:r>
            <a:r>
              <a:rPr b="1" lang="en-US" sz="4800" spc="-1" strike="noStrike">
                <a:solidFill>
                  <a:srgbClr val="ed474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1080" y="1418760"/>
            <a:ext cx="89280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1.Listen to activities1b,2a and 2b after class.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2.Recite the conversations of Section A (2c,2d)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3.Make a surve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about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our parents‘ favorite foo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ovie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/sport /T V show /city/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fruit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4.Make  your  school  schedule .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55640" y="549360"/>
            <a:ext cx="287964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Homework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Make a survey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828800"/>
          <a:ext cx="8915400" cy="256536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990720"/>
                <a:gridCol w="1143000"/>
                <a:gridCol w="990360"/>
                <a:gridCol w="1676520"/>
                <a:gridCol w="942840"/>
                <a:gridCol w="1114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cc00"/>
                          </a:solidFill>
                          <a:latin typeface="Microsoft Sans Serif"/>
                          <a:ea typeface="微软雅黑"/>
                        </a:rPr>
                        <a:t>                            </a:t>
                      </a:r>
                      <a:r>
                        <a:rPr b="0" lang="zh-CN" sz="3600" spc="-1" strike="noStrike">
                          <a:solidFill>
                            <a:srgbClr val="00cc00"/>
                          </a:solidFill>
                          <a:latin typeface="Arial Black"/>
                          <a:ea typeface="微软雅黑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cc00"/>
                          </a:solidFill>
                          <a:latin typeface="Arial Black"/>
                          <a:ea typeface="微软雅黑"/>
                        </a:rPr>
                        <a:t>Favorite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Microsoft Sans Serif"/>
                          <a:ea typeface="微软雅黑"/>
                        </a:rPr>
                        <a:t> 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food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color 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movie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TV Show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city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微软雅黑"/>
                        </a:rPr>
                        <a:t>fruit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00"/>
                          </a:solidFill>
                          <a:latin typeface="Microsoft Sans Serif"/>
                          <a:ea typeface="微软雅黑"/>
                        </a:rPr>
                        <a:t>Mom 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00"/>
                          </a:solidFill>
                          <a:latin typeface="Microsoft Sans Serif"/>
                          <a:ea typeface="微软雅黑"/>
                        </a:rPr>
                        <a:t>Dad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28600" y="4648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A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your mother’s favorite color?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9840" y="533412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B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favorite color is blue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3200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90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440"/>
                </a:solidFill>
                <a:latin typeface="Arial Black"/>
              </a:rPr>
              <a:t>How </a:t>
            </a: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well</a:t>
            </a:r>
            <a:r>
              <a:rPr b="0" lang="en-US" sz="3200" spc="-1" strike="noStrike">
                <a:solidFill>
                  <a:srgbClr val="f86440"/>
                </a:solidFill>
                <a:latin typeface="Arial Black"/>
              </a:rPr>
              <a:t> do you know your parent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762120" y="1523880"/>
          <a:ext cx="7846920" cy="4491000"/>
        </p:xfrm>
        <a:graphic>
          <a:graphicData uri="http://schemas.openxmlformats.org/drawingml/2006/table">
            <a:tbl>
              <a:tblPr/>
              <a:tblGrid>
                <a:gridCol w="609480"/>
                <a:gridCol w="1295640"/>
                <a:gridCol w="1523880"/>
                <a:gridCol w="1447920"/>
                <a:gridCol w="1523880"/>
                <a:gridCol w="14461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Mon.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Tues.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Wed.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Thurs.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Fri.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Microsoft Sans Serif"/>
                          <a:ea typeface="微软雅黑"/>
                        </a:rPr>
                        <a:t>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533600" cy="1273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38080" y="6858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 Black"/>
              </a:rPr>
              <a:t>Make  your  school  schedule (</a:t>
            </a:r>
            <a:r>
              <a:rPr b="1" lang="zh-CN" sz="3200" spc="-1" strike="noStrike">
                <a:solidFill>
                  <a:srgbClr val="993300"/>
                </a:solidFill>
                <a:latin typeface="Arial Black"/>
              </a:rPr>
              <a:t>课程表</a:t>
            </a:r>
            <a:r>
              <a:rPr b="1" lang="en-US" sz="3200" spc="-1" strike="noStrike">
                <a:solidFill>
                  <a:srgbClr val="993300"/>
                </a:solidFill>
                <a:latin typeface="Arial Black"/>
              </a:rPr>
              <a:t>) 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267080"/>
            <a:ext cx="784836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" y="47160"/>
            <a:ext cx="417492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zh-CN" sz="44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favorite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science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P.E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usic</a:t>
            </a:r>
            <a:br>
              <a:rPr sz="4400"/>
            </a:b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ath</a:t>
            </a:r>
            <a:br>
              <a:rPr sz="44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hinese</a:t>
            </a:r>
            <a:br>
              <a:rPr sz="4400"/>
            </a:br>
            <a:br>
              <a:rPr sz="4400"/>
            </a:br>
            <a:endParaRPr b="0" lang="en-US" sz="48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6520" y="-42840"/>
            <a:ext cx="4030920" cy="66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for  sure</a:t>
            </a: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47520"/>
            <a:ext cx="235116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Revision:</a:t>
            </a:r>
            <a:endParaRPr b="1" i="1" lang="en-US" sz="32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428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Microsoft Sans Serif"/>
            </a:endParaRPr>
          </a:p>
        </p:txBody>
      </p:sp>
      <p:sp>
        <p:nvSpPr>
          <p:cNvPr id="242" name=""/>
          <p:cNvSpPr txBox="1"/>
          <p:nvPr/>
        </p:nvSpPr>
        <p:spPr>
          <a:xfrm rot="240000">
            <a:off x="815760" y="1244160"/>
            <a:ext cx="729432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Times New Roman"/>
              </a:rPr>
              <a:t>Thanks for your coming!</a:t>
            </a:r>
            <a:endParaRPr b="1" i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seasons in the sun 抒情英文歌曲 推" descr=""/>
          <p:cNvPicPr/>
          <p:nvPr/>
        </p:nvPicPr>
        <p:blipFill>
          <a:blip r:embed="rId2"/>
          <a:stretch/>
        </p:blipFill>
        <p:spPr>
          <a:xfrm>
            <a:off x="523800" y="5821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9" dur="247075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9280" y="863640"/>
            <a:ext cx="345780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 P.E.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 art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science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 music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. math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. Chinese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7. geography 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 history ___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28720" y="981000"/>
            <a:ext cx="395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12720" y="1703520"/>
            <a:ext cx="43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32000" y="2349360"/>
            <a:ext cx="53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32000" y="3139920"/>
            <a:ext cx="43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908000" y="3786120"/>
            <a:ext cx="43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484360" y="4538520"/>
            <a:ext cx="43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916360" y="5184720"/>
            <a:ext cx="35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340000" y="5843520"/>
            <a:ext cx="5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Oval 2"/>
          <p:cNvSpPr/>
          <p:nvPr/>
        </p:nvSpPr>
        <p:spPr>
          <a:xfrm>
            <a:off x="539640" y="-36360"/>
            <a:ext cx="900360" cy="9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1a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1476360" y="166680"/>
            <a:ext cx="738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atch the words with the pictur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Picture 28" descr="49"/>
          <p:cNvPicPr/>
          <p:nvPr/>
        </p:nvPicPr>
        <p:blipFill>
          <a:blip r:embed="rId2"/>
          <a:stretch/>
        </p:blipFill>
        <p:spPr>
          <a:xfrm>
            <a:off x="3492360" y="981000"/>
            <a:ext cx="5604120" cy="583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1746360" y="1623960"/>
            <a:ext cx="6948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Rockwell Condensed"/>
              </a:rPr>
              <a:t>Listen and circle the subjects you hear in 1a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640" y="117360"/>
            <a:ext cx="2987640" cy="971640"/>
            <a:chOff x="485640" y="117360"/>
            <a:chExt cx="2987640" cy="971640"/>
          </a:xfrm>
        </p:grpSpPr>
        <p:pic>
          <p:nvPicPr>
            <p:cNvPr id="100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485640" y="117360"/>
              <a:ext cx="2987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7"/>
            <p:cNvSpPr/>
            <p:nvPr/>
          </p:nvSpPr>
          <p:spPr>
            <a:xfrm>
              <a:off x="485640" y="312120"/>
              <a:ext cx="285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Listening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2" name="Oval 2"/>
          <p:cNvSpPr/>
          <p:nvPr/>
        </p:nvSpPr>
        <p:spPr>
          <a:xfrm>
            <a:off x="755640" y="1469880"/>
            <a:ext cx="900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68360" y="3278160"/>
            <a:ext cx="8101080" cy="1520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.E.     art     science     music       math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inese          geography         histor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2916360" y="1625760"/>
            <a:ext cx="12240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1979640" y="3392640"/>
            <a:ext cx="93672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3203640" y="3390840"/>
            <a:ext cx="1655640" cy="65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5079960" y="3473280"/>
            <a:ext cx="1513080" cy="56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7093080" y="3392640"/>
            <a:ext cx="122400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Section A 1b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5574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图片11"/>
          <p:cNvPicPr/>
          <p:nvPr/>
        </p:nvPicPr>
        <p:blipFill>
          <a:blip r:embed="rId2"/>
          <a:stretch/>
        </p:blipFill>
        <p:spPr>
          <a:xfrm>
            <a:off x="1908000" y="4653000"/>
            <a:ext cx="2374920" cy="2370240"/>
          </a:xfrm>
          <a:prstGeom prst="rect">
            <a:avLst/>
          </a:prstGeom>
          <a:ln w="0">
            <a:noFill/>
          </a:ln>
        </p:spPr>
      </p:pic>
      <p:sp>
        <p:nvSpPr>
          <p:cNvPr id="111" name="Oval 2"/>
          <p:cNvSpPr/>
          <p:nvPr/>
        </p:nvSpPr>
        <p:spPr>
          <a:xfrm>
            <a:off x="828720" y="1125360"/>
            <a:ext cx="8985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1c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76360" y="0"/>
            <a:ext cx="2771640" cy="981000"/>
            <a:chOff x="576360" y="0"/>
            <a:chExt cx="2771640" cy="981000"/>
          </a:xfrm>
        </p:grpSpPr>
        <p:pic>
          <p:nvPicPr>
            <p:cNvPr id="113" name="Picture 6" descr="BAN_052"/>
            <p:cNvPicPr/>
            <p:nvPr/>
          </p:nvPicPr>
          <p:blipFill>
            <a:blip r:embed="rId3"/>
            <a:stretch/>
          </p:blipFill>
          <p:spPr>
            <a:xfrm>
              <a:off x="576360" y="0"/>
              <a:ext cx="27716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7"/>
            <p:cNvSpPr/>
            <p:nvPr/>
          </p:nvSpPr>
          <p:spPr>
            <a:xfrm>
              <a:off x="576360" y="197280"/>
              <a:ext cx="265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Pairwork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" name="AutoShape 7"/>
          <p:cNvSpPr/>
          <p:nvPr/>
        </p:nvSpPr>
        <p:spPr>
          <a:xfrm>
            <a:off x="826920" y="2365200"/>
            <a:ext cx="3456000" cy="1440000"/>
          </a:xfrm>
          <a:prstGeom prst="wedgeRectCallout">
            <a:avLst>
              <a:gd name="adj1" fmla="val 2472"/>
              <a:gd name="adj2" fmla="val 106064"/>
            </a:avLst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at’s your favorite subject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500720" y="2365200"/>
            <a:ext cx="4319280" cy="1368720"/>
          </a:xfrm>
          <a:prstGeom prst="wedgeRectCallout">
            <a:avLst>
              <a:gd name="adj1" fmla="val -2162"/>
              <a:gd name="adj2" fmla="val 87263"/>
            </a:avLst>
          </a:prstGeom>
          <a:solidFill>
            <a:srgbClr val="ffffff"/>
          </a:solidFill>
          <a:ln w="19080">
            <a:solidFill>
              <a:srgbClr val="f86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y favorite subject is art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2050920" y="981000"/>
            <a:ext cx="633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actice the conversation with your partner. Then make your own conversation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64000" y="4149720"/>
            <a:ext cx="2735280" cy="2399040"/>
            <a:chOff x="5364000" y="4149720"/>
            <a:chExt cx="2735280" cy="2399040"/>
          </a:xfrm>
        </p:grpSpPr>
        <p:pic>
          <p:nvPicPr>
            <p:cNvPr id="119" name="Picture 17" descr="http://filegh.17888.com/showimages/1343/a0050/b4fb308581325d456332039f5e6a7bd3.jpg"/>
            <p:cNvPicPr/>
            <p:nvPr/>
          </p:nvPicPr>
          <p:blipFill>
            <a:blip r:embed="rId4"/>
            <a:stretch/>
          </p:blipFill>
          <p:spPr>
            <a:xfrm>
              <a:off x="5796000" y="4431240"/>
              <a:ext cx="211284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云形标注 16"/>
            <p:cNvSpPr/>
            <p:nvPr/>
          </p:nvSpPr>
          <p:spPr>
            <a:xfrm>
              <a:off x="5364000" y="4149720"/>
              <a:ext cx="2735280" cy="2399040"/>
            </a:xfrm>
            <a:prstGeom prst="cloudCallout">
              <a:avLst>
                <a:gd name="adj1" fmla="val -74592"/>
                <a:gd name="adj2" fmla="val -652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3"/>
          <p:cNvSpPr/>
          <p:nvPr/>
        </p:nvSpPr>
        <p:spPr>
          <a:xfrm>
            <a:off x="388800" y="28544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11bc"/>
                </a:solidFill>
                <a:latin typeface="Times New Roman"/>
              </a:rPr>
              <a:t>Chinese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88800" y="57164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d474f"/>
                </a:solidFill>
                <a:latin typeface="Times New Roman"/>
              </a:rPr>
              <a:t>music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2268360" y="2854440"/>
            <a:ext cx="158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6440"/>
                </a:solidFill>
                <a:latin typeface="Times New Roman"/>
              </a:rPr>
              <a:t>math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651640" y="2855880"/>
            <a:ext cx="187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science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524720" y="2854440"/>
            <a:ext cx="115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.E.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716360" y="574056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11bc"/>
                </a:solidFill>
                <a:latin typeface="Times New Roman"/>
              </a:rPr>
              <a:t>history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2125800" y="5716440"/>
            <a:ext cx="223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7307280" y="5740560"/>
            <a:ext cx="100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art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Picture 21" descr="http://www.sjs.com.cn/images/col6/175.gif"/>
          <p:cNvPicPr/>
          <p:nvPr/>
        </p:nvPicPr>
        <p:blipFill>
          <a:blip r:embed="rId2"/>
          <a:stretch/>
        </p:blipFill>
        <p:spPr>
          <a:xfrm>
            <a:off x="7164360" y="1128600"/>
            <a:ext cx="1513080" cy="158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http://hiphotos.baidu.com/duanbowang/mpic/item/03f91d3fd3774cd17c1e710d.jpg"/>
          <p:cNvPicPr/>
          <p:nvPr/>
        </p:nvPicPr>
        <p:blipFill>
          <a:blip r:embed="rId3"/>
          <a:stretch/>
        </p:blipFill>
        <p:spPr>
          <a:xfrm>
            <a:off x="266760" y="3724200"/>
            <a:ext cx="1641240" cy="1847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3781440" y="2854440"/>
            <a:ext cx="187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5" descr="D:\红蜻蜓抓图\屏幕截图\截屏026.bmp"/>
          <p:cNvPicPr/>
          <p:nvPr/>
        </p:nvPicPr>
        <p:blipFill>
          <a:blip r:embed="rId4"/>
          <a:stretch/>
        </p:blipFill>
        <p:spPr>
          <a:xfrm>
            <a:off x="6875640" y="3743280"/>
            <a:ext cx="1801800" cy="1776600"/>
          </a:xfrm>
          <a:prstGeom prst="rect">
            <a:avLst/>
          </a:prstGeom>
          <a:ln w="19080">
            <a:solidFill>
              <a:srgbClr val="4d4d4d"/>
            </a:solidFill>
            <a:miter/>
          </a:ln>
          <a:effectLst>
            <a:outerShdw dist="50842" dir="611759" blurRad="0" rotWithShape="0">
              <a:srgbClr val="00b050">
                <a:alpha val="34000"/>
              </a:srgbClr>
            </a:outerShdw>
          </a:effectLst>
        </p:spPr>
      </p:pic>
      <p:pic>
        <p:nvPicPr>
          <p:cNvPr id="133" name="Picture 30" descr="语文书"/>
          <p:cNvPicPr/>
          <p:nvPr/>
        </p:nvPicPr>
        <p:blipFill>
          <a:blip r:embed="rId5"/>
          <a:stretch/>
        </p:blipFill>
        <p:spPr>
          <a:xfrm>
            <a:off x="593640" y="1130400"/>
            <a:ext cx="143820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数学书封面"/>
          <p:cNvPicPr/>
          <p:nvPr/>
        </p:nvPicPr>
        <p:blipFill>
          <a:blip r:embed="rId6"/>
          <a:stretch/>
        </p:blipFill>
        <p:spPr>
          <a:xfrm>
            <a:off x="2127240" y="1130400"/>
            <a:ext cx="16160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5966858"/>
          <p:cNvPicPr/>
          <p:nvPr/>
        </p:nvPicPr>
        <p:blipFill>
          <a:blip r:embed="rId7"/>
          <a:stretch/>
        </p:blipFill>
        <p:spPr>
          <a:xfrm>
            <a:off x="5500800" y="1128600"/>
            <a:ext cx="1514520" cy="15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20090411221201-922796193"/>
          <p:cNvPicPr/>
          <p:nvPr/>
        </p:nvPicPr>
        <p:blipFill>
          <a:blip r:embed="rId8"/>
          <a:stretch/>
        </p:blipFill>
        <p:spPr>
          <a:xfrm>
            <a:off x="2270160" y="3743280"/>
            <a:ext cx="2085840" cy="1832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5940087_100328086359_2"/>
          <p:cNvPicPr/>
          <p:nvPr/>
        </p:nvPicPr>
        <p:blipFill>
          <a:blip r:embed="rId9"/>
          <a:stretch/>
        </p:blipFill>
        <p:spPr>
          <a:xfrm>
            <a:off x="4546440" y="3724200"/>
            <a:ext cx="1982880" cy="1784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92200" y="104760"/>
            <a:ext cx="16761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8644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Times New Roman"/>
              </a:rPr>
              <a:t>Pairwork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8644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3451320" y="1128600"/>
            <a:ext cx="2049480" cy="1582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8"/>
          <p:cNvSpPr/>
          <p:nvPr/>
        </p:nvSpPr>
        <p:spPr>
          <a:xfrm>
            <a:off x="811080" y="961920"/>
            <a:ext cx="829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Listen and put th</a:t>
            </a:r>
            <a:r>
              <a:rPr b="1" i="1" lang="zh-CN" sz="3600" spc="-1" strike="noStrike">
                <a:solidFill>
                  <a:srgbClr val="800080"/>
                </a:solidFill>
                <a:latin typeface="Times New Roman"/>
              </a:rPr>
              <a:t>e </a:t>
            </a: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conversation</a:t>
            </a:r>
            <a:r>
              <a:rPr b="1" i="1" lang="zh-CN" sz="3600" spc="-1" strike="noStrike">
                <a:solidFill>
                  <a:srgbClr val="800080"/>
                </a:solidFill>
                <a:latin typeface="Times New Roman"/>
              </a:rPr>
              <a:t> in order.</a:t>
            </a: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95440" y="-49320"/>
            <a:ext cx="3058920" cy="914400"/>
            <a:chOff x="595440" y="-49320"/>
            <a:chExt cx="3058920" cy="914400"/>
          </a:xfrm>
        </p:grpSpPr>
        <p:pic>
          <p:nvPicPr>
            <p:cNvPr id="142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595440" y="-49320"/>
              <a:ext cx="305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7"/>
            <p:cNvSpPr/>
            <p:nvPr/>
          </p:nvSpPr>
          <p:spPr>
            <a:xfrm>
              <a:off x="595440" y="135000"/>
              <a:ext cx="292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Listening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44" name="Oval 2"/>
          <p:cNvSpPr/>
          <p:nvPr/>
        </p:nvSpPr>
        <p:spPr>
          <a:xfrm>
            <a:off x="19080" y="865080"/>
            <a:ext cx="75564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12" descr="E:\动作\1990.tif"/>
          <p:cNvPicPr/>
          <p:nvPr/>
        </p:nvPicPr>
        <p:blipFill>
          <a:blip r:embed="rId3"/>
          <a:stretch/>
        </p:blipFill>
        <p:spPr>
          <a:xfrm>
            <a:off x="3133800" y="3697200"/>
            <a:ext cx="3022560" cy="28717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2"/>
          <p:cNvSpPr/>
          <p:nvPr/>
        </p:nvSpPr>
        <p:spPr>
          <a:xfrm>
            <a:off x="3924360" y="2170080"/>
            <a:ext cx="5184720" cy="1297080"/>
          </a:xfrm>
          <a:prstGeom prst="wedgeRectCallout">
            <a:avLst>
              <a:gd name="adj1" fmla="val -20175"/>
              <a:gd name="adj2" fmla="val 94856"/>
            </a:avLst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at’s your favorite subject?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AutoShape 23"/>
          <p:cNvSpPr/>
          <p:nvPr/>
        </p:nvSpPr>
        <p:spPr>
          <a:xfrm>
            <a:off x="92160" y="4133880"/>
            <a:ext cx="2968560" cy="2016000"/>
          </a:xfrm>
          <a:prstGeom prst="wedgeRectCallout">
            <a:avLst>
              <a:gd name="adj1" fmla="val 66388"/>
              <a:gd name="adj2" fmla="val -12990"/>
            </a:avLst>
          </a:prstGeom>
          <a:solidFill>
            <a:srgbClr val="ffffff"/>
          </a:solidFill>
          <a:ln w="19080">
            <a:solidFill>
              <a:srgbClr val="f86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y favorite subject is P.E. 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AutoShape 22"/>
          <p:cNvSpPr/>
          <p:nvPr/>
        </p:nvSpPr>
        <p:spPr>
          <a:xfrm>
            <a:off x="6156360" y="4133880"/>
            <a:ext cx="2952720" cy="1368360"/>
          </a:xfrm>
          <a:prstGeom prst="wedgeRectCallout">
            <a:avLst>
              <a:gd name="adj1" fmla="val -66337"/>
              <a:gd name="adj2" fmla="val 3828"/>
            </a:avLst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y do you like P.E.?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92160" y="2228760"/>
            <a:ext cx="2752560" cy="1384560"/>
          </a:xfrm>
          <a:prstGeom prst="wedgeRectCallout">
            <a:avLst>
              <a:gd name="adj1" fmla="val 85162"/>
              <a:gd name="adj2" fmla="val 66898"/>
            </a:avLst>
          </a:prstGeom>
          <a:solidFill>
            <a:srgbClr val="ffffff"/>
          </a:solidFill>
          <a:ln w="19080">
            <a:solidFill>
              <a:srgbClr val="f86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ecause it’s fun. </a:t>
            </a:r>
            <a:endParaRPr b="0" lang="en-US" sz="3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8388360" y="2228760"/>
            <a:ext cx="720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8389800" y="4905360"/>
            <a:ext cx="71928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矩形 19"/>
          <p:cNvSpPr/>
          <p:nvPr/>
        </p:nvSpPr>
        <p:spPr>
          <a:xfrm>
            <a:off x="2125800" y="3013200"/>
            <a:ext cx="71892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矩形 20"/>
          <p:cNvSpPr/>
          <p:nvPr/>
        </p:nvSpPr>
        <p:spPr>
          <a:xfrm>
            <a:off x="2268360" y="5551560"/>
            <a:ext cx="79236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2413080" y="5573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8388360" y="4924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2265480" y="31179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7" name="Section A 2a" descr=""/>
          <p:cNvPicPr/>
          <p:nvPr/>
        </p:nvPicPr>
        <p:blipFill>
          <a:blip r:embed="rId4"/>
          <a:stretch/>
        </p:blipFill>
        <p:spPr>
          <a:xfrm>
            <a:off x="863640" y="10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235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4"/>
          <p:cNvSpPr/>
          <p:nvPr/>
        </p:nvSpPr>
        <p:spPr>
          <a:xfrm>
            <a:off x="2916360" y="-2844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Listen and match the subjects you hear with the description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360" y="-258840"/>
            <a:ext cx="2087640" cy="1074960"/>
            <a:chOff x="36360" y="-258840"/>
            <a:chExt cx="2087640" cy="1074960"/>
          </a:xfrm>
        </p:grpSpPr>
        <p:pic>
          <p:nvPicPr>
            <p:cNvPr id="160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36360" y="-258840"/>
              <a:ext cx="2087640" cy="10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36360" y="-42480"/>
              <a:ext cx="199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DotumChe"/>
                </a:rPr>
                <a:t>Listening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2" name="Oval 2"/>
          <p:cNvSpPr/>
          <p:nvPr/>
        </p:nvSpPr>
        <p:spPr>
          <a:xfrm>
            <a:off x="2124000" y="117360"/>
            <a:ext cx="649440" cy="69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Section A 2b" descr=""/>
          <p:cNvPicPr/>
          <p:nvPr/>
        </p:nvPicPr>
        <p:blipFill>
          <a:blip r:embed="rId3"/>
          <a:stretch/>
        </p:blipFill>
        <p:spPr>
          <a:xfrm>
            <a:off x="395280" y="11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1"/>
          <p:cNvSpPr/>
          <p:nvPr/>
        </p:nvSpPr>
        <p:spPr>
          <a:xfrm>
            <a:off x="179280" y="1165320"/>
            <a:ext cx="2737080" cy="524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ubjec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1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ar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2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scien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3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music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P.E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5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math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6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geograph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history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4932360" y="1165320"/>
            <a:ext cx="3240000" cy="477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buClr>
                <a:srgbClr val="80008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fu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b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interest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c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bor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d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difficul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e.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relax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V="1">
            <a:off x="1979640" y="2637000"/>
            <a:ext cx="3457440" cy="151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773440" y="4868640"/>
            <a:ext cx="24462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V="1">
            <a:off x="2124000" y="4149360"/>
            <a:ext cx="3313080" cy="208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2451240" y="3483000"/>
            <a:ext cx="2985840" cy="217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5538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2383200" y="27432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274680"/>
            <a:ext cx="3276720" cy="952920"/>
            <a:chOff x="457200" y="274680"/>
            <a:chExt cx="3276720" cy="952920"/>
          </a:xfrm>
        </p:grpSpPr>
        <p:pic>
          <p:nvPicPr>
            <p:cNvPr id="173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327672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7"/>
            <p:cNvSpPr/>
            <p:nvPr/>
          </p:nvSpPr>
          <p:spPr>
            <a:xfrm>
              <a:off x="457200" y="463320"/>
              <a:ext cx="313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隶书"/>
                </a:rPr>
                <a:t> 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隶书"/>
                </a:rPr>
                <a:t>Pairwork</a:t>
              </a:r>
              <a:endParaRPr b="0" lang="en-US" sz="4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5" name="Text Box 21"/>
          <p:cNvSpPr/>
          <p:nvPr/>
        </p:nvSpPr>
        <p:spPr>
          <a:xfrm>
            <a:off x="2340000" y="2208240"/>
            <a:ext cx="6408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hat do you think of the subjects above? Make your own conversations using the words in 2b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Oval 2"/>
          <p:cNvSpPr/>
          <p:nvPr/>
        </p:nvSpPr>
        <p:spPr>
          <a:xfrm>
            <a:off x="1187280" y="2425680"/>
            <a:ext cx="9003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方红梅</dc:creator>
  <dc:description/>
  <dc:language>en-US</dc:language>
  <cp:lastModifiedBy>User</cp:lastModifiedBy>
  <dcterms:modified xsi:type="dcterms:W3CDTF">2013-12-23T11:08:23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