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36.gif" ContentType="image/gif"/>
  <Override PartName="/ppt/media/image26.gif" ContentType="image/gif"/>
  <Override PartName="/ppt/media/image20.jpeg" ContentType="image/jpeg"/>
  <Override PartName="/ppt/media/image23.jpeg" ContentType="image/jpeg"/>
  <Override PartName="/ppt/media/image21.png" ContentType="image/png"/>
  <Override PartName="/ppt/media/image19.jpeg" ContentType="image/jpeg"/>
  <Override PartName="/ppt/media/image2.gif" ContentType="image/gif"/>
  <Override PartName="/ppt/media/image32.gif" ContentType="image/gif"/>
  <Override PartName="/ppt/media/image17.jpeg" ContentType="image/jpeg"/>
  <Override PartName="/ppt/media/image16.jpeg" ContentType="image/jpeg"/>
  <Override PartName="/ppt/media/image15.jpeg" ContentType="image/jpeg"/>
  <Override PartName="/ppt/media/image18.jpeg" ContentType="image/jpeg"/>
  <Override PartName="/ppt/media/image8.gif" ContentType="image/gif"/>
  <Override PartName="/ppt/media/image42.png" ContentType="image/png"/>
  <Override PartName="/ppt/media/image9.jpeg" ContentType="image/jpeg"/>
  <Override PartName="/ppt/media/image13.jpeg" ContentType="image/jpeg"/>
  <Override PartName="/ppt/media/image30.gif" ContentType="image/gif"/>
  <Override PartName="/ppt/media/image5.gif" ContentType="image/gif"/>
  <Override PartName="/ppt/media/image14.jpeg" ContentType="image/jpeg"/>
  <Override PartName="/ppt/media/image28.gif" ContentType="image/gif"/>
  <Override PartName="/ppt/media/image35.png" ContentType="image/png"/>
  <Override PartName="/ppt/media/image37.gif" ContentType="image/gif"/>
  <Override PartName="/ppt/media/image7.gif" ContentType="image/gif"/>
  <Override PartName="/ppt/media/image38.wmf" ContentType="image/x-wmf"/>
  <Override PartName="/ppt/media/image40.wmf" ContentType="image/x-wmf"/>
  <Override PartName="/ppt/media/image39.wmf" ContentType="image/x-wmf"/>
  <Override PartName="/ppt/media/image41.png" ContentType="image/png"/>
  <Override PartName="/ppt/media/image10.jpeg" ContentType="image/jpeg"/>
  <Override PartName="/ppt/media/image25.gif" ContentType="image/gif"/>
  <Override PartName="/ppt/media/image33.jpeg" ContentType="image/jpeg"/>
  <Override PartName="/ppt/media/image4.gif" ContentType="image/gif"/>
  <Override PartName="/ppt/media/image22.jpeg" ContentType="image/jpeg"/>
  <Override PartName="/ppt/media/image27.gif" ContentType="image/gif"/>
  <Override PartName="/ppt/media/image34.png" ContentType="image/png"/>
  <Override PartName="/ppt/media/image12.jpeg" ContentType="image/jpeg"/>
  <Override PartName="/ppt/media/image3.jpeg" ContentType="image/jpe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B340-9046-4630-94C9-0187E70A7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A74B-E90B-4AEF-AD9B-0698FAB1F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A7C7-98C2-48CE-95B8-61D98BABA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31D3-A5C7-4781-9281-6ECA84718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F5E3-C08B-4754-A474-90CC7A8DB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A606-591B-4BE2-9A7B-DD286940E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BA34-5910-46B0-955E-4DB4FAF1E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B9EC-CCC2-42D1-8F53-9A21EBA73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0162-7C85-43A0-9005-3645DAE49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C708-275F-4369-9F29-A4882844B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B00F-46D3-4E98-8BEE-9466DBC9C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EFB3-CDF9-4A15-93D3-7EC5C0610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52BB4-679C-4132-8F23-7E953E34922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2.gif"/><Relationship Id="rId3" Type="http://schemas.openxmlformats.org/officeDocument/2006/relationships/image" Target="../media/image32.gi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hyperlink" Target="file:///../../&#30446;&#24405;.ppt" TargetMode="External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3" descr="框"/>
          <p:cNvPicPr/>
          <p:nvPr/>
        </p:nvPicPr>
        <p:blipFill>
          <a:blip r:embed="rId1"/>
          <a:stretch/>
        </p:blipFill>
        <p:spPr>
          <a:xfrm>
            <a:off x="2484360" y="1125360"/>
            <a:ext cx="6048360" cy="222732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16"/>
          <p:cNvSpPr/>
          <p:nvPr/>
        </p:nvSpPr>
        <p:spPr>
          <a:xfrm>
            <a:off x="1949400" y="1341360"/>
            <a:ext cx="7086600" cy="18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Unit 8  When is your birth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Gulim"/>
              </a:rPr>
              <a:t>Section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698920" y="3716280"/>
            <a:ext cx="2449440" cy="20210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867280" y="3914640"/>
            <a:ext cx="2232000" cy="1675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0" y="2708280"/>
            <a:ext cx="3144960" cy="29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236000" y="692280"/>
            <a:ext cx="1326960" cy="2016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82560" y="1125360"/>
            <a:ext cx="6769080" cy="43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st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nd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rd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4th      5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6th      7th      8th       9th     10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11th    12th    13th     14th   15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16th    17th    18th     19th   20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21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st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22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nd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23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rd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24th   25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26th    27th    28th     29th   30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                         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31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755640" y="907920"/>
            <a:ext cx="7632720" cy="49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ff"/>
                </a:solidFill>
                <a:latin typeface="Times New Roman"/>
                <a:ea typeface="Gulim"/>
              </a:rPr>
              <a:t> </a:t>
            </a:r>
            <a:r>
              <a:rPr b="1" lang="zh-CN" sz="2400" spc="-1" strike="noStrike">
                <a:solidFill>
                  <a:srgbClr val="cc00ff"/>
                </a:solidFill>
                <a:latin typeface="Times New Roman"/>
                <a:ea typeface="Gulim"/>
              </a:rPr>
              <a:t>1a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Gulim"/>
              </a:rPr>
              <a:t> Listen and repeat. </a:t>
            </a:r>
            <a:br>
              <a:rPr sz="2400"/>
            </a:b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Gulim"/>
              </a:rPr>
              <a:t>MONTHS</a:t>
            </a:r>
            <a:br>
              <a:rPr sz="2400"/>
            </a:b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Gulim"/>
              </a:rPr>
              <a:t>1. January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Gulim"/>
              </a:rPr>
              <a:t>2. February</a:t>
            </a:r>
            <a:br>
              <a:rPr sz="2400"/>
            </a:b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Gulim"/>
              </a:rPr>
              <a:t>3. March</a:t>
            </a:r>
            <a:br>
              <a:rPr sz="2400"/>
            </a:b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Gulim"/>
              </a:rPr>
              <a:t>4. April</a:t>
            </a:r>
            <a:br>
              <a:rPr sz="2400"/>
            </a:b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Gulim"/>
              </a:rPr>
              <a:t>5. M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755640" y="853920"/>
            <a:ext cx="7632720" cy="49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Gulim"/>
              </a:rPr>
              <a:t>6. June</a:t>
            </a:r>
            <a:br>
              <a:rPr sz="2400"/>
            </a:b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Gulim"/>
              </a:rPr>
              <a:t>7. July</a:t>
            </a:r>
            <a:br>
              <a:rPr sz="2400"/>
            </a:b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Gulim"/>
              </a:rPr>
              <a:t>8. August</a:t>
            </a:r>
            <a:br>
              <a:rPr sz="2400"/>
            </a:b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Gulim"/>
              </a:rPr>
              <a:t>9. September</a:t>
            </a:r>
            <a:br>
              <a:rPr sz="2400"/>
            </a:b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Gulim"/>
              </a:rPr>
              <a:t>10. October</a:t>
            </a:r>
            <a:br>
              <a:rPr sz="2400"/>
            </a:b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Gulim"/>
              </a:rPr>
              <a:t>11. November</a:t>
            </a:r>
            <a:br>
              <a:rPr sz="2400"/>
            </a:b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Gulim"/>
              </a:rPr>
              <a:t>12. Dec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4"/>
          <p:cNvSpPr/>
          <p:nvPr/>
        </p:nvSpPr>
        <p:spPr>
          <a:xfrm>
            <a:off x="1979640" y="1701720"/>
            <a:ext cx="5473800" cy="12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: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en is your birthday, Lind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B: My birthday is on October 2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1979640" y="2997360"/>
            <a:ext cx="5688000" cy="13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: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en is your birthday, Mary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B: It’s on January 5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3"/>
          <p:cNvSpPr/>
          <p:nvPr/>
        </p:nvSpPr>
        <p:spPr>
          <a:xfrm>
            <a:off x="1187280" y="3357720"/>
            <a:ext cx="576360" cy="6681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5"/>
          <p:cNvSpPr/>
          <p:nvPr/>
        </p:nvSpPr>
        <p:spPr>
          <a:xfrm>
            <a:off x="1187280" y="4869000"/>
            <a:ext cx="576360" cy="6681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6"/>
          <p:cNvSpPr/>
          <p:nvPr/>
        </p:nvSpPr>
        <p:spPr>
          <a:xfrm>
            <a:off x="1187280" y="1917720"/>
            <a:ext cx="576360" cy="6681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7"/>
          <p:cNvSpPr/>
          <p:nvPr/>
        </p:nvSpPr>
        <p:spPr>
          <a:xfrm>
            <a:off x="1187280" y="192564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Gulim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8"/>
          <p:cNvSpPr/>
          <p:nvPr/>
        </p:nvSpPr>
        <p:spPr>
          <a:xfrm>
            <a:off x="1187280" y="335772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Gulim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9"/>
          <p:cNvSpPr/>
          <p:nvPr/>
        </p:nvSpPr>
        <p:spPr>
          <a:xfrm>
            <a:off x="1187280" y="4869000"/>
            <a:ext cx="5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Gulim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-3068" b="6716"/>
          <a:stretch/>
        </p:blipFill>
        <p:spPr>
          <a:xfrm>
            <a:off x="7164360" y="4508640"/>
            <a:ext cx="1224000" cy="10810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468360" y="102708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Times New Roman"/>
              </a:rPr>
              <a:t>1b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Listen and number the conversations[1-3]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79640" y="4508640"/>
            <a:ext cx="496872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: When is your birthday, Mik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B: My birthday is on June 3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5" descr="7a64ca8a3e205037c8fc7aa9"/>
          <p:cNvPicPr/>
          <p:nvPr/>
        </p:nvPicPr>
        <p:blipFill>
          <a:blip r:embed="rId1"/>
          <a:stretch/>
        </p:blipFill>
        <p:spPr>
          <a:xfrm>
            <a:off x="2846520" y="3790800"/>
            <a:ext cx="3165480" cy="2374920"/>
          </a:xfrm>
          <a:prstGeom prst="rect">
            <a:avLst/>
          </a:prstGeom>
          <a:ln w="0">
            <a:noFill/>
          </a:ln>
        </p:spPr>
      </p:pic>
      <p:sp>
        <p:nvSpPr>
          <p:cNvPr id="137" name="AutoShape 6"/>
          <p:cNvSpPr/>
          <p:nvPr/>
        </p:nvSpPr>
        <p:spPr>
          <a:xfrm>
            <a:off x="831960" y="2421000"/>
            <a:ext cx="3235320" cy="1368360"/>
          </a:xfrm>
          <a:prstGeom prst="cloudCallout">
            <a:avLst>
              <a:gd name="adj1" fmla="val 37439"/>
              <a:gd name="adj2" fmla="val 106611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7"/>
          <p:cNvSpPr/>
          <p:nvPr/>
        </p:nvSpPr>
        <p:spPr>
          <a:xfrm>
            <a:off x="5580000" y="2276640"/>
            <a:ext cx="2737080" cy="1584000"/>
          </a:xfrm>
          <a:prstGeom prst="wedgeEllipseCallout">
            <a:avLst>
              <a:gd name="adj1" fmla="val -39615"/>
              <a:gd name="adj2" fmla="val 106513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Gulim"/>
              </a:rPr>
              <a:t>My birthday is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Gulim"/>
              </a:rPr>
              <a:t>January 5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5280" y="476280"/>
            <a:ext cx="828036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Times New Roman"/>
              </a:rPr>
              <a:t>1c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Practice the conversations above with your partn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Then make your own convers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187280" y="2421000"/>
            <a:ext cx="286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Gulim"/>
              </a:rPr>
              <a:t>When is y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Gulim"/>
              </a:rPr>
              <a:t>birthday, Mar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5"/>
          <p:cNvSpPr/>
          <p:nvPr/>
        </p:nvSpPr>
        <p:spPr>
          <a:xfrm>
            <a:off x="2268360" y="1916280"/>
            <a:ext cx="1665360" cy="34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4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i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co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i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our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if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6588000" y="1844640"/>
            <a:ext cx="170028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ix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ven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igh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in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en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40" y="110016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请将基数词转换成序数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4360" y="1916280"/>
            <a:ext cx="199836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w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f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f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18000" y="1773360"/>
            <a:ext cx="199872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4"/>
          <p:cNvSpPr/>
          <p:nvPr/>
        </p:nvSpPr>
        <p:spPr>
          <a:xfrm>
            <a:off x="3492360" y="17082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Times New Roman"/>
              </a:rPr>
              <a:t>eleven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3492360" y="314784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Times New Roman"/>
              </a:rPr>
              <a:t>thirteen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3492360" y="386712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Times New Roman"/>
              </a:rPr>
              <a:t>fourteen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3492360" y="4660920"/>
            <a:ext cx="301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Times New Roman"/>
              </a:rPr>
              <a:t>fifteen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3492360" y="2427120"/>
            <a:ext cx="13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ff"/>
                </a:solidFill>
                <a:latin typeface="Times New Roman"/>
              </a:rPr>
              <a:t>twelf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" descr="6_1105584051"/>
          <p:cNvPicPr/>
          <p:nvPr/>
        </p:nvPicPr>
        <p:blipFill>
          <a:blip r:embed="rId1"/>
          <a:srcRect l="81964" t="0" r="0" b="818"/>
          <a:stretch/>
        </p:blipFill>
        <p:spPr>
          <a:xfrm>
            <a:off x="6877080" y="1197000"/>
            <a:ext cx="1468440" cy="38876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3280" y="1628640"/>
            <a:ext cx="3365640" cy="36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l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wel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irt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fourt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fift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4"/>
          <p:cNvSpPr/>
          <p:nvPr/>
        </p:nvSpPr>
        <p:spPr>
          <a:xfrm>
            <a:off x="3995640" y="1600200"/>
            <a:ext cx="220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went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3995640" y="234936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irt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3995640" y="3068640"/>
            <a:ext cx="325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wenty-fi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2050920" y="1600200"/>
            <a:ext cx="309744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-보람M"/>
              </a:rPr>
              <a:t>twen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-보람M"/>
              </a:rPr>
              <a:t>thi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-보람M"/>
              </a:rPr>
              <a:t>twenty-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2004124105935"/>
          <p:cNvPicPr/>
          <p:nvPr/>
        </p:nvPicPr>
        <p:blipFill>
          <a:blip r:embed="rId1"/>
          <a:stretch/>
        </p:blipFill>
        <p:spPr>
          <a:xfrm>
            <a:off x="7236000" y="1341360"/>
            <a:ext cx="1231560" cy="1546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" descr="20047271121061117"/>
          <p:cNvPicPr/>
          <p:nvPr/>
        </p:nvPicPr>
        <p:blipFill>
          <a:blip r:embed="rId2"/>
          <a:stretch/>
        </p:blipFill>
        <p:spPr>
          <a:xfrm>
            <a:off x="684360" y="5516640"/>
            <a:ext cx="7772400" cy="57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3"/>
          <p:cNvSpPr/>
          <p:nvPr/>
        </p:nvSpPr>
        <p:spPr>
          <a:xfrm>
            <a:off x="2484360" y="1197000"/>
            <a:ext cx="4608720" cy="47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基变序，有规律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一二三，特殊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th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从四以上记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八减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t,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九去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e, f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来把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ve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若是遇到几十几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ty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须变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tie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971640" y="765000"/>
            <a:ext cx="61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基数词变序数词口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372360" y="4437000"/>
            <a:ext cx="2158920" cy="164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3"/>
          <p:cNvSpPr/>
          <p:nvPr/>
        </p:nvSpPr>
        <p:spPr>
          <a:xfrm>
            <a:off x="971640" y="1989000"/>
            <a:ext cx="40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November  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971640" y="2708280"/>
            <a:ext cx="53290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写作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November 22nd/November 2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读作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Novembe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the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twenty-seco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084720" y="907920"/>
            <a:ext cx="2286000" cy="215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4"/>
          <p:cNvGrpSpPr/>
          <p:nvPr/>
        </p:nvGrpSpPr>
        <p:grpSpPr>
          <a:xfrm>
            <a:off x="1258920" y="3645000"/>
            <a:ext cx="3238200" cy="1655280"/>
            <a:chOff x="1258920" y="3645000"/>
            <a:chExt cx="3238200" cy="1655280"/>
          </a:xfrm>
        </p:grpSpPr>
        <p:pic>
          <p:nvPicPr>
            <p:cNvPr id="47" name="Picture 5" descr="听音乐1"/>
            <p:cNvPicPr/>
            <p:nvPr/>
          </p:nvPicPr>
          <p:blipFill>
            <a:blip r:embed="rId1"/>
            <a:stretch/>
          </p:blipFill>
          <p:spPr>
            <a:xfrm>
              <a:off x="1258920" y="3645000"/>
              <a:ext cx="1551600" cy="165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icture 6" descr="听音乐"/>
            <p:cNvPicPr/>
            <p:nvPr/>
          </p:nvPicPr>
          <p:blipFill>
            <a:blip r:embed="rId2"/>
            <a:stretch/>
          </p:blipFill>
          <p:spPr>
            <a:xfrm>
              <a:off x="2933640" y="3645000"/>
              <a:ext cx="1563480" cy="1608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Text Box 8"/>
          <p:cNvSpPr/>
          <p:nvPr/>
        </p:nvSpPr>
        <p:spPr>
          <a:xfrm>
            <a:off x="685800" y="1168560"/>
            <a:ext cx="7696080" cy="12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ead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Gulim"/>
              </a:rPr>
              <a:t>Let’s sing a birthday so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219640" y="2781360"/>
            <a:ext cx="3168720" cy="29289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7164360" y="765000"/>
            <a:ext cx="1566720" cy="106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7416720" y="2349360"/>
            <a:ext cx="1332000" cy="29084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11280" y="1557360"/>
            <a:ext cx="7272360" cy="442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first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s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second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third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3r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fourt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4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fifth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5t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sixth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6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seventh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7t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eight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8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ninth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9t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tenth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0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eleventh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1t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twelfth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2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thirteent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3t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fourteenth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14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fifteenth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5th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sixteent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16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195640" y="83664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How to spe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7840" y="620280"/>
            <a:ext cx="821052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ow to spe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7236000" y="1700280"/>
            <a:ext cx="857160" cy="36003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2124000" y="1341360"/>
            <a:ext cx="5832720" cy="48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eventeenth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7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wentieth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0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wenty-fir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   21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wenty-thir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3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wenty-fourt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4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wenty-eight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8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irtieth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0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irty-fir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1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532944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2a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Listen and repeat.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6_1105584051"/>
          <p:cNvPicPr/>
          <p:nvPr/>
        </p:nvPicPr>
        <p:blipFill>
          <a:blip r:embed="rId1"/>
          <a:srcRect l="72559" t="66586" r="-1796" b="818"/>
          <a:stretch/>
        </p:blipFill>
        <p:spPr>
          <a:xfrm>
            <a:off x="6372360" y="4076640"/>
            <a:ext cx="2097000" cy="14875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116000" y="1413000"/>
            <a:ext cx="6696000" cy="49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st       2nd     3rd      4th      5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6th      7th      8th       9th     10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1th    12th    13th     14th   15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6th    17th    18th     19th   20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1st     22nd   23rd    24th   25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6th    27th    28th     29th   30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31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8"/>
          <p:cNvSpPr/>
          <p:nvPr/>
        </p:nvSpPr>
        <p:spPr>
          <a:xfrm>
            <a:off x="2124000" y="3333600"/>
            <a:ext cx="4824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Gulim"/>
              </a:rPr>
              <a:t>4th       5th          17th        22nd</a:t>
            </a:r>
            <a:r>
              <a:rPr b="0" lang="en-US" sz="2400" spc="-1" strike="noStrike">
                <a:solidFill>
                  <a:srgbClr val="0000ff"/>
                </a:solidFill>
                <a:latin typeface="Gulim"/>
                <a:ea typeface="Guli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9"/>
          <p:cNvSpPr/>
          <p:nvPr/>
        </p:nvSpPr>
        <p:spPr>
          <a:xfrm>
            <a:off x="1979640" y="3263760"/>
            <a:ext cx="942840" cy="596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10"/>
          <p:cNvSpPr/>
          <p:nvPr/>
        </p:nvSpPr>
        <p:spPr>
          <a:xfrm>
            <a:off x="2987640" y="3263760"/>
            <a:ext cx="942840" cy="596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11"/>
          <p:cNvSpPr/>
          <p:nvPr/>
        </p:nvSpPr>
        <p:spPr>
          <a:xfrm>
            <a:off x="4140360" y="3263760"/>
            <a:ext cx="1079280" cy="596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12"/>
          <p:cNvSpPr/>
          <p:nvPr/>
        </p:nvSpPr>
        <p:spPr>
          <a:xfrm>
            <a:off x="5291280" y="3262320"/>
            <a:ext cx="1295280" cy="5983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99320" y="2001960"/>
            <a:ext cx="692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Times New Roman"/>
              </a:rPr>
              <a:t>2b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isten and    circle   the numbers you hear in 2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56000" y="2038320"/>
            <a:ext cx="1079280" cy="43200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8"/>
          <p:cNvSpPr/>
          <p:nvPr/>
        </p:nvSpPr>
        <p:spPr>
          <a:xfrm>
            <a:off x="1258920" y="2205000"/>
            <a:ext cx="597708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ame                Month              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lice                 July                    4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Frank             August              22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ric                 January             5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Jane                September        17t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9"/>
          <p:cNvSpPr/>
          <p:nvPr/>
        </p:nvSpPr>
        <p:spPr>
          <a:xfrm>
            <a:off x="2050920" y="3357720"/>
            <a:ext cx="1441440" cy="2087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0"/>
          <p:cNvSpPr/>
          <p:nvPr/>
        </p:nvSpPr>
        <p:spPr>
          <a:xfrm flipV="1">
            <a:off x="2195640" y="3428640"/>
            <a:ext cx="1152360" cy="606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1"/>
          <p:cNvSpPr/>
          <p:nvPr/>
        </p:nvSpPr>
        <p:spPr>
          <a:xfrm flipV="1">
            <a:off x="1979640" y="4220640"/>
            <a:ext cx="1152360" cy="1303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2"/>
          <p:cNvSpPr/>
          <p:nvPr/>
        </p:nvSpPr>
        <p:spPr>
          <a:xfrm>
            <a:off x="1979640" y="4797360"/>
            <a:ext cx="1224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3"/>
          <p:cNvSpPr/>
          <p:nvPr/>
        </p:nvSpPr>
        <p:spPr>
          <a:xfrm>
            <a:off x="4284720" y="4869000"/>
            <a:ext cx="865080" cy="576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4"/>
          <p:cNvSpPr/>
          <p:nvPr/>
        </p:nvSpPr>
        <p:spPr>
          <a:xfrm flipV="1">
            <a:off x="3924360" y="3284280"/>
            <a:ext cx="1439640" cy="73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5"/>
          <p:cNvSpPr/>
          <p:nvPr/>
        </p:nvSpPr>
        <p:spPr>
          <a:xfrm>
            <a:off x="4140360" y="4076640"/>
            <a:ext cx="9363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6"/>
          <p:cNvSpPr/>
          <p:nvPr/>
        </p:nvSpPr>
        <p:spPr>
          <a:xfrm flipV="1">
            <a:off x="4643280" y="4868640"/>
            <a:ext cx="576360" cy="718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7380360" y="4076640"/>
            <a:ext cx="931680" cy="1698840"/>
            <a:chOff x="7380360" y="4076640"/>
            <a:chExt cx="931680" cy="1698840"/>
          </a:xfrm>
        </p:grpSpPr>
        <p:pic>
          <p:nvPicPr>
            <p:cNvPr id="191" name="" descr=""/>
            <p:cNvPicPr/>
            <p:nvPr/>
          </p:nvPicPr>
          <p:blipFill>
            <a:blip r:embed="rId1"/>
            <a:stretch/>
          </p:blipFill>
          <p:spPr>
            <a:xfrm>
              <a:off x="7380360" y="4490640"/>
              <a:ext cx="632880" cy="128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" descr=""/>
            <p:cNvPicPr/>
            <p:nvPr/>
          </p:nvPicPr>
          <p:blipFill>
            <a:blip r:embed="rId2"/>
            <a:stretch/>
          </p:blipFill>
          <p:spPr>
            <a:xfrm>
              <a:off x="7749360" y="4076640"/>
              <a:ext cx="562680" cy="169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" descr=""/>
            <p:cNvPicPr/>
            <p:nvPr/>
          </p:nvPicPr>
          <p:blipFill>
            <a:blip r:embed="rId3"/>
            <a:stretch/>
          </p:blipFill>
          <p:spPr>
            <a:xfrm>
              <a:off x="7749360" y="4776120"/>
              <a:ext cx="283320" cy="999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4" name=""/>
          <p:cNvSpPr/>
          <p:nvPr/>
        </p:nvSpPr>
        <p:spPr>
          <a:xfrm>
            <a:off x="611280" y="145908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Times New Roman"/>
              </a:rPr>
              <a:t>2c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Listen again. Match the names , months and d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6" descr="9449ae133dac0170f919b87d"/>
          <p:cNvPicPr/>
          <p:nvPr/>
        </p:nvPicPr>
        <p:blipFill>
          <a:blip r:embed="rId1"/>
          <a:srcRect l="0" t="0" r="-1839" b="3593"/>
          <a:stretch/>
        </p:blipFill>
        <p:spPr>
          <a:xfrm>
            <a:off x="6227640" y="907920"/>
            <a:ext cx="2016360" cy="187344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539640" y="1341360"/>
            <a:ext cx="7994880" cy="38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Times New Roman"/>
              </a:rPr>
              <a:t>2d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Pair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Gulim"/>
              </a:rPr>
              <a:t>A: When is Alice’s birthd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Gulim"/>
              </a:rPr>
              <a:t>B: Her birthday is on September 5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Gulim"/>
              </a:rPr>
              <a:t>A: When is your father’s birthd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Gulim"/>
              </a:rPr>
              <a:t>B: His birthday is on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Times New Roman"/>
                <a:ea typeface="Gulim"/>
              </a:rPr>
              <a:t>      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539640" y="855720"/>
            <a:ext cx="8064720" cy="50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Times New Roman"/>
                <a:ea typeface="Gulim"/>
              </a:rPr>
              <a:t>2e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Gulim"/>
              </a:rPr>
              <a:t> Role-play the convers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Gulim"/>
              </a:rPr>
              <a:t>Bill: Hi, Alan. Happy birthda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Gulim"/>
              </a:rPr>
              <a:t>Alan: Thank you, Bi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Gulim"/>
              </a:rPr>
              <a:t>Bill: So, how old are you, Al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Gulim"/>
              </a:rPr>
              <a:t>Alan: I’m twelve. How old are yo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Gulim"/>
              </a:rPr>
              <a:t>Bill: I’m thirte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Gulim"/>
              </a:rPr>
              <a:t>Alan: When is your birthd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539640" y="1308240"/>
            <a:ext cx="806472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Gulim"/>
              </a:rPr>
              <a:t>Bill: My birthday is in Augus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Gulim"/>
              </a:rPr>
              <a:t>Alan: Well, do you want to come to my birthday par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Gulim"/>
              </a:rPr>
              <a:t>Bill: Oh, yes. When is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Gulim"/>
              </a:rPr>
              <a:t>Alan: At three this afterno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Gulim"/>
              </a:rPr>
              <a:t>Bill: OK, great. See you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396720" y="981000"/>
            <a:ext cx="9288720" cy="50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Times New Roman"/>
                <a:ea typeface="Gulim"/>
              </a:rPr>
              <a:t>3b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Gulim"/>
              </a:rPr>
              <a:t> Complete the conversation and practice it with your partn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Gulim"/>
              </a:rPr>
              <a:t>A: How 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Times New Roman"/>
                <a:ea typeface="Gulim"/>
              </a:rPr>
              <a:t>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Gulim"/>
              </a:rPr>
              <a:t> are you, Gra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Gulim"/>
              </a:rPr>
              <a:t>B: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Times New Roman"/>
                <a:ea typeface="Gulim"/>
              </a:rPr>
              <a:t>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Gulim"/>
              </a:rPr>
              <a:t> twel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Gulim"/>
              </a:rPr>
              <a:t>A: And 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Times New Roman"/>
                <a:ea typeface="Gulim"/>
              </a:rPr>
              <a:t>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Gulim"/>
              </a:rPr>
              <a:t> is your birthd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Gulim"/>
              </a:rPr>
              <a:t>B: My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Times New Roman"/>
                <a:ea typeface="Gulim"/>
              </a:rPr>
              <a:t>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Gulim"/>
              </a:rPr>
              <a:t> is on March 12th. How about you and T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Gulim"/>
              </a:rPr>
              <a:t>A: Well, my birthday is 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Times New Roman"/>
                <a:ea typeface="Gulim"/>
              </a:rPr>
              <a:t>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Gulim"/>
              </a:rPr>
              <a:t> July 5th, and Tom’s birthday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Gulim"/>
              </a:rPr>
              <a:t> 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Times New Roman"/>
                <a:ea typeface="Gulim"/>
              </a:rPr>
              <a:t>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Gulim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Gulim"/>
              </a:rPr>
              <a:t>Decemb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479520" y="1409760"/>
            <a:ext cx="8124840" cy="40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Language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1. 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When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is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Alice’s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birthda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艾丽斯的生日是什么时候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—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Her birthday is on September 5t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她的生日是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月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日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5" descr="1205109294703"/>
          <p:cNvPicPr/>
          <p:nvPr/>
        </p:nvPicPr>
        <p:blipFill>
          <a:blip r:embed="rId1"/>
          <a:stretch/>
        </p:blipFill>
        <p:spPr>
          <a:xfrm>
            <a:off x="6156360" y="2276640"/>
            <a:ext cx="2448000" cy="30970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6"/>
          <p:cNvSpPr/>
          <p:nvPr/>
        </p:nvSpPr>
        <p:spPr>
          <a:xfrm>
            <a:off x="1042920" y="5445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Gulim"/>
              </a:rPr>
              <a:t>Januar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7"/>
          <p:cNvSpPr/>
          <p:nvPr/>
        </p:nvSpPr>
        <p:spPr>
          <a:xfrm>
            <a:off x="3564000" y="544500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Gulim"/>
              </a:rPr>
              <a:t>February</a:t>
            </a:r>
            <a:r>
              <a:rPr b="1" lang="en-US" sz="2400" spc="-1" strike="noStrike">
                <a:solidFill>
                  <a:srgbClr val="ff0000"/>
                </a:solidFill>
                <a:latin typeface="Gulim"/>
                <a:ea typeface="Guli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8"/>
          <p:cNvSpPr/>
          <p:nvPr/>
        </p:nvSpPr>
        <p:spPr>
          <a:xfrm>
            <a:off x="6804000" y="5445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Gulim"/>
              </a:rPr>
              <a:t>March</a:t>
            </a:r>
            <a:r>
              <a:rPr b="1" lang="en-US" sz="2400" spc="-1" strike="noStrike">
                <a:solidFill>
                  <a:srgbClr val="ff0000"/>
                </a:solidFill>
                <a:latin typeface="Gulim"/>
                <a:ea typeface="Guli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4" descr="voa_new_year_ukrainian_150"/>
          <p:cNvPicPr/>
          <p:nvPr/>
        </p:nvPicPr>
        <p:blipFill>
          <a:blip r:embed="rId2"/>
          <a:stretch/>
        </p:blipFill>
        <p:spPr>
          <a:xfrm>
            <a:off x="611280" y="2276640"/>
            <a:ext cx="2520720" cy="309708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33"/>
          <p:cNvSpPr/>
          <p:nvPr/>
        </p:nvSpPr>
        <p:spPr>
          <a:xfrm>
            <a:off x="468360" y="620640"/>
            <a:ext cx="8136000" cy="13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ere are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2 months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n a year. Do you know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227400" y="2205000"/>
            <a:ext cx="2857320" cy="316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539640" y="1565280"/>
            <a:ext cx="8124840" cy="24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1) when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作疑问副词时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意为“什么时候，何时”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常用于对日期和时刻进行提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例如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:  When is the part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晚会是什么时候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468360" y="777960"/>
            <a:ext cx="7921440" cy="54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2)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名词后加“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’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这是名词所有格的形式，表示所有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意为“……的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例如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:  This i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Tom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’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boo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这是汤姆的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名词所有格的变化规则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①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以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s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结尾的复数名词只在词尾加“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’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例如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students’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book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学生用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395280" y="557280"/>
            <a:ext cx="8353440" cy="59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②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如果表示两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几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个人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共同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拥有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在最后一个名词的词尾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“’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s”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如果表示两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几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个人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各自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拥有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则须在每个名词后都加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“’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s”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例如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Joan and Helen’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fa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琼和海伦的父亲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两个人的父亲是同一个人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Joan’s and Helen’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roo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琼的房间和海伦的房间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两个人各自拥有一个房间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6877080" y="838080"/>
            <a:ext cx="1581120" cy="14907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468360" y="1771560"/>
            <a:ext cx="8207280" cy="21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相关链接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名词所有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表示所属关系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即表示某物是“谁的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名词所有格常见的结构有两种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6877080" y="838080"/>
            <a:ext cx="1581120" cy="149076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41440" y="1557360"/>
            <a:ext cx="820728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一、’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s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所有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表示有生命的人或动物的名词所有格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单数名词和不以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s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结尾的复数名词一般在词尾加 “  ’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s”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以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s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结尾的复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名词只在词尾加“  ’  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例如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: Kate’s cat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凯特的猫，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Children’s Day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儿童节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the girls’ books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女孩们的书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468360" y="549360"/>
            <a:ext cx="8064360" cy="48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二、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of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所有格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▲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无生命事物名词的所属关系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一般常用“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of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＋ 名词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来表示，即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of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所有格。例如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a map of China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一幅中国地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the legs of the table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桌子的腿</a:t>
            </a:r>
            <a:br>
              <a:rPr sz="2400"/>
            </a:b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▲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of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所有格与 ’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s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所有格有时可以互换，不过要注意它们物主的位置不同。例如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468360" y="1484280"/>
            <a:ext cx="8064360" cy="25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这只猫猫的名字是咪咪。</a:t>
            </a:r>
            <a:br>
              <a:rPr sz="2400"/>
            </a:b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The name of the cat is Mimi. (of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结构，物主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the cat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在后）</a:t>
            </a:r>
            <a:br>
              <a:rPr sz="2400"/>
            </a:b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The cat’s name is Mimi. (’s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结构，物主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the cat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在前 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96720" y="987480"/>
            <a:ext cx="8928360" cy="33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2. 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How ol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are you? ——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你多大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—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I’m fifteen.   ——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我十五岁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how old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意为“多大年纪；几岁”，常用于询问年龄。回答时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以直接用基数词表示，也可以用“基数词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+ year (s)  old”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表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684360" y="5167440"/>
            <a:ext cx="7850160" cy="78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468360" y="1182600"/>
            <a:ext cx="8316720" cy="22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What’s ... age?”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和“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How old is / are ...?”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意思相同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可互换。例如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-보람M"/>
              </a:rPr>
              <a:t>What’s your age? = How old are yo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你多大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556000" y="3789360"/>
            <a:ext cx="3960720" cy="187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539640" y="1557360"/>
            <a:ext cx="806472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-보람M"/>
              </a:rPr>
              <a:t>1. My birthday is on 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Times New Roman"/>
                <a:ea typeface="-보람M"/>
              </a:rPr>
              <a:t>January 15th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-보람M"/>
              </a:rPr>
              <a:t>. (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-보람M"/>
              </a:rPr>
              <a:t>对画线部分提问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-보람M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-보람M"/>
              </a:rPr>
              <a:t>_____  _____ your _____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解析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画线部分是时间，应用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when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提问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疑问词后应用疑问语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答案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When is ;  birth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6948360" y="4076640"/>
            <a:ext cx="981360" cy="1305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2124000" y="965160"/>
            <a:ext cx="499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放风筝"/>
          <p:cNvPicPr/>
          <p:nvPr/>
        </p:nvPicPr>
        <p:blipFill>
          <a:blip r:embed="rId1"/>
          <a:stretch/>
        </p:blipFill>
        <p:spPr>
          <a:xfrm>
            <a:off x="954000" y="1447920"/>
            <a:ext cx="2067120" cy="3025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" descr="!!!Image resized! Click here to see original image!!&#10;!!!Original width:1024 Original height:768 Retry times:1 !!!"/>
          <p:cNvPicPr/>
          <p:nvPr/>
        </p:nvPicPr>
        <p:blipFill>
          <a:blip r:embed="rId2"/>
          <a:srcRect l="0" t="0" r="0" b="6658"/>
          <a:stretch/>
        </p:blipFill>
        <p:spPr>
          <a:xfrm>
            <a:off x="6245280" y="1592280"/>
            <a:ext cx="2124000" cy="30258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2"/>
          <p:cNvSpPr/>
          <p:nvPr/>
        </p:nvSpPr>
        <p:spPr>
          <a:xfrm>
            <a:off x="755640" y="483408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Gulim"/>
              </a:rPr>
              <a:t>April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Guli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4067280" y="483408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Gulim"/>
              </a:rPr>
              <a:t>Ma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6588000" y="48340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Gulim"/>
              </a:rPr>
              <a:t>Jun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3484440" y="1268280"/>
            <a:ext cx="2176560" cy="324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7020000" y="1125360"/>
            <a:ext cx="1143000" cy="13338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612720" y="1114560"/>
            <a:ext cx="8136000" cy="45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2. —When is your birthd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—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My birthday is on _____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A. 3.12                                  B. March twelve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C. March 12th                     D. three twelf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解析：英语中日期的表达月份用英语单词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日期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序数词。答案为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C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7020000" y="3141720"/>
          <a:ext cx="1218960" cy="162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20000" y="3141720"/>
                    <a:ext cx="1218960" cy="16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>
            <a:off x="539640" y="1492200"/>
            <a:ext cx="7704360" cy="33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3. —When is Mary birthd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—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Her birthday is on October 2nd. (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改错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解析：“某人的”应用所有格的形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答案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: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将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Mary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改为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Mary’s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5" descr="BS00554_"/>
          <p:cNvPicPr/>
          <p:nvPr/>
        </p:nvPicPr>
        <p:blipFill>
          <a:blip r:embed="rId1"/>
          <a:stretch/>
        </p:blipFill>
        <p:spPr>
          <a:xfrm>
            <a:off x="6629400" y="914400"/>
            <a:ext cx="2160720" cy="13716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6"/>
          <p:cNvSpPr/>
          <p:nvPr/>
        </p:nvSpPr>
        <p:spPr>
          <a:xfrm>
            <a:off x="611280" y="476280"/>
            <a:ext cx="7169040" cy="44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Home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Gulim"/>
              </a:rPr>
              <a:t>Make your own ID card like this.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Gulim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Gulim"/>
              </a:rPr>
              <a:t>Name: John Mill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Gulim"/>
              </a:rPr>
              <a:t>Date of Birth: March 21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Gulim"/>
              </a:rPr>
              <a:t>Age: 1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1" descr="图片14"/>
          <p:cNvPicPr/>
          <p:nvPr/>
        </p:nvPicPr>
        <p:blipFill>
          <a:blip r:embed="rId2"/>
          <a:stretch/>
        </p:blipFill>
        <p:spPr>
          <a:xfrm>
            <a:off x="611280" y="5078520"/>
            <a:ext cx="7775640" cy="123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749160" y="4533840"/>
            <a:ext cx="7659720" cy="352440"/>
          </a:xfrm>
          <a:custGeom>
            <a:avLst/>
            <a:gdLst/>
            <a:ahLst/>
            <a:rect l="l" t="t" r="r" b="b"/>
            <a:pathLst>
              <a:path w="4825" h="222">
                <a:moveTo>
                  <a:pt x="4825" y="222"/>
                </a:moveTo>
                <a:lnTo>
                  <a:pt x="4808" y="217"/>
                </a:lnTo>
                <a:lnTo>
                  <a:pt x="4739" y="207"/>
                </a:lnTo>
                <a:lnTo>
                  <a:pt x="4627" y="191"/>
                </a:lnTo>
                <a:lnTo>
                  <a:pt x="4472" y="170"/>
                </a:lnTo>
                <a:lnTo>
                  <a:pt x="4274" y="145"/>
                </a:lnTo>
                <a:lnTo>
                  <a:pt x="4042" y="119"/>
                </a:lnTo>
                <a:lnTo>
                  <a:pt x="3776" y="98"/>
                </a:lnTo>
                <a:lnTo>
                  <a:pt x="3475" y="78"/>
                </a:lnTo>
                <a:lnTo>
                  <a:pt x="3148" y="62"/>
                </a:lnTo>
                <a:lnTo>
                  <a:pt x="2786" y="47"/>
                </a:lnTo>
                <a:lnTo>
                  <a:pt x="2399" y="47"/>
                </a:lnTo>
                <a:lnTo>
                  <a:pt x="2012" y="47"/>
                </a:lnTo>
                <a:lnTo>
                  <a:pt x="1660" y="62"/>
                </a:lnTo>
                <a:lnTo>
                  <a:pt x="1333" y="78"/>
                </a:lnTo>
                <a:lnTo>
                  <a:pt x="1032" y="98"/>
                </a:lnTo>
                <a:lnTo>
                  <a:pt x="774" y="119"/>
                </a:lnTo>
                <a:lnTo>
                  <a:pt x="550" y="145"/>
                </a:lnTo>
                <a:lnTo>
                  <a:pt x="361" y="170"/>
                </a:lnTo>
                <a:lnTo>
                  <a:pt x="206" y="191"/>
                </a:lnTo>
                <a:lnTo>
                  <a:pt x="94" y="207"/>
                </a:lnTo>
                <a:lnTo>
                  <a:pt x="34" y="217"/>
                </a:lnTo>
                <a:lnTo>
                  <a:pt x="8" y="222"/>
                </a:lnTo>
                <a:lnTo>
                  <a:pt x="0" y="8"/>
                </a:lnTo>
                <a:lnTo>
                  <a:pt x="2400" y="8"/>
                </a:lnTo>
                <a:lnTo>
                  <a:pt x="4800" y="0"/>
                </a:lnTo>
                <a:lnTo>
                  <a:pt x="4825" y="222"/>
                </a:lnTo>
                <a:lnTo>
                  <a:pt x="4825" y="222"/>
                </a:lnTo>
                <a:close/>
              </a:path>
            </a:pathLst>
          </a:custGeom>
          <a:solidFill>
            <a:srgbClr val="00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61960" y="2492280"/>
            <a:ext cx="8058240" cy="2041560"/>
          </a:xfrm>
          <a:prstGeom prst="rect">
            <a:avLst/>
          </a:prstGeom>
          <a:solidFill>
            <a:srgbClr val="f9e807">
              <a:alpha val="84000"/>
            </a:srgbClr>
          </a:solidFill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453960" y="2349360"/>
            <a:ext cx="8439120" cy="18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黑体"/>
              </a:rPr>
              <a:t>To save time is to lengthen lif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黑体"/>
              </a:rPr>
              <a:t>节约时间就是延长生命。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3149640" y="1041480"/>
            <a:ext cx="3041640" cy="9633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>
            <a:hlinkClick r:id="rId2"/>
          </p:cNvPr>
          <p:cNvPicPr/>
          <p:nvPr/>
        </p:nvPicPr>
        <p:blipFill>
          <a:blip r:embed="rId3"/>
          <a:srcRect l="10873" t="7924" r="17364" b="0"/>
          <a:stretch/>
        </p:blipFill>
        <p:spPr>
          <a:xfrm>
            <a:off x="7130880" y="5067360"/>
            <a:ext cx="1457640" cy="179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pic_xfz_004_5"/>
          <p:cNvPicPr/>
          <p:nvPr/>
        </p:nvPicPr>
        <p:blipFill>
          <a:blip r:embed="rId1"/>
          <a:stretch/>
        </p:blipFill>
        <p:spPr>
          <a:xfrm>
            <a:off x="727200" y="1231920"/>
            <a:ext cx="2400120" cy="3612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9" descr="教师节表情"/>
          <p:cNvPicPr/>
          <p:nvPr/>
        </p:nvPicPr>
        <p:blipFill>
          <a:blip r:embed="rId2"/>
          <a:stretch/>
        </p:blipFill>
        <p:spPr>
          <a:xfrm>
            <a:off x="6318360" y="1171440"/>
            <a:ext cx="2085840" cy="36734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20"/>
          <p:cNvSpPr/>
          <p:nvPr/>
        </p:nvSpPr>
        <p:spPr>
          <a:xfrm>
            <a:off x="684360" y="513252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Gulim"/>
              </a:rPr>
              <a:t>July</a:t>
            </a:r>
            <a:r>
              <a:rPr b="0" lang="en-US" sz="2400" spc="-1" strike="noStrike">
                <a:solidFill>
                  <a:srgbClr val="000000"/>
                </a:solidFill>
                <a:latin typeface="Gulim"/>
                <a:ea typeface="Guli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1"/>
          <p:cNvSpPr/>
          <p:nvPr/>
        </p:nvSpPr>
        <p:spPr>
          <a:xfrm>
            <a:off x="3924360" y="513252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Gulim"/>
              </a:rPr>
              <a:t>August</a:t>
            </a:r>
            <a:r>
              <a:rPr b="0" lang="en-US" sz="2400" spc="-1" strike="noStrike">
                <a:solidFill>
                  <a:srgbClr val="000000"/>
                </a:solidFill>
                <a:latin typeface="Gulim"/>
                <a:ea typeface="Guli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2"/>
          <p:cNvSpPr/>
          <p:nvPr/>
        </p:nvSpPr>
        <p:spPr>
          <a:xfrm>
            <a:off x="6516720" y="5132520"/>
            <a:ext cx="22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Gulim"/>
              </a:rPr>
              <a:t>September</a:t>
            </a:r>
            <a:r>
              <a:rPr b="0" lang="en-US" sz="2400" spc="-1" strike="noStrike">
                <a:solidFill>
                  <a:srgbClr val="000000"/>
                </a:solidFill>
                <a:latin typeface="Gulim"/>
                <a:ea typeface="Guli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3505320" y="1244520"/>
            <a:ext cx="2433600" cy="36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7" descr="18"/>
          <p:cNvPicPr/>
          <p:nvPr/>
        </p:nvPicPr>
        <p:blipFill>
          <a:blip r:embed="rId1"/>
          <a:stretch/>
        </p:blipFill>
        <p:spPr>
          <a:xfrm>
            <a:off x="3537000" y="1127160"/>
            <a:ext cx="1923840" cy="3311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9" descr="2006111914411771066"/>
          <p:cNvPicPr/>
          <p:nvPr/>
        </p:nvPicPr>
        <p:blipFill>
          <a:blip r:embed="rId2"/>
          <a:srcRect l="0" t="0" r="0" b="5876"/>
          <a:stretch/>
        </p:blipFill>
        <p:spPr>
          <a:xfrm>
            <a:off x="6180120" y="1125360"/>
            <a:ext cx="1987560" cy="31687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10"/>
          <p:cNvSpPr/>
          <p:nvPr/>
        </p:nvSpPr>
        <p:spPr>
          <a:xfrm>
            <a:off x="971640" y="465444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Gulim"/>
              </a:rPr>
              <a:t>October</a:t>
            </a:r>
            <a:r>
              <a:rPr b="0" lang="en-US" sz="2400" spc="-1" strike="noStrike">
                <a:solidFill>
                  <a:srgbClr val="000000"/>
                </a:solidFill>
                <a:latin typeface="Gulim"/>
                <a:ea typeface="Guli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3635280" y="465444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Gulim"/>
              </a:rPr>
              <a:t>November</a:t>
            </a:r>
            <a:r>
              <a:rPr b="0" lang="en-US" sz="2400" spc="-1" strike="noStrike">
                <a:solidFill>
                  <a:srgbClr val="000000"/>
                </a:solidFill>
                <a:latin typeface="Gulim"/>
                <a:ea typeface="Guli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2"/>
          <p:cNvSpPr/>
          <p:nvPr/>
        </p:nvSpPr>
        <p:spPr>
          <a:xfrm>
            <a:off x="6516720" y="451008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Gulim"/>
              </a:rPr>
              <a:t>December</a:t>
            </a:r>
            <a:r>
              <a:rPr b="0" lang="en-US" sz="2400" spc="-1" strike="noStrike">
                <a:solidFill>
                  <a:srgbClr val="000000"/>
                </a:solidFill>
                <a:latin typeface="Gulim"/>
                <a:ea typeface="Guli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826920" y="1200240"/>
            <a:ext cx="1872000" cy="33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1258920" y="2421000"/>
            <a:ext cx="180036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一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二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三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四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五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3348000" y="242100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Janu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3348000" y="321948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Febru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3348000" y="400356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M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3348000" y="465300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Apr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3348000" y="53722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M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5867280" y="24004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J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5867280" y="321948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Fe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5867280" y="394020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M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5867280" y="465300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Ap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2"/>
          <p:cNvSpPr/>
          <p:nvPr/>
        </p:nvSpPr>
        <p:spPr>
          <a:xfrm>
            <a:off x="5867280" y="538164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M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3"/>
          <p:cNvSpPr/>
          <p:nvPr/>
        </p:nvSpPr>
        <p:spPr>
          <a:xfrm>
            <a:off x="539640" y="981000"/>
            <a:ext cx="7128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Say the names of the months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说出月份名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4"/>
          <p:cNvSpPr/>
          <p:nvPr/>
        </p:nvSpPr>
        <p:spPr>
          <a:xfrm>
            <a:off x="2411280" y="1819440"/>
            <a:ext cx="294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全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5"/>
          <p:cNvSpPr/>
          <p:nvPr/>
        </p:nvSpPr>
        <p:spPr>
          <a:xfrm>
            <a:off x="4925880" y="1819440"/>
            <a:ext cx="267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缩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1187280" y="888840"/>
            <a:ext cx="1944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六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七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八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九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十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十一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十二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1547640" y="264492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cc00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1476360" y="329256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cc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1620720" y="37972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cc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2987640" y="17874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Ju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2987640" y="250668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ug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2987640" y="322740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Sept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2987640" y="401328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Octo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2987640" y="4689360"/>
            <a:ext cx="280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Nov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2987640" y="5452920"/>
            <a:ext cx="24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ec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2"/>
          <p:cNvSpPr/>
          <p:nvPr/>
        </p:nvSpPr>
        <p:spPr>
          <a:xfrm>
            <a:off x="5651640" y="184464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J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5651640" y="256392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u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5651640" y="328464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Se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5"/>
          <p:cNvSpPr/>
          <p:nvPr/>
        </p:nvSpPr>
        <p:spPr>
          <a:xfrm>
            <a:off x="5651640" y="407664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O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6"/>
          <p:cNvSpPr/>
          <p:nvPr/>
        </p:nvSpPr>
        <p:spPr>
          <a:xfrm>
            <a:off x="5651640" y="479736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No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7"/>
          <p:cNvSpPr/>
          <p:nvPr/>
        </p:nvSpPr>
        <p:spPr>
          <a:xfrm>
            <a:off x="5651640" y="544500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e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8"/>
          <p:cNvSpPr/>
          <p:nvPr/>
        </p:nvSpPr>
        <p:spPr>
          <a:xfrm>
            <a:off x="2987640" y="113976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J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9"/>
          <p:cNvSpPr/>
          <p:nvPr/>
        </p:nvSpPr>
        <p:spPr>
          <a:xfrm>
            <a:off x="5651640" y="126828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Ju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4"/>
          <p:cNvSpPr/>
          <p:nvPr/>
        </p:nvSpPr>
        <p:spPr>
          <a:xfrm>
            <a:off x="2050920" y="765000"/>
            <a:ext cx="294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全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5"/>
          <p:cNvSpPr/>
          <p:nvPr/>
        </p:nvSpPr>
        <p:spPr>
          <a:xfrm>
            <a:off x="4565520" y="765000"/>
            <a:ext cx="267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缩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AutoShape 3"/>
          <p:cNvSpPr/>
          <p:nvPr/>
        </p:nvSpPr>
        <p:spPr>
          <a:xfrm>
            <a:off x="4978440" y="1374840"/>
            <a:ext cx="457200" cy="1522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5580000" y="1243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1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466560" y="2943360"/>
            <a:ext cx="4052880" cy="1191240"/>
          </a:xfrm>
          <a:prstGeom prst="rect">
            <a:avLst/>
          </a:prstGeom>
          <a:solidFill>
            <a:srgbClr val="ffffff">
              <a:alpha val="7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pril, June, September, Nov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6"/>
          <p:cNvSpPr/>
          <p:nvPr/>
        </p:nvSpPr>
        <p:spPr>
          <a:xfrm>
            <a:off x="4859280" y="3500280"/>
            <a:ext cx="533520" cy="1526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5651640" y="328464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0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466560" y="4941720"/>
            <a:ext cx="4104000" cy="642600"/>
          </a:xfrm>
          <a:prstGeom prst="rect">
            <a:avLst/>
          </a:prstGeom>
          <a:solidFill>
            <a:srgbClr val="ffffff">
              <a:alpha val="7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Febru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9"/>
          <p:cNvSpPr/>
          <p:nvPr/>
        </p:nvSpPr>
        <p:spPr>
          <a:xfrm>
            <a:off x="4932360" y="5157720"/>
            <a:ext cx="496800" cy="2127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5651640" y="501336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8 or 29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2644920" y="5950080"/>
            <a:ext cx="43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o you kn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8360" y="906480"/>
            <a:ext cx="4102200" cy="165888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January,  March, May, Jul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August, October, Dec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2T15:49:47Z</dcterms:created>
  <dc:creator>USER</dc:creator>
  <dc:description/>
  <dc:language>en-US</dc:language>
  <cp:lastModifiedBy>张海娜</cp:lastModifiedBy>
  <dcterms:modified xsi:type="dcterms:W3CDTF">2014-01-07T11:47:49Z</dcterms:modified>
  <cp:revision>1</cp:revision>
  <dc:subject/>
  <dc:title>幻灯片 1</dc:title>
</cp:coreProperties>
</file>