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251-CC62-4F29-991C-66BB0D76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967-6793-4F8F-AFCB-D0FF7FE1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B99-AA04-4BCD-9E34-787156CF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4DB-F918-481E-97FC-B73601CD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3ACD-C291-49A2-9323-18D90C22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9470-BF73-4A8A-979B-84026086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1731-8F5F-4A53-9EFA-4C8634D6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0411-1BF2-4691-B734-A1AE017E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BD2C-0A35-4FFF-88F5-9B0287CE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1E8F-5160-4055-9ED7-C1ED8D57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B048-6D3F-4193-8EEB-2FFBF1C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213-1AF8-4DB6-9C3A-7240C3E2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B2E8-79E7-49A6-A446-590C0E6A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FEF8-F08A-4E0B-B398-5C3162F2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21ED-4EC0-4006-B4B1-270AE6EF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3A41-54C6-4347-817D-15476BBA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A3DA-9882-4E55-9A18-72B5EA17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B17-2552-4860-A84E-B3288316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55D-AD78-45CA-BB11-EAD2E1A2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5BF-DF1C-4C70-B78A-CDF88527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B98-258C-4A79-B9A3-CEF905F7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23B-37BA-4F05-8188-90B6FF57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DBA-2A86-4931-B640-26A62B52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652-E2B2-4A77-AED2-F98D7878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F1AC-D115-4C9C-93F6-A9ECBC5078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CFD5-9BF4-45FB-98A9-B6B889AAD4E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I:\&#35828;&#35838;&#27604;&#36187;\&#26149;&#37326;ganqin.mp3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6">
            <a:hlinkClick r:id="rId1"/>
          </p:cNvPr>
          <p:cNvSpPr/>
          <p:nvPr/>
        </p:nvSpPr>
        <p:spPr>
          <a:xfrm>
            <a:off x="8172360" y="623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e4a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矩形 5" descr=""/>
          <p:cNvPicPr/>
          <p:nvPr/>
        </p:nvPicPr>
        <p:blipFill>
          <a:blip r:embed="rId2"/>
          <a:stretch/>
        </p:blipFill>
        <p:spPr>
          <a:xfrm>
            <a:off x="865080" y="1066680"/>
            <a:ext cx="7407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9"/>
          <p:cNvSpPr/>
          <p:nvPr/>
        </p:nvSpPr>
        <p:spPr>
          <a:xfrm>
            <a:off x="571680" y="12254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ou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d [ɡr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u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d]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n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地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250920" y="2421000"/>
            <a:ext cx="7143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1. Forty or fifty women were sitting cross-legged on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四五十个女人盘腿坐在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2. Is there anything on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ou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地上有什么东西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571680" y="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6"/>
          <p:cNvSpPr/>
          <p:nvPr/>
        </p:nvSpPr>
        <p:spPr>
          <a:xfrm>
            <a:off x="500040" y="357120"/>
            <a:ext cx="864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Listen and answer the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How tall is B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How tall is Li 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Is Danny 3.1 metres t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椭圆 17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750960" cy="8222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7"/>
          <p:cNvSpPr/>
          <p:nvPr/>
        </p:nvSpPr>
        <p:spPr>
          <a:xfrm>
            <a:off x="1357200" y="157176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He is 1.85 metres t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1357200" y="28576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She is 1.5 metres t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1185840" y="415620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No, he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042920" y="494172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Can you ask more 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6"/>
          <p:cNvSpPr/>
          <p:nvPr/>
        </p:nvSpPr>
        <p:spPr>
          <a:xfrm>
            <a:off x="500040" y="357120"/>
            <a:ext cx="831996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listen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Bob is 1.85 _______ tall. He is a tall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Li Lin is ________ sh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Short, short, tall, t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Standing up ________ the w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Head up. _______ d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Standing flat _______ th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椭圆 17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750960" cy="8222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7"/>
          <p:cNvSpPr/>
          <p:nvPr/>
        </p:nvSpPr>
        <p:spPr>
          <a:xfrm>
            <a:off x="3003480" y="11430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me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8"/>
          <p:cNvSpPr/>
          <p:nvPr/>
        </p:nvSpPr>
        <p:spPr>
          <a:xfrm>
            <a:off x="3419640" y="3951360"/>
            <a:ext cx="26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again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2627280" y="2565360"/>
            <a:ext cx="16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a 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2641680" y="467208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3492360" y="531972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up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2"/>
          <p:cNvSpPr/>
          <p:nvPr/>
        </p:nvSpPr>
        <p:spPr>
          <a:xfrm>
            <a:off x="6156360" y="5300640"/>
            <a:ext cx="27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5"/>
          <p:cNvSpPr/>
          <p:nvPr/>
        </p:nvSpPr>
        <p:spPr>
          <a:xfrm>
            <a:off x="357120" y="4140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trike while the iron is hot.(</a:t>
            </a: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趁热打铁</a:t>
            </a: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179280" y="642960"/>
            <a:ext cx="885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The Yellow River is more than five thousand _______(metre)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The man sitting ________(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靠着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) the wall is my un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Don’t look down u______ others. There is a teacher among th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The g_______ is wet after the rain. Be caref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sister, his, 1.67 metres, is, tall(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连词成句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     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_____________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3132000" y="126828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me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4284720" y="17733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4948200" y="28526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2124000" y="400536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椭圆 18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7509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6"/>
          <p:cNvSpPr/>
          <p:nvPr/>
        </p:nvSpPr>
        <p:spPr>
          <a:xfrm>
            <a:off x="500040" y="357120"/>
            <a:ext cx="86439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Work in pairs. Interview your classmates and fill in the table. Then use the information to write som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My friend … is … metres t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He/She is very/a bit/so… tall/sh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椭圆 17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750960" cy="82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1143000" y="4071960"/>
          <a:ext cx="6786720" cy="2428920"/>
        </p:xfrm>
        <a:graphic>
          <a:graphicData uri="http://schemas.openxmlformats.org/drawingml/2006/table">
            <a:tbl>
              <a:tblPr/>
              <a:tblGrid>
                <a:gridCol w="3392640"/>
                <a:gridCol w="33940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m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igh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6"/>
          <p:cNvSpPr/>
          <p:nvPr/>
        </p:nvSpPr>
        <p:spPr>
          <a:xfrm>
            <a:off x="500040" y="357120"/>
            <a:ext cx="51436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椭圆 17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750960" cy="822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9"/>
          <p:cNvSpPr/>
          <p:nvPr/>
        </p:nvSpPr>
        <p:spPr>
          <a:xfrm>
            <a:off x="1143000" y="114300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* The Silk Road is more than 7000 kilometres lo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0"/>
          <p:cNvSpPr/>
          <p:nvPr/>
        </p:nvSpPr>
        <p:spPr>
          <a:xfrm>
            <a:off x="428760" y="500076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丝绸之路"/>
          <p:cNvPicPr/>
          <p:nvPr/>
        </p:nvPicPr>
        <p:blipFill>
          <a:blip r:embed="rId2"/>
          <a:stretch/>
        </p:blipFill>
        <p:spPr>
          <a:xfrm>
            <a:off x="2643120" y="3143160"/>
            <a:ext cx="3855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6"/>
          <p:cNvSpPr/>
          <p:nvPr/>
        </p:nvSpPr>
        <p:spPr>
          <a:xfrm>
            <a:off x="500040" y="357120"/>
            <a:ext cx="51436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椭圆 17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7509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9"/>
          <p:cNvSpPr/>
          <p:nvPr/>
        </p:nvSpPr>
        <p:spPr>
          <a:xfrm>
            <a:off x="1143000" y="114300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*  Eiffel Tower is over 320 metres tall. It is in Paris. How great it i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428760" y="500076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title"/>
          <p:cNvPicPr/>
          <p:nvPr/>
        </p:nvPicPr>
        <p:blipFill>
          <a:blip r:embed="rId2"/>
          <a:stretch/>
        </p:blipFill>
        <p:spPr>
          <a:xfrm>
            <a:off x="2571840" y="2714760"/>
            <a:ext cx="33955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2"/>
          <p:cNvSpPr/>
          <p:nvPr/>
        </p:nvSpPr>
        <p:spPr>
          <a:xfrm>
            <a:off x="500040" y="928800"/>
            <a:ext cx="842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ad the text fluently and  be able to talk about he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   Do the exercises 1 to 3 on Page 3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   Write a short passage “My friend/ father/ mother/ favourite star…” to describe what he/she look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5"/>
          <p:cNvSpPr/>
          <p:nvPr/>
        </p:nvSpPr>
        <p:spPr>
          <a:xfrm>
            <a:off x="571680" y="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Who are they? 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How tall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a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t1.baidu.com/it/u=368078334,1765254468&amp;fm=23&amp;gp=0.jpg"/>
          <p:cNvPicPr/>
          <p:nvPr/>
        </p:nvPicPr>
        <p:blipFill>
          <a:blip r:embed="rId1"/>
          <a:stretch/>
        </p:blipFill>
        <p:spPr>
          <a:xfrm>
            <a:off x="428760" y="1428840"/>
            <a:ext cx="2746080" cy="4071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3357720" y="1049400"/>
            <a:ext cx="5678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y are Bao Xishu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is wife. Bao is on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llest people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 comes from Mongo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 is 2.38 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met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 tall. 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s are 1.5 meters. 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et are 38 centime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ng and 12 centime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de. His wife is 1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tres tall. She is a 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5"/>
          <p:cNvSpPr/>
          <p:nvPr/>
        </p:nvSpPr>
        <p:spPr>
          <a:xfrm>
            <a:off x="571680" y="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Who are they? Talk about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t1.baidu.com/it/u=368078334,1765254468&amp;fm=23&amp;gp=0.jpg"/>
          <p:cNvPicPr/>
          <p:nvPr/>
        </p:nvPicPr>
        <p:blipFill>
          <a:blip r:embed="rId1"/>
          <a:stretch/>
        </p:blipFill>
        <p:spPr>
          <a:xfrm>
            <a:off x="1714680" y="714240"/>
            <a:ext cx="1606320" cy="1928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2"/>
          <p:cNvSpPr/>
          <p:nvPr/>
        </p:nvSpPr>
        <p:spPr>
          <a:xfrm>
            <a:off x="322200" y="2637000"/>
            <a:ext cx="87868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Yao Ming is 2.26 metres tal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Bao is 12 centimetres taller than Yao Ming.  His wife will have a baby. How tall will their child be? Can you gu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k at the lovely monkey. She should stand up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again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wall, head up, put her tail d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nd 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flat up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She is 1.40 me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t1.baidu.com/it/u=3240978600,1846361167&amp;fm=21&amp;gp=0.jpg"/>
          <p:cNvPicPr/>
          <p:nvPr/>
        </p:nvPicPr>
        <p:blipFill>
          <a:blip r:embed="rId2"/>
          <a:stretch/>
        </p:blipFill>
        <p:spPr>
          <a:xfrm>
            <a:off x="4357800" y="882720"/>
            <a:ext cx="10000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t10.baidu.com/it/u=3482571435,3069982216&amp;fm=59"/>
          <p:cNvPicPr/>
          <p:nvPr/>
        </p:nvPicPr>
        <p:blipFill>
          <a:blip r:embed="rId3"/>
          <a:stretch/>
        </p:blipFill>
        <p:spPr>
          <a:xfrm>
            <a:off x="6286680" y="928800"/>
            <a:ext cx="1428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161"/>
          <p:cNvPicPr/>
          <p:nvPr/>
        </p:nvPicPr>
        <p:blipFill>
          <a:blip r:embed="rId1"/>
          <a:stretch/>
        </p:blipFill>
        <p:spPr>
          <a:xfrm>
            <a:off x="8388360" y="6222960"/>
            <a:ext cx="500040" cy="635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5"/>
          <p:cNvSpPr/>
          <p:nvPr/>
        </p:nvSpPr>
        <p:spPr>
          <a:xfrm>
            <a:off x="571680" y="0"/>
            <a:ext cx="85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how to use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71680" y="1225440"/>
            <a:ext cx="52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re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'm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i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ə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n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642960" y="185724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--How tall is Mou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omolang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--It is 8844.43 metres tall.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s the tallest mountain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珠穆朗玛峰"/>
          <p:cNvPicPr/>
          <p:nvPr/>
        </p:nvPicPr>
        <p:blipFill>
          <a:blip r:embed="rId2"/>
          <a:stretch/>
        </p:blipFill>
        <p:spPr>
          <a:xfrm>
            <a:off x="1090440" y="3591000"/>
            <a:ext cx="317052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t10.baidu.com/it/u=3532430736,41070889&amp;fm=59"/>
          <p:cNvPicPr/>
          <p:nvPr/>
        </p:nvPicPr>
        <p:blipFill>
          <a:blip r:embed="rId3"/>
          <a:stretch/>
        </p:blipFill>
        <p:spPr>
          <a:xfrm>
            <a:off x="4876920" y="3517920"/>
            <a:ext cx="34318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9"/>
          <p:cNvSpPr/>
          <p:nvPr/>
        </p:nvSpPr>
        <p:spPr>
          <a:xfrm>
            <a:off x="571680" y="122544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 b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]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n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小量；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 bit+adj./ad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 bit of +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不可数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71680" y="328608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 seems a bit strange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ive me a bit of co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ou haven’t changed a b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1680" y="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9"/>
          <p:cNvSpPr/>
          <p:nvPr/>
        </p:nvSpPr>
        <p:spPr>
          <a:xfrm>
            <a:off x="571680" y="1225440"/>
            <a:ext cx="76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gainst[ə'ɡenst]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prep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倚着，靠着；反对，违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571920" y="2714760"/>
            <a:ext cx="50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The girl is standing against the tre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571680" y="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t2.baidu.com/it/u=1878124007,778845011&amp;fm=23&amp;gp=0.jpg"/>
          <p:cNvPicPr/>
          <p:nvPr/>
        </p:nvPicPr>
        <p:blipFill>
          <a:blip r:embed="rId1"/>
          <a:stretch/>
        </p:blipFill>
        <p:spPr>
          <a:xfrm>
            <a:off x="857160" y="2357280"/>
            <a:ext cx="2371680" cy="20005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1"/>
          <p:cNvSpPr/>
          <p:nvPr/>
        </p:nvSpPr>
        <p:spPr>
          <a:xfrm>
            <a:off x="785880" y="4300560"/>
            <a:ext cx="81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Are you against or for the p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900000" y="50734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We will  play basketball against the team from No. 1 Middl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9"/>
          <p:cNvSpPr/>
          <p:nvPr/>
        </p:nvSpPr>
        <p:spPr>
          <a:xfrm>
            <a:off x="324000" y="11970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 [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]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n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尾部；尾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179280" y="2602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357120" y="192888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is is a beautiful bir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 long t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t2.baidu.com/it/u=1894532112,3530909393&amp;fm=21&amp;gp=0.jpg"/>
          <p:cNvPicPr/>
          <p:nvPr/>
        </p:nvPicPr>
        <p:blipFill>
          <a:blip r:embed="rId1"/>
          <a:stretch/>
        </p:blipFill>
        <p:spPr>
          <a:xfrm>
            <a:off x="6662880" y="1158840"/>
            <a:ext cx="2109600" cy="2174760"/>
          </a:xfrm>
          <a:prstGeom prst="rect">
            <a:avLst/>
          </a:prstGeom>
          <a:ln w="0">
            <a:noFill/>
          </a:ln>
        </p:spPr>
      </p:pic>
      <p:sp>
        <p:nvSpPr>
          <p:cNvPr id="127" name="矩形 15"/>
          <p:cNvSpPr/>
          <p:nvPr/>
        </p:nvSpPr>
        <p:spPr>
          <a:xfrm>
            <a:off x="357120" y="407196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宋体"/>
              </a:rPr>
              <a:t>The cattle were swinging their tails to disperse the fl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http://t12.baidu.com/it/u=1857642542,1385646928&amp;fm=59"/>
          <p:cNvPicPr/>
          <p:nvPr/>
        </p:nvPicPr>
        <p:blipFill>
          <a:blip r:embed="rId2"/>
          <a:stretch/>
        </p:blipFill>
        <p:spPr>
          <a:xfrm>
            <a:off x="6649920" y="3724200"/>
            <a:ext cx="22194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9"/>
          <p:cNvSpPr/>
          <p:nvPr/>
        </p:nvSpPr>
        <p:spPr>
          <a:xfrm>
            <a:off x="571680" y="12254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l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3600" spc="-1" strike="noStrike">
                <a:solidFill>
                  <a:srgbClr val="007434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fl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æ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]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dj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水平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571680" y="2143080"/>
            <a:ext cx="542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road is not flat. Driv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st be careful when they drive there, or it may be very dangerous. Workers will build it some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571680" y="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t3.baidu.com/it/u=3493446069,1873812366&amp;fm=21&amp;gp=0.jpg"/>
          <p:cNvPicPr/>
          <p:nvPr/>
        </p:nvPicPr>
        <p:blipFill>
          <a:blip r:embed="rId1"/>
          <a:stretch/>
        </p:blipFill>
        <p:spPr>
          <a:xfrm>
            <a:off x="6095880" y="2060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9"/>
          <p:cNvSpPr/>
          <p:nvPr/>
        </p:nvSpPr>
        <p:spPr>
          <a:xfrm>
            <a:off x="324000" y="148608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up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ə'pɔn, ə'pən]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prep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在</a:t>
            </a:r>
            <a:r>
              <a:rPr b="1" lang="en-US" sz="3600" spc="-1" strike="noStrike">
                <a:solidFill>
                  <a:srgbClr val="800000"/>
                </a:solidFill>
                <a:latin typeface="新宋体"/>
                <a:ea typeface="新宋体"/>
              </a:rPr>
              <a:t>……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上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6560" y="247500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 set the plate upon the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24000" y="26028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0:28:52Z</dcterms:created>
  <dc:creator> </dc:creator>
  <dc:description> </dc:description>
  <cp:keywords/>
  <dc:language>en-US</dc:language>
  <cp:lastModifiedBy>USER</cp:lastModifiedBy>
  <dcterms:modified xsi:type="dcterms:W3CDTF">2013-09-24T08:59:43Z</dcterms:modified>
  <cp:revision>1</cp:revision>
  <dc:subject> </dc:subject>
  <dc:title> </dc:title>
</cp:coreProperties>
</file>