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A24-1DA7-4CCF-8DD9-D2523923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36C-DE9D-4CE3-9B09-B7D86BD5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4A7-F2C4-429F-A03B-F4EB7834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446-88D8-406A-A054-7872DF3A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D58-D78D-4FA9-B8B9-B5218B90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DCA-72A1-485B-B748-A3E32275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ECD-E8DC-46AB-AB75-D2F62A09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EFC-2396-456B-928F-B1DC87B9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556-8FC1-4BD7-B853-040784B0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32E-7B55-46BA-A7C0-A7E75D60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108-1209-4FEB-8ED1-FA79B3D7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3BF-E0A8-4A05-A91E-645EAC4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0D1B-2FD6-4521-86E4-495A4AD36D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819520" y="609480"/>
            <a:ext cx="45720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Unit 2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This is my sister.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2819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895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Persi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47242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43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733920" y="2540160"/>
            <a:ext cx="5410080" cy="431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010280" y="1447920"/>
            <a:ext cx="1447920" cy="685800"/>
          </a:xfrm>
          <a:prstGeom prst="wedgeEllipseCallout">
            <a:avLst>
              <a:gd name="adj1" fmla="val -21050"/>
              <a:gd name="adj2" fmla="val 96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If you are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 Jack,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Hello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！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I’m J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That is my fami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That is…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Those a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I love my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1447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315200" y="2133360"/>
            <a:ext cx="152280" cy="2819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52680" y="1781280"/>
            <a:ext cx="5791320" cy="5076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867280" y="1066680"/>
            <a:ext cx="1447920" cy="685800"/>
          </a:xfrm>
          <a:prstGeom prst="wedgeEllipseCallout">
            <a:avLst>
              <a:gd name="adj1" fmla="val -21050"/>
              <a:gd name="adj2" fmla="val 96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If you are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 Mary,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 Black"/>
              </a:rPr>
              <a:t>Hello</a:t>
            </a:r>
            <a:r>
              <a:rPr b="0" lang="zh-CN" sz="3200" spc="-1" strike="noStrike">
                <a:solidFill>
                  <a:srgbClr val="cc00cc"/>
                </a:solidFill>
                <a:latin typeface="Arial Black"/>
              </a:rPr>
              <a:t>！</a:t>
            </a:r>
            <a:r>
              <a:rPr b="0" lang="zh-CN" sz="3200" spc="-1" strike="noStrike">
                <a:solidFill>
                  <a:srgbClr val="cc00cc"/>
                </a:solidFill>
                <a:latin typeface="Arial Black"/>
              </a:rPr>
              <a:t>I’m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 Black"/>
              </a:rPr>
              <a:t>That is my fami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 Black"/>
              </a:rPr>
              <a:t>That is…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 Black"/>
              </a:rPr>
              <a:t>Those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 Black"/>
              </a:rPr>
              <a:t>I love my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114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95880" y="1828440"/>
            <a:ext cx="381240" cy="2133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34560" y="609480"/>
            <a:ext cx="41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Comic Sans MS"/>
              </a:rPr>
              <a:t>Let’s chan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6002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ther, father, this is my fa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ther, mother, that is my m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andfather, grandfa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andmother, grandm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rents, parents, these are my par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rother, sister, those are my frie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924680" y="48769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0" dur="197416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1905120"/>
            <a:ext cx="3429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her _a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ther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s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s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ndmother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grandfather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friend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grandparents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sister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1066680" y="1143000"/>
            <a:ext cx="83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the words with the people in the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2860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3581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743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038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4197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4876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53341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6000" y="10666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114800" cy="3943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0492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Black"/>
                <a:ea typeface="微软雅黑"/>
              </a:rPr>
              <a:t>Look and matc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380880" y="10666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isten and circle the words with the people in the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905120"/>
            <a:ext cx="365760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grand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fri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grand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127400" cy="4267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90720" y="2971800"/>
            <a:ext cx="15238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3429000"/>
            <a:ext cx="167616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5715000"/>
            <a:ext cx="1371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334120"/>
            <a:ext cx="266724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85800" y="-152280"/>
            <a:ext cx="210492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istening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wipe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39393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Game: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14300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If today is your birthday, please invite your friends to your party and introduce your family members to your friends.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如果今天是你的生日，邀请你的朋友来参加你的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party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，并向他介绍你的家人。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at do we learn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introduce family memb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ather, mother, sister, brother, paren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randfather, grandmother, grandparen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amily, aunt, uncle, cousin, these,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tenc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 is…           That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…    Those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’s he/sh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Homework: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133720"/>
            <a:ext cx="88390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1. Recite 1a  &amp;  1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2. Copy the new words of 1a 4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3. Try to write your report d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620120" y="487692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743040"/>
            <a:ext cx="8153640" cy="6114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352680" y="152280"/>
            <a:ext cx="2238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et's   sing: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3657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华文琥珀"/>
              </a:rPr>
              <a:t>Let’s sa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his is …             That i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hese are …        Those a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6576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ho’s he?        He’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ho’s she?       She’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ho are they?   They’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1080" y="2133720"/>
            <a:ext cx="2664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133720"/>
            <a:ext cx="2663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76640"/>
            <a:ext cx="172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076640"/>
            <a:ext cx="2016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un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4076640"/>
            <a:ext cx="2087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4038480"/>
            <a:ext cx="23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6172200"/>
            <a:ext cx="194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cou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62485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0"/>
            <a:ext cx="50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My Family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762120"/>
            <a:ext cx="25905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randparent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581280" y="1218960"/>
            <a:ext cx="1143000" cy="53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723920" y="1218960"/>
            <a:ext cx="1219320" cy="53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289548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arent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019920" y="3352680"/>
            <a:ext cx="76176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781680" y="3352680"/>
            <a:ext cx="914400" cy="5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1133640" cy="1317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800600" y="2666880"/>
            <a:ext cx="1293840" cy="144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590920" y="2666880"/>
            <a:ext cx="1174680" cy="1368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1233720" cy="136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685800"/>
            <a:ext cx="140364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2286000" y="609480"/>
            <a:ext cx="1333440" cy="149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1297080" cy="1800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7391520" y="4572000"/>
            <a:ext cx="1269720" cy="1584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4876920" y="4495680"/>
            <a:ext cx="1425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0" y="167652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Father’s mother is my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Mother’s brother is m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other’s father is my 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Father’s sister is m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I’m Lucy. This is my father. I’m his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Uncle’s daughter is my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Tom is my son. I’m not his father. I am his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My father and mother are my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My __________ are my parents’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I’m Jim. This is my mother. I’m her only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2120" y="609480"/>
            <a:ext cx="2735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ave a tr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342680" y="1600200"/>
            <a:ext cx="24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725360" y="213372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266000" y="2590920"/>
            <a:ext cx="22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267800" y="31240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400800" y="35812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877640" y="411480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7467840" y="449568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410440" y="50292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913680" y="548640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nd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697160" y="59436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81080" y="2133720"/>
            <a:ext cx="2664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2133720"/>
            <a:ext cx="2663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076640"/>
            <a:ext cx="172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40000" y="4076640"/>
            <a:ext cx="2016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un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076640"/>
            <a:ext cx="2087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4038480"/>
            <a:ext cx="23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6172200"/>
            <a:ext cx="194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cou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62485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0"/>
            <a:ext cx="50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My Family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762120"/>
            <a:ext cx="25905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randparent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1218960"/>
            <a:ext cx="1143000" cy="53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723920" y="1218960"/>
            <a:ext cx="1219320" cy="53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289548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arent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019920" y="3352680"/>
            <a:ext cx="76176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781680" y="3352680"/>
            <a:ext cx="914400" cy="5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1133640" cy="1317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800600" y="2666880"/>
            <a:ext cx="1293840" cy="144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590920" y="2666880"/>
            <a:ext cx="1174680" cy="1368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1233720" cy="1368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638680" y="685800"/>
            <a:ext cx="140364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2286000" y="609480"/>
            <a:ext cx="1333440" cy="1495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1297080" cy="180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7391520" y="4572000"/>
            <a:ext cx="126972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4876920" y="4495680"/>
            <a:ext cx="1425600" cy="2133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2590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et’s 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Pairwork (</a:t>
            </a: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两人小组活动）</a:t>
            </a: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Take out your photo, and introdu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your family.(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拿出照片，介绍你的家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成员。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3276720"/>
            <a:ext cx="6781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Hello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！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I’m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This is my fami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This is…     These a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I love my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81080" y="2133720"/>
            <a:ext cx="2664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2133720"/>
            <a:ext cx="2663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76640"/>
            <a:ext cx="172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4076640"/>
            <a:ext cx="2016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un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076640"/>
            <a:ext cx="2087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038480"/>
            <a:ext cx="23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6172200"/>
            <a:ext cx="194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cou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62485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0"/>
            <a:ext cx="50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My Family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762120"/>
            <a:ext cx="25905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randparent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81280" y="1218960"/>
            <a:ext cx="1143000" cy="53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723920" y="1218960"/>
            <a:ext cx="1219320" cy="53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289548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arent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019920" y="3352680"/>
            <a:ext cx="76176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680" y="3352680"/>
            <a:ext cx="914400" cy="5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1133640" cy="131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800600" y="2666880"/>
            <a:ext cx="1293840" cy="144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590920" y="2666880"/>
            <a:ext cx="1174680" cy="1368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1233720" cy="1368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5638680" y="685800"/>
            <a:ext cx="1403640" cy="1440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2286000" y="609480"/>
            <a:ext cx="1333440" cy="1495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1297080" cy="1800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7391520" y="4572000"/>
            <a:ext cx="1269720" cy="1584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1"/>
          <a:stretch/>
        </p:blipFill>
        <p:spPr>
          <a:xfrm>
            <a:off x="4876920" y="4495680"/>
            <a:ext cx="1425600" cy="2133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2590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et’s 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Pairwork (</a:t>
            </a: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两人小组活动）</a:t>
            </a: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:</a:t>
            </a:r>
            <a:br>
              <a:rPr sz="4000"/>
            </a:b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If you are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 Jenn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Hello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！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I’m Jenn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That is my fami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That is…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Those a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I love my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38600" y="1752480"/>
            <a:ext cx="4505400" cy="5105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 flipV="1">
            <a:off x="5029200" y="2819520"/>
            <a:ext cx="1371600" cy="1828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752480"/>
            <a:ext cx="1447560" cy="685800"/>
          </a:xfrm>
          <a:prstGeom prst="wedgeEllipseCallout">
            <a:avLst>
              <a:gd name="adj1" fmla="val -21050"/>
              <a:gd name="adj2" fmla="val 96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752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张海娜</cp:lastModifiedBy>
  <dcterms:modified xsi:type="dcterms:W3CDTF">2013-12-02T11:38:2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