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54.png" ContentType="image/png"/>
  <Override PartName="/ppt/media/image33.jpeg" ContentType="image/jpeg"/>
  <Override PartName="/ppt/media/image4.gif" ContentType="image/gif"/>
  <Override PartName="/ppt/media/image36.jpeg" ContentType="image/jpeg"/>
  <Override PartName="/ppt/media/image2.jpeg" ContentType="image/jpeg"/>
  <Override PartName="/ppt/media/image64.gif" ContentType="image/gif"/>
  <Override PartName="/ppt/media/image15.png" ContentType="image/png"/>
  <Override PartName="/ppt/media/image18.jpeg" ContentType="image/jpeg"/>
  <Override PartName="/ppt/media/image59.gif" ContentType="image/gif"/>
  <Override PartName="/ppt/media/image13.png" ContentType="image/png"/>
  <Override PartName="/ppt/media/image20.gif" ContentType="image/gif"/>
  <Override PartName="/ppt/media/image46.gif" ContentType="image/gif"/>
  <Override PartName="/ppt/media/image22.jpeg" ContentType="image/jpeg"/>
  <Override PartName="/ppt/media/image14.png" ContentType="image/png"/>
  <Override PartName="/ppt/media/image21.gif" ContentType="image/gif"/>
  <Override PartName="/ppt/media/image57.gif" ContentType="image/gif"/>
  <Override PartName="/ppt/media/image10.jpeg" ContentType="image/jpeg"/>
  <Override PartName="/ppt/media/image19.gif" ContentType="image/gif"/>
  <Override PartName="/ppt/media/image1.jpeg" ContentType="image/jpeg"/>
  <Override PartName="/ppt/media/image27.gif" ContentType="image/gif"/>
  <Override PartName="/ppt/media/image62.gif" ContentType="image/gif"/>
  <Override PartName="/ppt/media/image61.gif" ContentType="image/gif"/>
  <Override PartName="/ppt/media/image60.jpeg" ContentType="image/jpeg"/>
  <Override PartName="/ppt/media/image24.gif" ContentType="image/gif"/>
  <Override PartName="/ppt/media/image32.jpeg" ContentType="image/jpeg"/>
  <Override PartName="/ppt/media/image17.png" ContentType="image/png"/>
  <Override PartName="/ppt/media/image63.gif" ContentType="image/gif"/>
  <Override PartName="/ppt/media/image3.gif" ContentType="image/gif"/>
  <Override PartName="/ppt/media/image26.png" ContentType="image/png"/>
  <Override PartName="/ppt/media/image23.gif" ContentType="image/gif"/>
  <Override PartName="/ppt/media/image28.gif" ContentType="image/gif"/>
  <Override PartName="/ppt/media/image8.png" ContentType="image/png"/>
  <Override PartName="/ppt/media/image45.gif" ContentType="image/gif"/>
  <Override PartName="/ppt/media/image11.jpeg" ContentType="image/jpeg"/>
  <Override PartName="/ppt/media/image5.jpeg" ContentType="image/jpeg"/>
  <Override PartName="/ppt/media/image29.gif" ContentType="image/gif"/>
  <Override PartName="/ppt/media/image6.gif" ContentType="image/gif"/>
  <Override PartName="/ppt/media/image25.gif" ContentType="image/gif"/>
  <Override PartName="/ppt/media/image16.png" ContentType="image/png"/>
  <Override PartName="/ppt/media/image7.jpeg" ContentType="image/jpeg"/>
  <Override PartName="/ppt/media/image12.jpeg" ContentType="image/jpeg"/>
  <Override PartName="/ppt/media/image41.gif" ContentType="image/gif"/>
  <Override PartName="/ppt/media/image9.gif" ContentType="image/gif"/>
  <Override PartName="/ppt/media/image39.gif" ContentType="image/gif"/>
  <Override PartName="/ppt/media/image30.gif" ContentType="image/gif"/>
  <Override PartName="/ppt/media/image31.jpeg" ContentType="image/jpeg"/>
  <Override PartName="/ppt/media/image34.jpeg" ContentType="image/jpeg"/>
  <Override PartName="/ppt/media/image44.gif" ContentType="image/gif"/>
  <Override PartName="/ppt/media/image35.png" ContentType="image/png"/>
  <Override PartName="/ppt/media/image42.gif" ContentType="image/gif"/>
  <Override PartName="/ppt/media/image37.gif" ContentType="image/gif"/>
  <Override PartName="/ppt/media/image38.gif" ContentType="image/gif"/>
  <Override PartName="/ppt/media/image55.jpeg" ContentType="image/jpeg"/>
  <Override PartName="/ppt/media/image40.gif" ContentType="image/gif"/>
  <Override PartName="/ppt/media/image43.gif" ContentType="image/gif"/>
  <Override PartName="/ppt/media/image47.gif" ContentType="image/gif"/>
  <Override PartName="/ppt/media/image48.gif" ContentType="image/gif"/>
  <Override PartName="/ppt/media/image49.gif" ContentType="image/gif"/>
  <Override PartName="/ppt/media/image56.jpeg" ContentType="image/jpeg"/>
  <Override PartName="/ppt/media/image5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78D-C58C-4D66-9ED3-0C3E9788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201-2F29-4A74-A7F9-A014FEB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6A4-52F6-4E2B-8F9C-26D4F7D0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CEC-15E3-48F2-A95D-4C1D3E92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DEF-F0CC-4179-AEA5-1A43896A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ACB-9FEC-4994-9AA7-73B62C0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057-07F1-40BE-84C8-E912B77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14A-5FDA-4498-8E3D-81870B78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1FA-7594-4EC8-AF38-5CC827E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1C4-1A69-40FA-BF0A-7412D7CB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F7A-F276-4609-B827-6145557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33A-8A45-4A32-8965-1E7829BF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840-0C92-4D0B-BCEC-59573A857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1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3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27.gif"/><Relationship Id="rId11" Type="http://schemas.openxmlformats.org/officeDocument/2006/relationships/image" Target="../media/image44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7.gif"/><Relationship Id="rId15" Type="http://schemas.openxmlformats.org/officeDocument/2006/relationships/image" Target="../media/image48.gif"/><Relationship Id="rId16" Type="http://schemas.openxmlformats.org/officeDocument/2006/relationships/image" Target="../media/image49.gif"/><Relationship Id="rId17" Type="http://schemas.openxmlformats.org/officeDocument/2006/relationships/image" Target="../media/image28.gif"/><Relationship Id="rId18" Type="http://schemas.openxmlformats.org/officeDocument/2006/relationships/image" Target="../media/image50.gif"/><Relationship Id="rId19" Type="http://schemas.openxmlformats.org/officeDocument/2006/relationships/image" Target="../media/image19.gif"/><Relationship Id="rId20" Type="http://schemas.openxmlformats.org/officeDocument/2006/relationships/image" Target="../media/image23.gif"/><Relationship Id="rId21" Type="http://schemas.openxmlformats.org/officeDocument/2006/relationships/image" Target="../media/image51.gif"/><Relationship Id="rId22" Type="http://schemas.openxmlformats.org/officeDocument/2006/relationships/image" Target="../media/image21.gif"/><Relationship Id="rId23" Type="http://schemas.openxmlformats.org/officeDocument/2006/relationships/image" Target="../media/image52.gif"/><Relationship Id="rId24" Type="http://schemas.openxmlformats.org/officeDocument/2006/relationships/image" Target="../media/image20.gif"/><Relationship Id="rId25" Type="http://schemas.openxmlformats.org/officeDocument/2006/relationships/image" Target="../media/image25.gif"/><Relationship Id="rId26" Type="http://schemas.openxmlformats.org/officeDocument/2006/relationships/image" Target="../media/image24.gif"/><Relationship Id="rId27" Type="http://schemas.openxmlformats.org/officeDocument/2006/relationships/image" Target="../media/image53.gif"/><Relationship Id="rId28" Type="http://schemas.openxmlformats.org/officeDocument/2006/relationships/image" Target="../media/image13.png"/><Relationship Id="rId2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61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image" Target="../media/image61.gif"/><Relationship Id="rId9" Type="http://schemas.openxmlformats.org/officeDocument/2006/relationships/image" Target="../media/image61.gif"/><Relationship Id="rId10" Type="http://schemas.openxmlformats.org/officeDocument/2006/relationships/image" Target="../media/image63.gif"/><Relationship Id="rId11" Type="http://schemas.openxmlformats.org/officeDocument/2006/relationships/image" Target="../media/image64.gif"/><Relationship Id="rId12" Type="http://schemas.openxmlformats.org/officeDocument/2006/relationships/image" Target="../media/image6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hyperlink" Target="file:///../Local%20Settings/Temp/Rar$DI00.578/7STARTER%20UNIT%203%20SECTION%20B%201A.mp3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032000" cy="129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692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ter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2565360"/>
            <a:ext cx="360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lor </a:t>
            </a: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i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35280" y="476280"/>
            <a:ext cx="1809720" cy="66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6000" y="4797360"/>
            <a:ext cx="216072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105264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565360"/>
            <a:ext cx="633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</a:t>
            </a:r>
            <a:r>
              <a:rPr b="0" lang="en-US" sz="3600" spc="-1" strike="noStrike">
                <a:solidFill>
                  <a:srgbClr val="008000"/>
                </a:solidFill>
                <a:latin typeface="Arial Black"/>
              </a:rPr>
              <a:t>gree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2130480" cy="202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8040" y="90792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2565360"/>
            <a:ext cx="633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430360" cy="259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78040" y="98100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2565360"/>
            <a:ext cx="633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bla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2684520" cy="241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78040" y="90792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2565360"/>
            <a:ext cx="633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</a:t>
            </a: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orang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865600"/>
            <a:ext cx="2592360" cy="249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632720" cy="270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140360" y="4076640"/>
            <a:ext cx="987120" cy="1067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1012680" cy="1067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164360" y="4149720"/>
            <a:ext cx="1066680" cy="101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116000" y="407664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2771640" y="4149720"/>
            <a:ext cx="1067040" cy="99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75680" y="2852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五个元音字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37"/>
          <p:cNvSpPr/>
          <p:nvPr/>
        </p:nvSpPr>
        <p:spPr>
          <a:xfrm flipV="1">
            <a:off x="5580000" y="5157720"/>
            <a:ext cx="9720" cy="10080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496800" y="1765440"/>
            <a:ext cx="8467920" cy="353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直接连接符 19"/>
          <p:cNvSpPr/>
          <p:nvPr/>
        </p:nvSpPr>
        <p:spPr>
          <a:xfrm flipH="1">
            <a:off x="5568480" y="1765440"/>
            <a:ext cx="1800" cy="35002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直接连接符 24"/>
          <p:cNvSpPr/>
          <p:nvPr/>
        </p:nvSpPr>
        <p:spPr>
          <a:xfrm>
            <a:off x="477720" y="3533760"/>
            <a:ext cx="850608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31"/>
          <p:cNvSpPr/>
          <p:nvPr/>
        </p:nvSpPr>
        <p:spPr>
          <a:xfrm>
            <a:off x="711360" y="1836720"/>
            <a:ext cx="857160" cy="714240"/>
          </a:xfrm>
          <a:prstGeom prst="rect">
            <a:avLst/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33"/>
          <p:cNvSpPr/>
          <p:nvPr/>
        </p:nvSpPr>
        <p:spPr>
          <a:xfrm>
            <a:off x="684360" y="3622680"/>
            <a:ext cx="857160" cy="714240"/>
          </a:xfrm>
          <a:prstGeom prst="rect">
            <a:avLst/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393720" y="205596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34840" y="205092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723640" y="17654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220880" y="17654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1641960" y="20509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670040" y="28558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179440" y="28558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666160" y="28558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171960" y="2836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682800" y="28558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4163400" y="28368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639040" y="2637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389720" y="26226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8"/>
          <p:cNvSpPr/>
          <p:nvPr/>
        </p:nvSpPr>
        <p:spPr>
          <a:xfrm>
            <a:off x="1996920" y="4122720"/>
            <a:ext cx="3286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字母 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在开音节中的发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0"/>
          <p:cNvSpPr/>
          <p:nvPr/>
        </p:nvSpPr>
        <p:spPr>
          <a:xfrm>
            <a:off x="5925960" y="4122720"/>
            <a:ext cx="2286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在闭音节中的发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65"/>
          <p:cNvSpPr/>
          <p:nvPr/>
        </p:nvSpPr>
        <p:spPr>
          <a:xfrm>
            <a:off x="2425680" y="4908600"/>
            <a:ext cx="328608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字母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o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在开音节中的发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6"/>
          <p:cNvSpPr/>
          <p:nvPr/>
        </p:nvSpPr>
        <p:spPr>
          <a:xfrm>
            <a:off x="5854680" y="4908600"/>
            <a:ext cx="2286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o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在闭音节中的发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直接连接符 37"/>
          <p:cNvSpPr/>
          <p:nvPr/>
        </p:nvSpPr>
        <p:spPr>
          <a:xfrm flipV="1">
            <a:off x="468360" y="2637000"/>
            <a:ext cx="849636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直接连接符 43"/>
          <p:cNvSpPr/>
          <p:nvPr/>
        </p:nvSpPr>
        <p:spPr>
          <a:xfrm flipV="1">
            <a:off x="496800" y="4437000"/>
            <a:ext cx="8396280" cy="446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87800" y="20509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2816280" y="205092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46"/>
          <p:cNvSpPr/>
          <p:nvPr/>
        </p:nvSpPr>
        <p:spPr>
          <a:xfrm>
            <a:off x="684360" y="2732040"/>
            <a:ext cx="857160" cy="714600"/>
          </a:xfrm>
          <a:prstGeom prst="rect">
            <a:avLst/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046920" y="263700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390720" y="26370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81040" y="2637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715040" y="369396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232360" y="36939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2890080" y="36990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619600" y="36450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67"/>
          <p:cNvSpPr/>
          <p:nvPr/>
        </p:nvSpPr>
        <p:spPr>
          <a:xfrm>
            <a:off x="684360" y="4551480"/>
            <a:ext cx="857160" cy="714240"/>
          </a:xfrm>
          <a:prstGeom prst="rect">
            <a:avLst/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638720" y="46386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2333880" y="44798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5661000" y="44085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854600" y="3551400"/>
            <a:ext cx="6462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4854600" y="4479840"/>
            <a:ext cx="642960" cy="42876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72"/>
          <p:cNvGrpSpPr/>
          <p:nvPr/>
        </p:nvGrpSpPr>
        <p:grpSpPr>
          <a:xfrm>
            <a:off x="7854840" y="3551400"/>
            <a:ext cx="500040" cy="465120"/>
            <a:chOff x="7854840" y="3551400"/>
            <a:chExt cx="500040" cy="465120"/>
          </a:xfrm>
        </p:grpSpPr>
        <p:pic>
          <p:nvPicPr>
            <p:cNvPr id="150" name="Picture 5" descr=""/>
            <p:cNvPicPr/>
            <p:nvPr/>
          </p:nvPicPr>
          <p:blipFill>
            <a:blip r:embed="rId4"/>
            <a:stretch/>
          </p:blipFill>
          <p:spPr>
            <a:xfrm>
              <a:off x="7854840" y="3551400"/>
              <a:ext cx="50004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"/>
            <p:cNvPicPr/>
            <p:nvPr/>
          </p:nvPicPr>
          <p:blipFill>
            <a:blip r:embed="rId5"/>
            <a:stretch/>
          </p:blipFill>
          <p:spPr>
            <a:xfrm>
              <a:off x="8069040" y="3694320"/>
              <a:ext cx="152280" cy="21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1" descr=""/>
          <p:cNvPicPr/>
          <p:nvPr/>
        </p:nvPicPr>
        <p:blipFill>
          <a:blip r:embed="rId6"/>
          <a:stretch/>
        </p:blipFill>
        <p:spPr>
          <a:xfrm>
            <a:off x="7783560" y="4479840"/>
            <a:ext cx="57132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5714640" y="212256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367760" y="21337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618520" y="299736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9240" y="83664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Listen and repeat.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听一听，读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836640"/>
            <a:ext cx="71892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直接连接符 37"/>
          <p:cNvSpPr/>
          <p:nvPr/>
        </p:nvSpPr>
        <p:spPr>
          <a:xfrm flipV="1">
            <a:off x="468360" y="6235200"/>
            <a:ext cx="8001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直接连接符 37"/>
          <p:cNvSpPr/>
          <p:nvPr/>
        </p:nvSpPr>
        <p:spPr>
          <a:xfrm flipV="1">
            <a:off x="468360" y="5300640"/>
            <a:ext cx="9360" cy="9367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直接连接符 37"/>
          <p:cNvSpPr/>
          <p:nvPr/>
        </p:nvSpPr>
        <p:spPr>
          <a:xfrm flipV="1">
            <a:off x="8964720" y="5300640"/>
            <a:ext cx="0" cy="9367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67"/>
          <p:cNvSpPr/>
          <p:nvPr/>
        </p:nvSpPr>
        <p:spPr>
          <a:xfrm>
            <a:off x="684360" y="5451480"/>
            <a:ext cx="857160" cy="714240"/>
          </a:xfrm>
          <a:prstGeom prst="rect">
            <a:avLst/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24320" y="54878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47920" y="551664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78920" y="546876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r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8320" y="5513400"/>
            <a:ext cx="10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88200" y="29941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49320" y="29973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3760" y="3645000"/>
            <a:ext cx="13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8244000" y="90792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2349360"/>
            <a:ext cx="7848360" cy="352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83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1960" y="836640"/>
            <a:ext cx="47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Listen and repeat.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听一听，读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3240" y="14050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THE ENGLISH ALPHAB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583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 a   B b   C c   D d   E e   F f   G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3429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H h   I i   J j   K k   L l   M m   N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422100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 o   P p   Q q   R r   S s   T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501336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U u   V v   W w   X x   Y y   Z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956720" y="981000"/>
            <a:ext cx="5997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2205000"/>
            <a:ext cx="54734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4360" y="765000"/>
            <a:ext cx="53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imes New Roman"/>
              </a:rPr>
              <a:t>Fill in the missing 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981000"/>
            <a:ext cx="2806560" cy="65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ercise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54640" y="134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填入所缺的字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2035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        c    d            f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1384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    j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l           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07520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   p         r     s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502920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u        w   x            </a:t>
            </a:r>
            <a:r>
              <a:rPr b="1" lang="en-US" sz="3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5440" y="222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9800" y="21765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65440" y="2173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9080" y="3141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45080" y="315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4520" y="31590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91240" y="409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5440" y="4121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77800" y="5032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1440" y="4984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2941920" cy="294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5280" y="2233440"/>
            <a:ext cx="7905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619280" y="2235240"/>
            <a:ext cx="8287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700360" y="2235240"/>
            <a:ext cx="77148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780000" y="223344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003640" y="223344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6156360" y="2233440"/>
            <a:ext cx="7999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380360" y="2233440"/>
            <a:ext cx="78084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95280" y="3243240"/>
            <a:ext cx="87624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1692360" y="3241800"/>
            <a:ext cx="704880" cy="761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2700360" y="321300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3780000" y="3213000"/>
            <a:ext cx="87624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076720" y="3171960"/>
            <a:ext cx="790560" cy="761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1619280" y="4251240"/>
            <a:ext cx="82872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6084720" y="317196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7308720" y="3143160"/>
            <a:ext cx="87660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463680" y="4251240"/>
            <a:ext cx="723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627280" y="4149720"/>
            <a:ext cx="857160" cy="94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3780000" y="4251240"/>
            <a:ext cx="82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5076720" y="4251240"/>
            <a:ext cx="714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1"/>
          <a:stretch/>
        </p:blipFill>
        <p:spPr>
          <a:xfrm>
            <a:off x="6156360" y="425124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2"/>
          <a:stretch/>
        </p:blipFill>
        <p:spPr>
          <a:xfrm>
            <a:off x="468360" y="5300640"/>
            <a:ext cx="79992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3"/>
          <a:stretch/>
        </p:blipFill>
        <p:spPr>
          <a:xfrm>
            <a:off x="1619280" y="5300640"/>
            <a:ext cx="7812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4"/>
          <a:stretch/>
        </p:blipFill>
        <p:spPr>
          <a:xfrm>
            <a:off x="2700360" y="530064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5"/>
          <a:stretch/>
        </p:blipFill>
        <p:spPr>
          <a:xfrm>
            <a:off x="6156360" y="5300640"/>
            <a:ext cx="79056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6"/>
          <a:stretch/>
        </p:blipFill>
        <p:spPr>
          <a:xfrm>
            <a:off x="3780000" y="5332320"/>
            <a:ext cx="84744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7"/>
          <a:stretch/>
        </p:blipFill>
        <p:spPr>
          <a:xfrm>
            <a:off x="5076720" y="5300640"/>
            <a:ext cx="771480" cy="762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692280"/>
            <a:ext cx="72072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90792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Listen and sing the alphabet song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听录音，唱字母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8"/>
          <a:stretch/>
        </p:blipFill>
        <p:spPr>
          <a:xfrm>
            <a:off x="7596360" y="836640"/>
            <a:ext cx="5997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826920" y="419040"/>
            <a:ext cx="7417080" cy="5962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125360"/>
            <a:ext cx="718920" cy="64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39400" y="1017720"/>
            <a:ext cx="4841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Listen and read the chan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听录音，读儿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89320" y="2063880"/>
            <a:ext cx="5321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-E-I-O-U,           A-E-I-O-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-E-I-O-U.           A in Grac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 in Dale;              E in gre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E in evening;         I in whi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 in hi;                   O in n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O in OK;               U in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U in ruler.             A-E-I-O-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-E-I-O-U,           A-E-I-O-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543240" cy="68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76720" y="476280"/>
            <a:ext cx="2592360" cy="834480"/>
            <a:chOff x="3276720" y="476280"/>
            <a:chExt cx="2592360" cy="834480"/>
          </a:xfrm>
        </p:grpSpPr>
        <p:sp>
          <p:nvSpPr>
            <p:cNvPr id="48" name=""/>
            <p:cNvSpPr/>
            <p:nvPr/>
          </p:nvSpPr>
          <p:spPr>
            <a:xfrm>
              <a:off x="3276720" y="476280"/>
              <a:ext cx="2592360" cy="83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212720" y="642960"/>
              <a:ext cx="1483560" cy="50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66"/>
                    </a:solidFill>
                    <a:miter/>
                  </a:ln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0000"/>
                      </a:gs>
                      <a:gs pos="100000">
                        <a:srgbClr val="ffcc66"/>
                      </a:gs>
                    </a:gsLst>
                    <a:lin ang="135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教学目标</a:t>
              </a:r>
              <a:endParaRPr b="1" lang="en-US" sz="24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ff0000"/>
                    </a:gs>
                    <a:gs pos="100000">
                      <a:srgbClr val="ffcc66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2720" y="1227240"/>
              <a:ext cx="1472760" cy="1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20720" y="559800"/>
              <a:ext cx="575640" cy="6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0720" y="559800"/>
              <a:ext cx="575640" cy="6674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26920" y="1413000"/>
            <a:ext cx="7632720" cy="4575960"/>
            <a:chOff x="826920" y="1413000"/>
            <a:chExt cx="7632720" cy="457596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26920" y="1413000"/>
              <a:ext cx="7632720" cy="44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258560" y="1558080"/>
              <a:ext cx="6913800" cy="44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40000"/>
                </a:lnSpc>
                <a:buClr>
                  <a:srgbClr val="ff66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Revise and master drills: Wha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color is it? It is … (color)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Spell and read the words of colo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2. Write twenty-six letters fluently, both big and small le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3. Be familiar with rising and falling tone.</a:t>
              </a:r>
              <a:r>
                <a:rPr b="1" lang="en-US" sz="3200" spc="-1" strike="noStrike">
                  <a:solidFill>
                    <a:srgbClr val="ff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659640" y="3716280"/>
            <a:ext cx="1493640" cy="2235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1876320" cy="22496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6"/>
          <p:cNvSpPr/>
          <p:nvPr/>
        </p:nvSpPr>
        <p:spPr>
          <a:xfrm>
            <a:off x="249120" y="2243160"/>
            <a:ext cx="785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Good morning, H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: Good _________, A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Look! What ______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: It’s a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Spell it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: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: It’s ________________ .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2107080" y="26748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矩形 17"/>
          <p:cNvSpPr/>
          <p:nvPr/>
        </p:nvSpPr>
        <p:spPr>
          <a:xfrm>
            <a:off x="3492720" y="317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18"/>
          <p:cNvSpPr/>
          <p:nvPr/>
        </p:nvSpPr>
        <p:spPr>
          <a:xfrm>
            <a:off x="2410560" y="3645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1336680"/>
            <a:ext cx="2806560" cy="65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ercis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 rot="7449000">
            <a:off x="5859720" y="4083480"/>
            <a:ext cx="1319400" cy="584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03640" y="472140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-E-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6400" y="5589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ellow and 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2600" y="68256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Complete the following dialo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6920" y="1336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看图，完成下列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272360" cy="3554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47280" y="2133720"/>
            <a:ext cx="6264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. Copy the letters Aa-Zz o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. Write down the conversation o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02160" y="817560"/>
            <a:ext cx="407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hd"/>
          <p:cNvPicPr/>
          <p:nvPr/>
        </p:nvPicPr>
        <p:blipFill>
          <a:blip r:embed="rId2"/>
          <a:stretch/>
        </p:blipFill>
        <p:spPr>
          <a:xfrm>
            <a:off x="7956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hd"/>
          <p:cNvPicPr/>
          <p:nvPr/>
        </p:nvPicPr>
        <p:blipFill>
          <a:blip r:embed="rId3"/>
          <a:stretch/>
        </p:blipFill>
        <p:spPr>
          <a:xfrm>
            <a:off x="2843280" y="458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hd"/>
          <p:cNvPicPr/>
          <p:nvPr/>
        </p:nvPicPr>
        <p:blipFill>
          <a:blip r:embed="rId4"/>
          <a:stretch/>
        </p:blipFill>
        <p:spPr>
          <a:xfrm>
            <a:off x="2050920" y="191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971640" y="52293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804000" y="2637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708360" y="62064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60" y="2492280"/>
            <a:ext cx="90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end</a:t>
            </a: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of </a:t>
            </a: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this</a:t>
            </a:r>
            <a:r>
              <a:rPr b="1" lang="en-US" sz="7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iod</a:t>
            </a:r>
            <a:r>
              <a:rPr b="1" lang="en-US" sz="72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hd"/>
          <p:cNvPicPr/>
          <p:nvPr/>
        </p:nvPicPr>
        <p:blipFill>
          <a:blip r:embed="rId8"/>
          <a:stretch/>
        </p:blipFill>
        <p:spPr>
          <a:xfrm>
            <a:off x="6156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d"/>
          <p:cNvPicPr/>
          <p:nvPr/>
        </p:nvPicPr>
        <p:blipFill>
          <a:blip r:embed="rId9"/>
          <a:stretch/>
        </p:blipFill>
        <p:spPr>
          <a:xfrm>
            <a:off x="7308720" y="5805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179280" y="1484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250920" y="549360"/>
            <a:ext cx="3779640" cy="25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24000" y="26028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264360" cy="415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136836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2521080" cy="2138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46200" y="4221000"/>
            <a:ext cx="5186520" cy="189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620640"/>
            <a:ext cx="72072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62064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Listen to the conversation and color the things in the pic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听对话，给图中的物品涂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667640" y="119700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4600" y="2178000"/>
            <a:ext cx="50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The key is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yellow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3360" y="3546360"/>
            <a:ext cx="51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The ruler is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3160" y="4915080"/>
            <a:ext cx="51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The pen is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38160"/>
            <a:ext cx="792000" cy="50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8640" y="689040"/>
            <a:ext cx="66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isten again. Complete the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5600" y="1371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再听一遍录音并完成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9480" y="34592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Times New Roman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4720" y="48988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2592360" cy="1659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2592360" cy="1117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308720" y="126828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68360" y="0"/>
            <a:ext cx="3311640" cy="1225440"/>
            <a:chOff x="468360" y="0"/>
            <a:chExt cx="3311640" cy="12254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68360" y="0"/>
              <a:ext cx="33116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28720" y="189000"/>
              <a:ext cx="2449440" cy="647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</a:rPr>
                <a:t>Tapescrip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4360" y="981000"/>
            <a:ext cx="79200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’s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a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ye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a r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a 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It’s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83664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98100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637000"/>
            <a:ext cx="547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It’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It’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90792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492280"/>
            <a:ext cx="56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803680"/>
            <a:ext cx="2486160" cy="228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981000"/>
            <a:ext cx="82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PMingLiU"/>
              </a:rPr>
              <a:t>Talk about the letters by using the followi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隶书"/>
              </a:rPr>
              <a:t>用下面的句型谈论英文字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2565360"/>
            <a:ext cx="6337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What color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t’s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yellow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2894040" cy="241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02:24:37Z</dcterms:created>
  <dc:creator>卢玉霞</dc:creator>
  <dc:description/>
  <dc:language>en-US</dc:language>
  <cp:lastModifiedBy>USER</cp:lastModifiedBy>
  <dcterms:modified xsi:type="dcterms:W3CDTF">2014-03-07T08:09:06Z</dcterms:modified>
  <cp:revision>171</cp:revision>
  <dc:subject/>
  <dc:title>  </dc:title>
</cp:coreProperties>
</file>