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3.gif" ContentType="image/gif"/>
  <Override PartName="/ppt/media/image40.jpeg" ContentType="image/jpeg"/>
  <Override PartName="/ppt/media/image51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52.gif" ContentType="image/gif"/>
  <Override PartName="/ppt/media/image44.jpeg" ContentType="image/jpeg"/>
  <Override PartName="/ppt/media/image43.png" ContentType="image/png"/>
  <Override PartName="/ppt/media/image12.png" ContentType="image/png"/>
  <Override PartName="/ppt/media/image23.jpeg" ContentType="image/jpeg"/>
  <Override PartName="/ppt/media/image56.gif" ContentType="image/gif"/>
  <Override PartName="/ppt/media/image2.jpeg" ContentType="image/jpeg"/>
  <Override PartName="/ppt/media/image36.jpeg" ContentType="image/jpeg"/>
  <Override PartName="/ppt/media/image15.png" ContentType="image/png"/>
  <Override PartName="/ppt/media/image59.gif" ContentType="image/gif"/>
  <Override PartName="/ppt/media/image24.jpeg" ContentType="image/jpeg"/>
  <Override PartName="/ppt/media/image28.png" ContentType="image/png"/>
  <Override PartName="/ppt/media/image38.jpeg" ContentType="image/jpeg"/>
  <Override PartName="/ppt/media/image64.jpeg" ContentType="image/jpeg"/>
  <Override PartName="/ppt/media/image21.gif" ContentType="image/gif"/>
  <Override PartName="/ppt/media/image58.gif" ContentType="image/gif"/>
  <Override PartName="/ppt/media/image14.png" ContentType="image/png"/>
  <Override PartName="/ppt/media/image19.jpeg" ContentType="image/jpeg"/>
  <Override PartName="/ppt/media/image25.png" ContentType="image/png"/>
  <Override PartName="/ppt/media/image69.gif" ContentType="image/gif"/>
  <Override PartName="/ppt/media/image4.gif" ContentType="image/gif"/>
  <Override PartName="/ppt/media/image27.png" ContentType="image/png"/>
  <Override PartName="/ppt/media/image65.jpeg" ContentType="image/jpeg"/>
  <Override PartName="/ppt/media/image63.png" ContentType="image/png"/>
  <Override PartName="/ppt/media/image70.gif" ContentType="image/gif"/>
  <Override PartName="/ppt/media/image62.png" ContentType="image/png"/>
  <Override PartName="/ppt/media/image71.gif" ContentType="image/gif"/>
  <Override PartName="/ppt/media/image7.jpeg" ContentType="image/jpeg"/>
  <Override PartName="/ppt/media/image16.png" ContentType="image/png"/>
  <Override PartName="/ppt/media/image60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29.jpeg" ContentType="image/jpeg"/>
  <Override PartName="/ppt/media/image66.gif" ContentType="image/gif"/>
  <Override PartName="/ppt/media/image6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6.gif" ContentType="image/gif"/>
  <Override PartName="/ppt/media/image3.gif" ContentType="image/gif"/>
  <Override PartName="/ppt/media/image18.png" ContentType="image/png"/>
  <Override PartName="/ppt/media/image11.png" ContentType="image/png"/>
  <Override PartName="/ppt/media/image49.jpeg" ContentType="image/jpeg"/>
  <Override PartName="/ppt/media/image8.gif" ContentType="image/gif"/>
  <Override PartName="/ppt/media/image9.gif" ContentType="image/gif"/>
  <Override PartName="/ppt/media/image57.gif" ContentType="image/gif"/>
  <Override PartName="/ppt/media/image13.png" ContentType="image/png"/>
  <Override PartName="/ppt/media/image10.gif" ContentType="image/gif"/>
  <Override PartName="/ppt/media/image68.gif" ContentType="image/gif"/>
  <Override PartName="/ppt/media/image31.jpeg" ContentType="image/jpeg"/>
  <Override PartName="/ppt/media/image32.png" ContentType="image/png"/>
  <Override PartName="/ppt/media/image33.png" ContentType="image/png"/>
  <Override PartName="/ppt/media/image34.jpeg" ContentType="image/jpeg"/>
  <Override PartName="/ppt/media/image39.jpeg" ContentType="image/jpeg"/>
  <Override PartName="/ppt/media/image17.png" ContentType="image/pn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2292-9B73-4557-AFD1-C568A82B1B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EA4-D237-46F2-8210-5A7CA0C3AF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82A-3A4F-4BCF-80D8-A9831B8F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07C-096F-429F-960D-122C870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3CE-84FC-4970-A402-A5850628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B65-3CE9-4903-858E-922B5B51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848-640F-4538-B55E-FB494010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878-9097-4D34-9208-F12BB9E8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112-B1FE-47B7-8311-50656FC3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E10-BC8C-4672-B1C2-8E6955E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470-CD32-44E3-AD93-B3734FA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9E3-0F7F-4EB5-A9FB-36C2362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EEA-173E-494A-848C-51A97051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450-5AB6-4BDE-AE90-BF0DEFB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05FE-9830-4FA2-94C9-B52D160E5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gi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jpeg"/><Relationship Id="rId13" Type="http://schemas.openxmlformats.org/officeDocument/2006/relationships/image" Target="../media/image52.gif"/><Relationship Id="rId14" Type="http://schemas.openxmlformats.org/officeDocument/2006/relationships/image" Target="../media/image53.gif"/><Relationship Id="rId15" Type="http://schemas.openxmlformats.org/officeDocument/2006/relationships/image" Target="../media/image54.gif"/><Relationship Id="rId16" Type="http://schemas.openxmlformats.org/officeDocument/2006/relationships/image" Target="../media/image55.gif"/><Relationship Id="rId17" Type="http://schemas.openxmlformats.org/officeDocument/2006/relationships/image" Target="../media/image56.gif"/><Relationship Id="rId18" Type="http://schemas.openxmlformats.org/officeDocument/2006/relationships/image" Target="../media/image57.gif"/><Relationship Id="rId19" Type="http://schemas.openxmlformats.org/officeDocument/2006/relationships/image" Target="../media/image58.gif"/><Relationship Id="rId20" Type="http://schemas.openxmlformats.org/officeDocument/2006/relationships/image" Target="../media/image59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8.gif"/><Relationship Id="rId5" Type="http://schemas.openxmlformats.org/officeDocument/2006/relationships/image" Target="../media/image69.gif"/><Relationship Id="rId6" Type="http://schemas.openxmlformats.org/officeDocument/2006/relationships/image" Target="../media/image69.gif"/><Relationship Id="rId7" Type="http://schemas.openxmlformats.org/officeDocument/2006/relationships/image" Target="../media/image69.gif"/><Relationship Id="rId8" Type="http://schemas.openxmlformats.org/officeDocument/2006/relationships/image" Target="../media/image68.gif"/><Relationship Id="rId9" Type="http://schemas.openxmlformats.org/officeDocument/2006/relationships/image" Target="../media/image68.gif"/><Relationship Id="rId10" Type="http://schemas.openxmlformats.org/officeDocument/2006/relationships/image" Target="../media/image70.gif"/><Relationship Id="rId11" Type="http://schemas.openxmlformats.org/officeDocument/2006/relationships/image" Target="../media/image71.gif"/><Relationship Id="rId12" Type="http://schemas.openxmlformats.org/officeDocument/2006/relationships/image" Target="../media/image70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file:///../Local%20Settings/Temp/Rar$DI00.890/colour.swf" TargetMode="External"/><Relationship Id="rId4" Type="http://schemas.openxmlformats.org/officeDocument/2006/relationships/hyperlink" Target="file:///../Local%20Settings/Temp/Rar$DI00.890/colour.swf" TargetMode="External"/><Relationship Id="rId5" Type="http://schemas.openxmlformats.org/officeDocument/2006/relationships/hyperlink" Target="file:///../Local%20Settings/Temp/Rar$DI00.890/red.swf" TargetMode="External"/><Relationship Id="rId6" Type="http://schemas.openxmlformats.org/officeDocument/2006/relationships/hyperlink" Target="file:///../Local%20Settings/Temp/Rar$DI00.890/red.swf" TargetMode="External"/><Relationship Id="rId7" Type="http://schemas.openxmlformats.org/officeDocument/2006/relationships/hyperlink" Target="file:///../Local%20Settings/Temp/Rar$DI00.890/red.swf" TargetMode="External"/><Relationship Id="rId8" Type="http://schemas.openxmlformats.org/officeDocument/2006/relationships/hyperlink" Target="file:///../Local%20Settings/Temp/Rar$DI00.890/red.swf" TargetMode="External"/><Relationship Id="rId9" Type="http://schemas.openxmlformats.org/officeDocument/2006/relationships/hyperlink" Target="file:///../Local%20Settings/Temp/Rar$DI00.890/red.swf" TargetMode="External"/><Relationship Id="rId10" Type="http://schemas.openxmlformats.org/officeDocument/2006/relationships/hyperlink" Target="file:///../Local%20Settings/Temp/Rar$DI00.890/red.swf" TargetMode="External"/><Relationship Id="rId11" Type="http://schemas.openxmlformats.org/officeDocument/2006/relationships/hyperlink" Target="file:///../Local%20Settings/Temp/Rar$DI00.890/yellow.swf" TargetMode="External"/><Relationship Id="rId12" Type="http://schemas.openxmlformats.org/officeDocument/2006/relationships/hyperlink" Target="file:///../Local%20Settings/Temp/Rar$DI00.890/yellow.swf" TargetMode="External"/><Relationship Id="rId13" Type="http://schemas.openxmlformats.org/officeDocument/2006/relationships/hyperlink" Target="file:///../Local%20Settings/Temp/Rar$DI00.890/yellow.swf" TargetMode="External"/><Relationship Id="rId14" Type="http://schemas.openxmlformats.org/officeDocument/2006/relationships/hyperlink" Target="file:///../Local%20Settings/Temp/Rar$DI00.890/yellow.swf" TargetMode="External"/><Relationship Id="rId15" Type="http://schemas.openxmlformats.org/officeDocument/2006/relationships/hyperlink" Target="file:///../Local%20Settings/Temp/Rar$DI00.890/yellow.swf" TargetMode="External"/><Relationship Id="rId16" Type="http://schemas.openxmlformats.org/officeDocument/2006/relationships/hyperlink" Target="file:///../Local%20Settings/Temp/Rar$DI00.890/yellow.swf" TargetMode="External"/><Relationship Id="rId17" Type="http://schemas.openxmlformats.org/officeDocument/2006/relationships/hyperlink" Target="file:///../Local%20Settings/Temp/Rar$DI00.890/green.swf" TargetMode="External"/><Relationship Id="rId18" Type="http://schemas.openxmlformats.org/officeDocument/2006/relationships/hyperlink" Target="file:///../Local%20Settings/Temp/Rar$DI00.890/green.swf" TargetMode="External"/><Relationship Id="rId19" Type="http://schemas.openxmlformats.org/officeDocument/2006/relationships/hyperlink" Target="file:///../Local%20Settings/Temp/Rar$DI00.890/green.swf" TargetMode="External"/><Relationship Id="rId20" Type="http://schemas.openxmlformats.org/officeDocument/2006/relationships/hyperlink" Target="file:///../Local%20Settings/Temp/Rar$DI00.890/green.swf" TargetMode="External"/><Relationship Id="rId21" Type="http://schemas.openxmlformats.org/officeDocument/2006/relationships/hyperlink" Target="file:///../Local%20Settings/Temp/Rar$DI00.890/green.swf" TargetMode="External"/><Relationship Id="rId22" Type="http://schemas.openxmlformats.org/officeDocument/2006/relationships/hyperlink" Target="file:///../Local%20Settings/Temp/Rar$DI00.890/green.swf" TargetMode="External"/><Relationship Id="rId23" Type="http://schemas.openxmlformats.org/officeDocument/2006/relationships/hyperlink" Target="file:///../Local%20Settings/Temp/Rar$DI00.890/blue.swf" TargetMode="External"/><Relationship Id="rId24" Type="http://schemas.openxmlformats.org/officeDocument/2006/relationships/hyperlink" Target="file:///../Local%20Settings/Temp/Rar$DI00.890/blue.swf" TargetMode="External"/><Relationship Id="rId25" Type="http://schemas.openxmlformats.org/officeDocument/2006/relationships/hyperlink" Target="file:///../Local%20Settings/Temp/Rar$DI00.890/blue.swf" TargetMode="External"/><Relationship Id="rId26" Type="http://schemas.openxmlformats.org/officeDocument/2006/relationships/hyperlink" Target="file:///../Local%20Settings/Temp/Rar$DI00.890/blue.swf" TargetMode="External"/><Relationship Id="rId27" Type="http://schemas.openxmlformats.org/officeDocument/2006/relationships/hyperlink" Target="file:///../Local%20Settings/Temp/Rar$DI00.890/blue.swf" TargetMode="External"/><Relationship Id="rId28" Type="http://schemas.openxmlformats.org/officeDocument/2006/relationships/hyperlink" Target="file:///../Local%20Settings/Temp/Rar$DI00.890/blue.swf" TargetMode="External"/><Relationship Id="rId29" Type="http://schemas.openxmlformats.org/officeDocument/2006/relationships/hyperlink" Target="file:///../Local%20Settings/Temp/Rar$DI00.890/black.swf" TargetMode="External"/><Relationship Id="rId30" Type="http://schemas.openxmlformats.org/officeDocument/2006/relationships/hyperlink" Target="file:///../Local%20Settings/Temp/Rar$DI00.890/black.swf" TargetMode="External"/><Relationship Id="rId31" Type="http://schemas.openxmlformats.org/officeDocument/2006/relationships/hyperlink" Target="file:///../Local%20Settings/Temp/Rar$DI00.890/black.swf" TargetMode="External"/><Relationship Id="rId32" Type="http://schemas.openxmlformats.org/officeDocument/2006/relationships/hyperlink" Target="file:///../Local%20Settings/Temp/Rar$DI00.890/black.swf" TargetMode="External"/><Relationship Id="rId33" Type="http://schemas.openxmlformats.org/officeDocument/2006/relationships/hyperlink" Target="file:///../Local%20Settings/Temp/Rar$DI00.890/black.swf" TargetMode="External"/><Relationship Id="rId34" Type="http://schemas.openxmlformats.org/officeDocument/2006/relationships/hyperlink" Target="file:///../Local%20Settings/Temp/Rar$DI00.890/black.swf" TargetMode="External"/><Relationship Id="rId35" Type="http://schemas.openxmlformats.org/officeDocument/2006/relationships/image" Target="../media/image9.gif"/><Relationship Id="rId36" Type="http://schemas.openxmlformats.org/officeDocument/2006/relationships/image" Target="../media/image10.gif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032000" cy="129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88000" y="692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rter Uni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5229360"/>
            <a:ext cx="2160720" cy="503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io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2565360"/>
            <a:ext cx="360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What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lor </a:t>
            </a:r>
            <a:r>
              <a:rPr b="1" lang="en-US" sz="4400" spc="-1" strike="noStrike">
                <a:solidFill>
                  <a:srgbClr val="00cc00"/>
                </a:solidFill>
                <a:latin typeface="Times New Roman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i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35280" y="47628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744480"/>
            <a:ext cx="2305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5296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10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W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3072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316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744480"/>
            <a:ext cx="198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128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4197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orange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11280" y="744480"/>
            <a:ext cx="198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ff00"/>
                </a:solidFill>
                <a:latin typeface="Times New Roman"/>
              </a:rPr>
              <a:t>Y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6699"/>
                </a:solidFill>
                <a:latin typeface="Times New Roman"/>
              </a:rPr>
              <a:t>It’s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Y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128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66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4968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000" y="292428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429264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cc99"/>
                </a:solidFill>
                <a:latin typeface="Times New Roman"/>
              </a:rPr>
              <a:t>and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20001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987640" y="1773360"/>
            <a:ext cx="4065480" cy="916920"/>
            <a:chOff x="2987640" y="1773360"/>
            <a:chExt cx="4065480" cy="916920"/>
          </a:xfrm>
        </p:grpSpPr>
        <p:sp>
          <p:nvSpPr>
            <p:cNvPr id="142" name=""/>
            <p:cNvSpPr/>
            <p:nvPr/>
          </p:nvSpPr>
          <p:spPr>
            <a:xfrm>
              <a:off x="2987640" y="1773360"/>
              <a:ext cx="406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cff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cc99"/>
                  </a:solidFill>
                  <a:latin typeface="Times New Roman"/>
                </a:rPr>
                <a:t>It’s     </a:t>
              </a:r>
              <a:r>
                <a:rPr b="0" lang="en-US" sz="5400" spc="-1" strike="noStrike">
                  <a:solidFill>
                    <a:srgbClr val="ff6600"/>
                  </a:solidFill>
                  <a:latin typeface="Times New Roman"/>
                </a:rPr>
                <a:t>.</a:t>
              </a:r>
              <a:r>
                <a:rPr b="0" lang="en-US" sz="54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4284720" y="1989000"/>
              <a:ext cx="436680" cy="503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146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1729080" cy="69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700280"/>
            <a:ext cx="6985080" cy="453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2064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398520"/>
            <a:ext cx="69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Match the words with the col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将下列单词和颜色匹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3800" y="1643040"/>
            <a:ext cx="21985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yel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b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 bl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 wh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1916280"/>
            <a:ext cx="79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2709720"/>
            <a:ext cx="79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3429000"/>
            <a:ext cx="79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4149720"/>
            <a:ext cx="79200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4869000"/>
            <a:ext cx="792000" cy="43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5589720"/>
            <a:ext cx="792000" cy="43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2133720"/>
            <a:ext cx="288108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635280" y="2204640"/>
            <a:ext cx="237672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3573360"/>
            <a:ext cx="251964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4365720"/>
            <a:ext cx="280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419640" y="4365360"/>
            <a:ext cx="252072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492360" y="2923920"/>
            <a:ext cx="2519640" cy="28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矩形 9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3938760" cy="91584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8"/>
          <p:cNvGrpSpPr/>
          <p:nvPr/>
        </p:nvGrpSpPr>
        <p:grpSpPr>
          <a:xfrm>
            <a:off x="611280" y="476280"/>
            <a:ext cx="901440" cy="620640"/>
            <a:chOff x="611280" y="476280"/>
            <a:chExt cx="901440" cy="620640"/>
          </a:xfrm>
        </p:grpSpPr>
        <p:sp>
          <p:nvSpPr>
            <p:cNvPr id="164" name="椭圆 5"/>
            <p:cNvSpPr/>
            <p:nvPr/>
          </p:nvSpPr>
          <p:spPr>
            <a:xfrm>
              <a:off x="657720" y="514800"/>
              <a:ext cx="600840" cy="582120"/>
            </a:xfrm>
            <a:prstGeom prst="ellipse">
              <a:avLst/>
            </a:prstGeom>
            <a:solidFill>
              <a:srgbClr val="fac090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611280" y="47628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矩形 13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3171960" cy="1089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055"/>
          <p:cNvSpPr/>
          <p:nvPr/>
        </p:nvSpPr>
        <p:spPr>
          <a:xfrm>
            <a:off x="549360" y="1843200"/>
            <a:ext cx="11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60"/>
          <p:cNvSpPr/>
          <p:nvPr/>
        </p:nvSpPr>
        <p:spPr>
          <a:xfrm>
            <a:off x="6672240" y="1859040"/>
            <a:ext cx="9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061"/>
          <p:cNvSpPr/>
          <p:nvPr/>
        </p:nvSpPr>
        <p:spPr>
          <a:xfrm>
            <a:off x="1476360" y="1860480"/>
            <a:ext cx="9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062"/>
          <p:cNvSpPr/>
          <p:nvPr/>
        </p:nvSpPr>
        <p:spPr>
          <a:xfrm>
            <a:off x="2390760" y="1847880"/>
            <a:ext cx="11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063"/>
          <p:cNvSpPr/>
          <p:nvPr/>
        </p:nvSpPr>
        <p:spPr>
          <a:xfrm>
            <a:off x="3419640" y="1847880"/>
            <a:ext cx="11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64"/>
          <p:cNvSpPr/>
          <p:nvPr/>
        </p:nvSpPr>
        <p:spPr>
          <a:xfrm>
            <a:off x="4440240" y="184320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65"/>
          <p:cNvSpPr/>
          <p:nvPr/>
        </p:nvSpPr>
        <p:spPr>
          <a:xfrm>
            <a:off x="5680080" y="185436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66"/>
          <p:cNvSpPr/>
          <p:nvPr/>
        </p:nvSpPr>
        <p:spPr>
          <a:xfrm>
            <a:off x="7454880" y="1841400"/>
            <a:ext cx="12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直接连接符 34"/>
          <p:cNvSpPr/>
          <p:nvPr/>
        </p:nvSpPr>
        <p:spPr>
          <a:xfrm>
            <a:off x="468360" y="2205000"/>
            <a:ext cx="8053200" cy="1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直接连接符 35"/>
          <p:cNvSpPr/>
          <p:nvPr/>
        </p:nvSpPr>
        <p:spPr>
          <a:xfrm>
            <a:off x="465120" y="2408400"/>
            <a:ext cx="8053560" cy="1440"/>
          </a:xfrm>
          <a:prstGeom prst="line">
            <a:avLst/>
          </a:prstGeom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直接连接符 36"/>
          <p:cNvSpPr/>
          <p:nvPr/>
        </p:nvSpPr>
        <p:spPr>
          <a:xfrm>
            <a:off x="465120" y="1944720"/>
            <a:ext cx="805356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直接连接符 37"/>
          <p:cNvSpPr/>
          <p:nvPr/>
        </p:nvSpPr>
        <p:spPr>
          <a:xfrm>
            <a:off x="503280" y="2625840"/>
            <a:ext cx="805500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58"/>
          <p:cNvSpPr/>
          <p:nvPr/>
        </p:nvSpPr>
        <p:spPr>
          <a:xfrm>
            <a:off x="468360" y="11970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刷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59"/>
          <p:cNvSpPr/>
          <p:nvPr/>
        </p:nvSpPr>
        <p:spPr>
          <a:xfrm>
            <a:off x="395280" y="30686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手写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60"/>
          <p:cNvSpPr/>
          <p:nvPr/>
        </p:nvSpPr>
        <p:spPr>
          <a:xfrm>
            <a:off x="2340000" y="29242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要求能够辨认印刷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61"/>
          <p:cNvSpPr/>
          <p:nvPr/>
        </p:nvSpPr>
        <p:spPr>
          <a:xfrm>
            <a:off x="1692360" y="515772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要求能够辨认和流利规范地书写手写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68360" y="3789360"/>
            <a:ext cx="8064360" cy="961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6372360" y="112536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8"/>
          <p:cNvGrpSpPr/>
          <p:nvPr/>
        </p:nvGrpSpPr>
        <p:grpSpPr>
          <a:xfrm>
            <a:off x="395280" y="996840"/>
            <a:ext cx="863640" cy="581400"/>
            <a:chOff x="395280" y="996840"/>
            <a:chExt cx="863640" cy="581400"/>
          </a:xfrm>
        </p:grpSpPr>
        <p:sp>
          <p:nvSpPr>
            <p:cNvPr id="186" name="椭圆 5"/>
            <p:cNvSpPr/>
            <p:nvPr/>
          </p:nvSpPr>
          <p:spPr>
            <a:xfrm>
              <a:off x="439920" y="1032840"/>
              <a:ext cx="575640" cy="540720"/>
            </a:xfrm>
            <a:prstGeom prst="ellipse">
              <a:avLst/>
            </a:prstGeom>
            <a:solidFill>
              <a:srgbClr val="fac090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Box 7"/>
            <p:cNvSpPr/>
            <p:nvPr/>
          </p:nvSpPr>
          <p:spPr>
            <a:xfrm>
              <a:off x="395280" y="9968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2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2055"/>
          <p:cNvSpPr/>
          <p:nvPr/>
        </p:nvSpPr>
        <p:spPr>
          <a:xfrm>
            <a:off x="4040280" y="41148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60"/>
          <p:cNvSpPr/>
          <p:nvPr/>
        </p:nvSpPr>
        <p:spPr>
          <a:xfrm>
            <a:off x="2700360" y="4851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62"/>
          <p:cNvSpPr/>
          <p:nvPr/>
        </p:nvSpPr>
        <p:spPr>
          <a:xfrm>
            <a:off x="2611440" y="41148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63"/>
          <p:cNvSpPr/>
          <p:nvPr/>
        </p:nvSpPr>
        <p:spPr>
          <a:xfrm>
            <a:off x="1254240" y="48229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64"/>
          <p:cNvSpPr/>
          <p:nvPr/>
        </p:nvSpPr>
        <p:spPr>
          <a:xfrm>
            <a:off x="4067280" y="47800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65"/>
          <p:cNvSpPr/>
          <p:nvPr/>
        </p:nvSpPr>
        <p:spPr>
          <a:xfrm>
            <a:off x="5468760" y="41148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直接连接符 45"/>
          <p:cNvSpPr/>
          <p:nvPr/>
        </p:nvSpPr>
        <p:spPr>
          <a:xfrm>
            <a:off x="1682640" y="4722840"/>
            <a:ext cx="82404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直接连接符 47"/>
          <p:cNvSpPr/>
          <p:nvPr/>
        </p:nvSpPr>
        <p:spPr>
          <a:xfrm>
            <a:off x="2968560" y="4722840"/>
            <a:ext cx="82404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直接连接符 48"/>
          <p:cNvSpPr/>
          <p:nvPr/>
        </p:nvSpPr>
        <p:spPr>
          <a:xfrm>
            <a:off x="4540320" y="4722840"/>
            <a:ext cx="82368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直接连接符 49"/>
          <p:cNvSpPr/>
          <p:nvPr/>
        </p:nvSpPr>
        <p:spPr>
          <a:xfrm>
            <a:off x="5979960" y="4722840"/>
            <a:ext cx="82404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直接连接符 50"/>
          <p:cNvSpPr/>
          <p:nvPr/>
        </p:nvSpPr>
        <p:spPr>
          <a:xfrm>
            <a:off x="1682640" y="5462640"/>
            <a:ext cx="82404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直接连接符 51"/>
          <p:cNvSpPr/>
          <p:nvPr/>
        </p:nvSpPr>
        <p:spPr>
          <a:xfrm>
            <a:off x="3182760" y="5462640"/>
            <a:ext cx="82404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直接连接符 52"/>
          <p:cNvSpPr/>
          <p:nvPr/>
        </p:nvSpPr>
        <p:spPr>
          <a:xfrm>
            <a:off x="4468680" y="5462640"/>
            <a:ext cx="82404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直接连接符 53"/>
          <p:cNvSpPr/>
          <p:nvPr/>
        </p:nvSpPr>
        <p:spPr>
          <a:xfrm>
            <a:off x="5969160" y="5462640"/>
            <a:ext cx="82368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055"/>
          <p:cNvSpPr/>
          <p:nvPr/>
        </p:nvSpPr>
        <p:spPr>
          <a:xfrm>
            <a:off x="838080" y="2138400"/>
            <a:ext cx="4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060"/>
          <p:cNvSpPr/>
          <p:nvPr/>
        </p:nvSpPr>
        <p:spPr>
          <a:xfrm>
            <a:off x="5540400" y="2154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62"/>
          <p:cNvSpPr/>
          <p:nvPr/>
        </p:nvSpPr>
        <p:spPr>
          <a:xfrm>
            <a:off x="1908000" y="214308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063"/>
          <p:cNvSpPr/>
          <p:nvPr/>
        </p:nvSpPr>
        <p:spPr>
          <a:xfrm>
            <a:off x="2843280" y="21430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064"/>
          <p:cNvSpPr/>
          <p:nvPr/>
        </p:nvSpPr>
        <p:spPr>
          <a:xfrm>
            <a:off x="3784680" y="21384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065"/>
          <p:cNvSpPr/>
          <p:nvPr/>
        </p:nvSpPr>
        <p:spPr>
          <a:xfrm>
            <a:off x="4683240" y="21495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66"/>
          <p:cNvSpPr/>
          <p:nvPr/>
        </p:nvSpPr>
        <p:spPr>
          <a:xfrm>
            <a:off x="6397560" y="2136600"/>
            <a:ext cx="6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直接连接符 58"/>
          <p:cNvSpPr/>
          <p:nvPr/>
        </p:nvSpPr>
        <p:spPr>
          <a:xfrm>
            <a:off x="754200" y="2465280"/>
            <a:ext cx="8053200" cy="1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直接连接符 59"/>
          <p:cNvSpPr/>
          <p:nvPr/>
        </p:nvSpPr>
        <p:spPr>
          <a:xfrm>
            <a:off x="754200" y="2703600"/>
            <a:ext cx="8053200" cy="1440"/>
          </a:xfrm>
          <a:prstGeom prst="line">
            <a:avLst/>
          </a:prstGeom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直接连接符 60"/>
          <p:cNvSpPr/>
          <p:nvPr/>
        </p:nvSpPr>
        <p:spPr>
          <a:xfrm>
            <a:off x="754200" y="2239920"/>
            <a:ext cx="8053200" cy="1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直接连接符 61"/>
          <p:cNvSpPr/>
          <p:nvPr/>
        </p:nvSpPr>
        <p:spPr>
          <a:xfrm>
            <a:off x="792000" y="2921040"/>
            <a:ext cx="8055000" cy="144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60"/>
          <p:cNvSpPr/>
          <p:nvPr/>
        </p:nvSpPr>
        <p:spPr>
          <a:xfrm>
            <a:off x="7385040" y="21366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060"/>
          <p:cNvSpPr/>
          <p:nvPr/>
        </p:nvSpPr>
        <p:spPr>
          <a:xfrm>
            <a:off x="5435640" y="4888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060"/>
          <p:cNvSpPr/>
          <p:nvPr/>
        </p:nvSpPr>
        <p:spPr>
          <a:xfrm>
            <a:off x="1212840" y="4114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0960" y="476280"/>
            <a:ext cx="82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big letters for these smal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238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找出下列小写字母的大写形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4971E-006 L -0.23247 0.29711 E">
                                      <p:cBhvr>
                                        <p:cTn id="36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79191E-006 L 0.03178 0.29642 E">
                                      <p:cBhvr>
                                        <p:cTn id="36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06358E-006 L -0.31129 0.29734 E">
                                      <p:cBhvr>
                                        <p:cTn id="372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4971E-006 L 0.56667 0.29711 E">
                                      <p:cBhvr>
                                        <p:cTn id="37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06358E-006 L -0.51719 0.40208 E">
                                      <p:cBhvr>
                                        <p:cTn id="38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9017E-007 L -0.26701 0.39954 E">
                                      <p:cBhvr>
                                        <p:cTn id="38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79191E-006 L 0.28368 0.40116 E">
                                      <p:cBhvr>
                                        <p:cTn id="38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16528 0.39861 E">
                                      <p:cBhvr>
                                        <p:cTn id="39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8"/>
          <p:cNvGrpSpPr/>
          <p:nvPr/>
        </p:nvGrpSpPr>
        <p:grpSpPr>
          <a:xfrm>
            <a:off x="611280" y="836640"/>
            <a:ext cx="1046160" cy="581400"/>
            <a:chOff x="611280" y="836640"/>
            <a:chExt cx="1046160" cy="581400"/>
          </a:xfrm>
        </p:grpSpPr>
        <p:sp>
          <p:nvSpPr>
            <p:cNvPr id="219" name="椭圆 5"/>
            <p:cNvSpPr/>
            <p:nvPr/>
          </p:nvSpPr>
          <p:spPr>
            <a:xfrm>
              <a:off x="665280" y="870840"/>
              <a:ext cx="697320" cy="514800"/>
            </a:xfrm>
            <a:prstGeom prst="ellipse">
              <a:avLst/>
            </a:prstGeom>
            <a:solidFill>
              <a:srgbClr val="fac090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Box 7"/>
            <p:cNvSpPr/>
            <p:nvPr/>
          </p:nvSpPr>
          <p:spPr>
            <a:xfrm>
              <a:off x="611280" y="836640"/>
              <a:ext cx="104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2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1" name="矩形 13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4850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42"/>
          <p:cNvGrpSpPr/>
          <p:nvPr/>
        </p:nvGrpSpPr>
        <p:grpSpPr>
          <a:xfrm>
            <a:off x="1700280" y="2714760"/>
            <a:ext cx="1000080" cy="703440"/>
            <a:chOff x="1700280" y="2714760"/>
            <a:chExt cx="1000080" cy="703440"/>
          </a:xfrm>
        </p:grpSpPr>
        <p:sp>
          <p:nvSpPr>
            <p:cNvPr id="223" name="Text Box 2066"/>
            <p:cNvSpPr/>
            <p:nvPr/>
          </p:nvSpPr>
          <p:spPr>
            <a:xfrm>
              <a:off x="2200320" y="271476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矩形 23"/>
            <p:cNvSpPr/>
            <p:nvPr/>
          </p:nvSpPr>
          <p:spPr>
            <a:xfrm>
              <a:off x="1700280" y="2928960"/>
              <a:ext cx="500040" cy="357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2055"/>
          <p:cNvSpPr/>
          <p:nvPr/>
        </p:nvSpPr>
        <p:spPr>
          <a:xfrm>
            <a:off x="5148360" y="2205000"/>
            <a:ext cx="57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24"/>
          <p:cNvSpPr/>
          <p:nvPr/>
        </p:nvSpPr>
        <p:spPr>
          <a:xfrm>
            <a:off x="4643280" y="4943520"/>
            <a:ext cx="50040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组合 44"/>
          <p:cNvGrpSpPr/>
          <p:nvPr/>
        </p:nvGrpSpPr>
        <p:grpSpPr>
          <a:xfrm>
            <a:off x="6084720" y="2708280"/>
            <a:ext cx="928800" cy="703440"/>
            <a:chOff x="6084720" y="2708280"/>
            <a:chExt cx="928800" cy="703440"/>
          </a:xfrm>
        </p:grpSpPr>
        <p:sp>
          <p:nvSpPr>
            <p:cNvPr id="228" name="Text Box 2064"/>
            <p:cNvSpPr/>
            <p:nvPr/>
          </p:nvSpPr>
          <p:spPr>
            <a:xfrm>
              <a:off x="6584760" y="2708280"/>
              <a:ext cx="42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矩形 25"/>
            <p:cNvSpPr/>
            <p:nvPr/>
          </p:nvSpPr>
          <p:spPr>
            <a:xfrm>
              <a:off x="6084720" y="2950200"/>
              <a:ext cx="500040" cy="403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1619280" y="3716280"/>
            <a:ext cx="1081080" cy="703440"/>
            <a:chOff x="1619280" y="3716280"/>
            <a:chExt cx="1081080" cy="703440"/>
          </a:xfrm>
        </p:grpSpPr>
        <p:sp>
          <p:nvSpPr>
            <p:cNvPr id="231" name="Text Box 2063"/>
            <p:cNvSpPr/>
            <p:nvPr/>
          </p:nvSpPr>
          <p:spPr>
            <a:xfrm>
              <a:off x="2201760" y="3716280"/>
              <a:ext cx="498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矩形 38"/>
            <p:cNvSpPr/>
            <p:nvPr/>
          </p:nvSpPr>
          <p:spPr>
            <a:xfrm>
              <a:off x="1619280" y="3934440"/>
              <a:ext cx="582120" cy="363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Text Box 2062"/>
          <p:cNvSpPr/>
          <p:nvPr/>
        </p:nvSpPr>
        <p:spPr>
          <a:xfrm>
            <a:off x="5219640" y="4714920"/>
            <a:ext cx="42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40"/>
          <p:cNvSpPr/>
          <p:nvPr/>
        </p:nvSpPr>
        <p:spPr>
          <a:xfrm>
            <a:off x="4719600" y="2421000"/>
            <a:ext cx="500040" cy="43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6084720" y="3807000"/>
            <a:ext cx="857520" cy="703440"/>
            <a:chOff x="6084720" y="3807000"/>
            <a:chExt cx="857520" cy="703440"/>
          </a:xfrm>
        </p:grpSpPr>
        <p:sp>
          <p:nvSpPr>
            <p:cNvPr id="236" name="Text Box 2065"/>
            <p:cNvSpPr/>
            <p:nvPr/>
          </p:nvSpPr>
          <p:spPr>
            <a:xfrm>
              <a:off x="6513480" y="3807000"/>
              <a:ext cx="42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矩形 41"/>
            <p:cNvSpPr/>
            <p:nvPr/>
          </p:nvSpPr>
          <p:spPr>
            <a:xfrm>
              <a:off x="6084720" y="4014720"/>
              <a:ext cx="500400" cy="357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Box 50"/>
          <p:cNvSpPr/>
          <p:nvPr/>
        </p:nvSpPr>
        <p:spPr>
          <a:xfrm>
            <a:off x="3276720" y="22766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52"/>
          <p:cNvSpPr/>
          <p:nvPr/>
        </p:nvSpPr>
        <p:spPr>
          <a:xfrm>
            <a:off x="6084720" y="37958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53"/>
          <p:cNvSpPr/>
          <p:nvPr/>
        </p:nvSpPr>
        <p:spPr>
          <a:xfrm>
            <a:off x="4791240" y="2338560"/>
            <a:ext cx="428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54"/>
          <p:cNvSpPr/>
          <p:nvPr/>
        </p:nvSpPr>
        <p:spPr>
          <a:xfrm>
            <a:off x="1695600" y="27860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55"/>
          <p:cNvSpPr/>
          <p:nvPr/>
        </p:nvSpPr>
        <p:spPr>
          <a:xfrm>
            <a:off x="1619280" y="37893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56"/>
          <p:cNvSpPr/>
          <p:nvPr/>
        </p:nvSpPr>
        <p:spPr>
          <a:xfrm>
            <a:off x="6159600" y="285912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57"/>
          <p:cNvSpPr/>
          <p:nvPr/>
        </p:nvSpPr>
        <p:spPr>
          <a:xfrm>
            <a:off x="2916360" y="46530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组合 62"/>
          <p:cNvGrpSpPr/>
          <p:nvPr/>
        </p:nvGrpSpPr>
        <p:grpSpPr>
          <a:xfrm>
            <a:off x="2916360" y="4437000"/>
            <a:ext cx="928440" cy="825120"/>
            <a:chOff x="2916360" y="4437000"/>
            <a:chExt cx="928440" cy="825120"/>
          </a:xfrm>
        </p:grpSpPr>
        <p:sp>
          <p:nvSpPr>
            <p:cNvPr id="246" name="Text Box 2063"/>
            <p:cNvSpPr/>
            <p:nvPr/>
          </p:nvSpPr>
          <p:spPr>
            <a:xfrm>
              <a:off x="3416400" y="4437000"/>
              <a:ext cx="42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矩形 64"/>
            <p:cNvSpPr/>
            <p:nvPr/>
          </p:nvSpPr>
          <p:spPr>
            <a:xfrm>
              <a:off x="2916360" y="4721400"/>
              <a:ext cx="500040" cy="474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组合 67"/>
          <p:cNvGrpSpPr/>
          <p:nvPr/>
        </p:nvGrpSpPr>
        <p:grpSpPr>
          <a:xfrm>
            <a:off x="3203640" y="2151000"/>
            <a:ext cx="1008000" cy="825120"/>
            <a:chOff x="3203640" y="2151000"/>
            <a:chExt cx="1008000" cy="825120"/>
          </a:xfrm>
        </p:grpSpPr>
        <p:sp>
          <p:nvSpPr>
            <p:cNvPr id="249" name="Text Box 2065"/>
            <p:cNvSpPr/>
            <p:nvPr/>
          </p:nvSpPr>
          <p:spPr>
            <a:xfrm>
              <a:off x="3708360" y="21510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矩形 69"/>
            <p:cNvSpPr/>
            <p:nvPr/>
          </p:nvSpPr>
          <p:spPr>
            <a:xfrm>
              <a:off x="3203640" y="2408040"/>
              <a:ext cx="587880" cy="441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049400" y="382680"/>
            <a:ext cx="76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Listen and number the letters you hear [1-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矩形 9" descr=""/>
          <p:cNvPicPr/>
          <p:nvPr/>
        </p:nvPicPr>
        <p:blipFill>
          <a:blip r:embed="rId2"/>
          <a:stretch/>
        </p:blipFill>
        <p:spPr>
          <a:xfrm>
            <a:off x="826920" y="136440"/>
            <a:ext cx="6409080" cy="916200"/>
          </a:xfrm>
          <a:prstGeom prst="rect">
            <a:avLst/>
          </a:prstGeom>
          <a:ln w="0">
            <a:noFill/>
          </a:ln>
        </p:spPr>
      </p:pic>
      <p:pic>
        <p:nvPicPr>
          <p:cNvPr id="254" name="矩形 13" descr=""/>
          <p:cNvPicPr/>
          <p:nvPr/>
        </p:nvPicPr>
        <p:blipFill>
          <a:blip r:embed="rId3"/>
          <a:stretch/>
        </p:blipFill>
        <p:spPr>
          <a:xfrm>
            <a:off x="1403280" y="836640"/>
            <a:ext cx="6845400" cy="1155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71680" y="22114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6160" y="32018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7080" y="2205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86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2476440" cy="3514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3276720" y="4149720"/>
            <a:ext cx="2476440" cy="2124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2476440" cy="338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76720" y="476280"/>
            <a:ext cx="2592360" cy="834480"/>
            <a:chOff x="3276720" y="476280"/>
            <a:chExt cx="2592360" cy="834480"/>
          </a:xfrm>
        </p:grpSpPr>
        <p:sp>
          <p:nvSpPr>
            <p:cNvPr id="55" name=""/>
            <p:cNvSpPr/>
            <p:nvPr/>
          </p:nvSpPr>
          <p:spPr>
            <a:xfrm>
              <a:off x="3276720" y="476280"/>
              <a:ext cx="2592360" cy="83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212720" y="642960"/>
              <a:ext cx="1483560" cy="50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12600">
                    <a:solidFill>
                      <a:srgbClr val="ff0066"/>
                    </a:solidFill>
                    <a:miter/>
                  </a:ln>
                  <a:gradFill rotWithShape="0">
                    <a:gsLst>
                      <a:gs pos="0">
                        <a:srgbClr val="ffcc66"/>
                      </a:gs>
                      <a:gs pos="50000">
                        <a:srgbClr val="ff0000"/>
                      </a:gs>
                      <a:gs pos="100000">
                        <a:srgbClr val="ffcc66"/>
                      </a:gs>
                    </a:gsLst>
                    <a:lin ang="135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教学目标</a:t>
              </a:r>
              <a:endParaRPr b="1" lang="en-US" sz="24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ff0000"/>
                    </a:gs>
                    <a:gs pos="100000">
                      <a:srgbClr val="ffcc66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12720" y="1227240"/>
              <a:ext cx="1472760" cy="14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0720" y="559800"/>
              <a:ext cx="575640" cy="667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20720" y="559800"/>
              <a:ext cx="575640" cy="6674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4360" y="1413000"/>
            <a:ext cx="7632720" cy="4824000"/>
            <a:chOff x="684360" y="1413000"/>
            <a:chExt cx="7632720" cy="48240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684360" y="1413000"/>
              <a:ext cx="7632720" cy="48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116000" y="1569960"/>
              <a:ext cx="6913800" cy="44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1. Master the letters S-Z and be able to pronounce each letter correctly.</a:t>
              </a:r>
              <a:r>
                <a:rPr b="0" lang="en-US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2. Master the sentenc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 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What colo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 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It’s 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 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What letter is i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 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It’s 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矩形 9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408720" cy="915840"/>
          </a:xfrm>
          <a:prstGeom prst="rect">
            <a:avLst/>
          </a:prstGeom>
          <a:ln w="0">
            <a:noFill/>
          </a:ln>
        </p:spPr>
      </p:pic>
      <p:pic>
        <p:nvPicPr>
          <p:cNvPr id="262" name="矩形 13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6845400" cy="1155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278160" y="20718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13440" y="3133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37080" y="21366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86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940360" y="1484280"/>
            <a:ext cx="2476440" cy="3240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3203640" y="3933720"/>
            <a:ext cx="2476440" cy="2333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611280" y="1484280"/>
            <a:ext cx="247644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矩形 9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6408720" cy="915840"/>
          </a:xfrm>
          <a:prstGeom prst="rect">
            <a:avLst/>
          </a:prstGeom>
          <a:ln w="0">
            <a:noFill/>
          </a:ln>
        </p:spPr>
      </p:pic>
      <p:pic>
        <p:nvPicPr>
          <p:cNvPr id="270" name="矩形 13" descr=""/>
          <p:cNvPicPr/>
          <p:nvPr/>
        </p:nvPicPr>
        <p:blipFill>
          <a:blip r:embed="rId3"/>
          <a:stretch/>
        </p:blipFill>
        <p:spPr>
          <a:xfrm>
            <a:off x="1403280" y="836640"/>
            <a:ext cx="6845400" cy="1155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05800" y="299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6520" y="299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11280" y="1844640"/>
            <a:ext cx="2476440" cy="3048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4356000" y="1916280"/>
            <a:ext cx="2748240" cy="29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60360" y="3500280"/>
            <a:ext cx="7775640" cy="903600"/>
          </a:xfrm>
          <a:prstGeom prst="rect">
            <a:avLst/>
          </a:prstGeom>
          <a:ln w="0">
            <a:noFill/>
          </a:ln>
        </p:spPr>
      </p:pic>
      <p:pic>
        <p:nvPicPr>
          <p:cNvPr id="276" name="矩形 9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7400880" cy="98892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8"/>
          <p:cNvGrpSpPr/>
          <p:nvPr/>
        </p:nvGrpSpPr>
        <p:grpSpPr>
          <a:xfrm>
            <a:off x="0" y="907920"/>
            <a:ext cx="974880" cy="621000"/>
            <a:chOff x="0" y="907920"/>
            <a:chExt cx="974880" cy="621000"/>
          </a:xfrm>
        </p:grpSpPr>
        <p:sp>
          <p:nvSpPr>
            <p:cNvPr id="278" name="椭圆 5"/>
            <p:cNvSpPr/>
            <p:nvPr/>
          </p:nvSpPr>
          <p:spPr>
            <a:xfrm>
              <a:off x="50400" y="946440"/>
              <a:ext cx="649800" cy="582480"/>
            </a:xfrm>
            <a:prstGeom prst="ellipse">
              <a:avLst/>
            </a:prstGeom>
            <a:solidFill>
              <a:srgbClr val="fac090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Box 7"/>
            <p:cNvSpPr/>
            <p:nvPr/>
          </p:nvSpPr>
          <p:spPr>
            <a:xfrm>
              <a:off x="0" y="907920"/>
              <a:ext cx="97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2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矩形 13" descr=""/>
          <p:cNvPicPr/>
          <p:nvPr/>
        </p:nvPicPr>
        <p:blipFill>
          <a:blip r:embed="rId4"/>
          <a:stretch/>
        </p:blipFill>
        <p:spPr>
          <a:xfrm>
            <a:off x="1258920" y="1557360"/>
            <a:ext cx="7399440" cy="1555560"/>
          </a:xfrm>
          <a:prstGeom prst="rect">
            <a:avLst/>
          </a:prstGeom>
          <a:ln w="0">
            <a:noFill/>
          </a:ln>
        </p:spPr>
      </p:pic>
      <p:sp>
        <p:nvSpPr>
          <p:cNvPr id="281" name="矩形 56"/>
          <p:cNvSpPr/>
          <p:nvPr/>
        </p:nvSpPr>
        <p:spPr>
          <a:xfrm>
            <a:off x="6986520" y="5302080"/>
            <a:ext cx="35712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865080" y="3716280"/>
            <a:ext cx="225360" cy="416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6"/>
          <a:stretch/>
        </p:blipFill>
        <p:spPr>
          <a:xfrm>
            <a:off x="1800360" y="3652920"/>
            <a:ext cx="226800" cy="639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7"/>
          <a:stretch/>
        </p:blipFill>
        <p:spPr>
          <a:xfrm>
            <a:off x="2808360" y="3578400"/>
            <a:ext cx="295200" cy="642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8"/>
          <a:stretch/>
        </p:blipFill>
        <p:spPr>
          <a:xfrm>
            <a:off x="3745080" y="3571920"/>
            <a:ext cx="196560" cy="557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9"/>
          <a:stretch/>
        </p:blipFill>
        <p:spPr>
          <a:xfrm>
            <a:off x="4897440" y="3571920"/>
            <a:ext cx="303120" cy="582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10"/>
          <a:stretch/>
        </p:blipFill>
        <p:spPr>
          <a:xfrm>
            <a:off x="5977080" y="3705120"/>
            <a:ext cx="285480" cy="443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11"/>
          <a:stretch/>
        </p:blipFill>
        <p:spPr>
          <a:xfrm>
            <a:off x="6915240" y="3836880"/>
            <a:ext cx="285840" cy="455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"/>
          <p:cNvPicPr/>
          <p:nvPr/>
        </p:nvPicPr>
        <p:blipFill>
          <a:blip r:embed="rId12"/>
          <a:stretch/>
        </p:blipFill>
        <p:spPr>
          <a:xfrm>
            <a:off x="7972560" y="3687840"/>
            <a:ext cx="236520" cy="676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7273800" y="5084640"/>
            <a:ext cx="935280" cy="1079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468360" y="5157720"/>
            <a:ext cx="934920" cy="10796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>
            <a:off x="1403280" y="5157720"/>
            <a:ext cx="873360" cy="100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6"/>
          <a:stretch/>
        </p:blipFill>
        <p:spPr>
          <a:xfrm>
            <a:off x="2340000" y="5084640"/>
            <a:ext cx="998640" cy="1152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7"/>
          <a:stretch/>
        </p:blipFill>
        <p:spPr>
          <a:xfrm>
            <a:off x="3313080" y="5156280"/>
            <a:ext cx="998640" cy="1152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8"/>
          <a:stretch/>
        </p:blipFill>
        <p:spPr>
          <a:xfrm>
            <a:off x="4392720" y="5156280"/>
            <a:ext cx="934920" cy="1079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9"/>
          <a:stretch/>
        </p:blipFill>
        <p:spPr>
          <a:xfrm>
            <a:off x="5545080" y="5084640"/>
            <a:ext cx="998640" cy="1152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0"/>
          <a:stretch/>
        </p:blipFill>
        <p:spPr>
          <a:xfrm>
            <a:off x="6553080" y="5084640"/>
            <a:ext cx="79236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7056720" cy="4249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580000" y="476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88040" y="1768320"/>
            <a:ext cx="193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large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大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2960" y="1839960"/>
            <a:ext cx="258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medium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中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4960" y="5008680"/>
            <a:ext cx="20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small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小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1340000">
            <a:off x="1618920" y="2420280"/>
            <a:ext cx="1438200" cy="71748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4583" y="14372"/>
                </a:moveTo>
                <a:arcTo wR="-7170" hR="-7170" stAng="9007458" swAng="-10902391"/>
                <a:lnTo>
                  <a:pt x="1600" y="16456"/>
                </a:lnTo>
                <a:arcTo wR="10800" hR="10800" stAng="8905067" swAng="10902391"/>
                <a:lnTo>
                  <a:pt x="22506" y="4075"/>
                </a:lnTo>
                <a:lnTo>
                  <a:pt x="20840" y="10239"/>
                </a:lnTo>
                <a:lnTo>
                  <a:pt x="14676" y="85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10800000">
            <a:off x="5291640" y="2133720"/>
            <a:ext cx="1368360" cy="792000"/>
          </a:xfrm>
          <a:custGeom>
            <a:avLst/>
            <a:gdLst>
              <a:gd name="textAreaLeft" fmla="*/ -360 w 1368360"/>
              <a:gd name="textAreaRight" fmla="*/ 1368360 w 1368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4583" y="14372"/>
                </a:moveTo>
                <a:arcTo wR="-7170" hR="-7170" stAng="9007458" swAng="-9372730"/>
                <a:lnTo>
                  <a:pt x="61" y="11945"/>
                </a:lnTo>
                <a:arcTo wR="10800" hR="10800" stAng="10434727" swAng="9372730"/>
                <a:lnTo>
                  <a:pt x="22506" y="4075"/>
                </a:lnTo>
                <a:lnTo>
                  <a:pt x="20840" y="10239"/>
                </a:lnTo>
                <a:lnTo>
                  <a:pt x="14676" y="85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84720" y="4149720"/>
            <a:ext cx="1439640" cy="122400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93760" y="54288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Do you know what these letters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549360"/>
            <a:ext cx="647640" cy="57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96000" y="1052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知道这些字母是什么意思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6697800" cy="3963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14600" y="5729400"/>
            <a:ext cx="60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unidentified flying object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不明飞行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4400" y="466560"/>
            <a:ext cx="71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o you know what these letters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08360" y="981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你知道这些字母是什么意思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84720" y="544500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565760" cy="47084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04920" y="5805360"/>
            <a:ext cx="65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hina Central Televisio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中国中央电视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96000" y="1052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你知道这些字母是什么意思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40400" y="539640"/>
            <a:ext cx="71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o you know what these letters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5589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4514760" cy="3933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189080" y="522936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78de"/>
                </a:solidFill>
                <a:latin typeface="Arial"/>
                <a:ea typeface="Arial Unicode MS"/>
              </a:rPr>
              <a:t>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88560" y="54450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United Nation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联合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40000" y="5589720"/>
            <a:ext cx="863640" cy="215640"/>
          </a:xfrm>
          <a:prstGeom prst="rightArrow">
            <a:avLst>
              <a:gd name="adj1" fmla="val 50000"/>
              <a:gd name="adj2" fmla="val 10012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4400" y="395280"/>
            <a:ext cx="71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o you know what these letters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4360" y="836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你知道这些字母是什么意思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272360" cy="35542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47280" y="2276280"/>
            <a:ext cx="62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. Revise the conversations in 1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.Read and write the big letters and small letters (Ss - Zz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2160" y="817560"/>
            <a:ext cx="407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ccff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hd"/>
          <p:cNvPicPr/>
          <p:nvPr/>
        </p:nvPicPr>
        <p:blipFill>
          <a:blip r:embed="rId2"/>
          <a:stretch/>
        </p:blipFill>
        <p:spPr>
          <a:xfrm>
            <a:off x="7956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hd"/>
          <p:cNvPicPr/>
          <p:nvPr/>
        </p:nvPicPr>
        <p:blipFill>
          <a:blip r:embed="rId3"/>
          <a:stretch/>
        </p:blipFill>
        <p:spPr>
          <a:xfrm>
            <a:off x="2843280" y="4581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hd"/>
          <p:cNvPicPr/>
          <p:nvPr/>
        </p:nvPicPr>
        <p:blipFill>
          <a:blip r:embed="rId4"/>
          <a:stretch/>
        </p:blipFill>
        <p:spPr>
          <a:xfrm>
            <a:off x="2050920" y="191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971640" y="52293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6804000" y="263700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3708360" y="620640"/>
            <a:ext cx="1143000" cy="14288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60" y="2492280"/>
            <a:ext cx="90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en-US" sz="7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end</a:t>
            </a:r>
            <a:r>
              <a:rPr b="1" lang="en-US" sz="7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of </a:t>
            </a: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this</a:t>
            </a:r>
            <a:r>
              <a:rPr b="1" lang="en-US" sz="7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eriod</a:t>
            </a:r>
            <a:r>
              <a:rPr b="1" lang="en-US" sz="72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5" descr="hd"/>
          <p:cNvPicPr/>
          <p:nvPr/>
        </p:nvPicPr>
        <p:blipFill>
          <a:blip r:embed="rId8"/>
          <a:stretch/>
        </p:blipFill>
        <p:spPr>
          <a:xfrm>
            <a:off x="6156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d"/>
          <p:cNvPicPr/>
          <p:nvPr/>
        </p:nvPicPr>
        <p:blipFill>
          <a:blip r:embed="rId9"/>
          <a:stretch/>
        </p:blipFill>
        <p:spPr>
          <a:xfrm>
            <a:off x="7308720" y="5805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0"/>
          <a:stretch/>
        </p:blipFill>
        <p:spPr>
          <a:xfrm>
            <a:off x="179280" y="1484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1"/>
          <a:stretch/>
        </p:blipFill>
        <p:spPr>
          <a:xfrm>
            <a:off x="250920" y="549360"/>
            <a:ext cx="3779640" cy="2519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2"/>
          <a:stretch/>
        </p:blipFill>
        <p:spPr>
          <a:xfrm>
            <a:off x="324000" y="26028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4438800" cy="511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1268280"/>
            <a:ext cx="3958920" cy="64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lor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色；颜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red  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红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色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)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yellow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黄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色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)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green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绿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色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)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3"/>
              </a:rPr>
              <a:t>blue  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4"/>
              </a:rPr>
              <a:t>蓝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5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6"/>
              </a:rPr>
              <a:t>色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7"/>
              </a:rPr>
              <a:t>)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8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9"/>
              </a:rPr>
              <a:t>black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0"/>
              </a:rPr>
              <a:t>黑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1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2"/>
              </a:rPr>
              <a:t>色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3"/>
              </a:rPr>
              <a:t>)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4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hite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白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色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nd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；又；而且</a:t>
            </a: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700280"/>
            <a:ext cx="3348000" cy="1368360"/>
          </a:xfrm>
          <a:prstGeom prst="cloudCallout">
            <a:avLst>
              <a:gd name="adj1" fmla="val 54504"/>
              <a:gd name="adj2" fmla="val 144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点击查看动画词汇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8320" y="380880"/>
            <a:ext cx="59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8600"/>
                </a:solidFill>
                <a:latin typeface="Arial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5"/>
          <a:stretch/>
        </p:blipFill>
        <p:spPr>
          <a:xfrm>
            <a:off x="5219640" y="1268280"/>
            <a:ext cx="1067040" cy="3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6"/>
          <a:stretch/>
        </p:blipFill>
        <p:spPr>
          <a:xfrm>
            <a:off x="6948360" y="4437000"/>
            <a:ext cx="1684440" cy="172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59280" y="260280"/>
            <a:ext cx="3313080" cy="965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59280" y="1052640"/>
            <a:ext cx="13701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1120680"/>
            <a:ext cx="13716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1052640"/>
            <a:ext cx="137160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125360"/>
            <a:ext cx="14475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3573360"/>
            <a:ext cx="12985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57336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645000"/>
            <a:ext cx="1290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404640"/>
            <a:ext cx="41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1409760" cy="1879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771640" y="1700280"/>
            <a:ext cx="1400400" cy="18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59280" y="1628640"/>
            <a:ext cx="1409760" cy="1879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020000" y="1628640"/>
            <a:ext cx="13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619280" y="4292640"/>
            <a:ext cx="1400040" cy="21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851280" y="4365720"/>
            <a:ext cx="1400040" cy="21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084720" y="4221000"/>
            <a:ext cx="1400400" cy="210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620640"/>
            <a:ext cx="792000" cy="64764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284720" y="1341360"/>
            <a:ext cx="4181400" cy="4464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58920" y="5461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sten and repeat.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听一听，读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2680" y="1550880"/>
            <a:ext cx="288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4286160"/>
            <a:ext cx="351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black and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60012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06720" y="9586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58720" y="362412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26360" y="3271680"/>
            <a:ext cx="47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36880" y="19558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8280" y="4470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5200" y="723960"/>
            <a:ext cx="1523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762120"/>
            <a:ext cx="1600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9051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1280" y="3220920"/>
            <a:ext cx="47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620640"/>
            <a:ext cx="7775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836640"/>
            <a:ext cx="1752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64000" y="692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17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32720" y="3233880"/>
            <a:ext cx="47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45813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744480"/>
            <a:ext cx="198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128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02:24:37Z</dcterms:created>
  <dc:creator/>
  <dc:description/>
  <dc:language>en-US</dc:language>
  <cp:lastModifiedBy>USER</cp:lastModifiedBy>
  <dcterms:modified xsi:type="dcterms:W3CDTF">2014-03-07T08:09:13Z</dcterms:modified>
  <cp:revision>179</cp:revision>
  <dc:subject/>
  <dc:title>  </dc:title>
</cp:coreProperties>
</file>