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.gif" ContentType="image/gif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7.jpeg" ContentType="image/jpeg"/>
  <Override PartName="/ppt/media/image12.jpeg" ContentType="image/jpeg"/>
  <Override PartName="/ppt/media/image4.png" ContentType="image/png"/>
  <Override PartName="/ppt/media/image34.png" ContentType="image/png"/>
  <Override PartName="/ppt/media/image41.gif" ContentType="image/gif"/>
  <Override PartName="/ppt/media/image3.gif" ContentType="image/gif"/>
  <Override PartName="/ppt/media/image27.png" ContentType="image/png"/>
  <Override PartName="/ppt/media/image1.gif" ContentType="image/gif"/>
  <Override PartName="/ppt/media/image11.jpeg" ContentType="image/jpeg"/>
  <Override PartName="/ppt/media/image13.jpeg" ContentType="image/jpeg"/>
  <Override PartName="/ppt/media/image36.png" ContentType="image/png"/>
  <Override PartName="/ppt/media/image43.wmf" ContentType="image/x-wmf"/>
  <Override PartName="/ppt/media/image37.png" ContentType="image/png"/>
  <Override PartName="/ppt/media/image44.jpeg" ContentType="image/jpeg"/>
  <Override PartName="/ppt/media/image46.jpeg" ContentType="image/jpeg"/>
  <Override PartName="/ppt/media/image35.png" ContentType="image/png"/>
  <Override PartName="/ppt/media/image47.png" ContentType="image/png"/>
  <Override PartName="/ppt/media/image54.gif" ContentType="image/gif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55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10.jpeg" ContentType="image/jpeg"/>
  <Override PartName="/ppt/media/image9.jpeg" ContentType="image/jpeg"/>
  <Override PartName="/ppt/media/image48.png" ContentType="image/png"/>
  <Override PartName="/ppt/media/image5.jpeg" ContentType="image/jpeg"/>
  <Override PartName="/ppt/media/image50.png" ContentType="image/png"/>
  <Override PartName="/ppt/media/image6.jpeg" ContentType="image/jpeg"/>
  <Override PartName="/ppt/media/image38.png" ContentType="image/png"/>
  <Override PartName="/ppt/media/image8.jpeg" ContentType="image/jpeg"/>
  <Override PartName="/ppt/media/image45.gif" ContentType="image/gif"/>
  <Override PartName="/ppt/media/image39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0F1-23EA-4A2E-9A80-A5A567B0E3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4F7A-068A-4253-9E11-C0798219B9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D1E-A23A-4A7A-AD04-0F59E8B5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ECA-B0A3-4D64-B3D6-3D8BF87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B5E-C0C3-4A0B-8B48-52BCD8C30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3A8-6DC4-4202-8515-51F15B1D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99B-7198-4FB3-8C8F-42194A20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64F-3D9C-4C95-8486-53B9AEC6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0C77-136D-43A1-A50A-FAECFA49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A10-D1EF-4A4C-901A-161B23CB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0D4-889B-48CB-B84D-82386FCA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140-7381-4EE9-9F8B-7AC5297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C57-06F8-43A3-864A-66DDCED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B7E-FA16-4B22-8F26-B7681B8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2770-AD96-4AD7-8E88-D3FB372DE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file:///chant,pink%20ball.swf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5.png"/><Relationship Id="rId12" Type="http://schemas.openxmlformats.org/officeDocument/2006/relationships/image" Target="../media/image39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8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19280" y="2276640"/>
            <a:ext cx="60958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color is it?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360" y="981000"/>
            <a:ext cx="4032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tarter Unit 3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3716280"/>
            <a:ext cx="2737080" cy="504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iod I (1a-1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973080" y="189000"/>
            <a:ext cx="3097080" cy="2063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d"/>
          <p:cNvPicPr/>
          <p:nvPr/>
        </p:nvPicPr>
        <p:blipFill>
          <a:blip r:embed="rId2"/>
          <a:stretch/>
        </p:blipFill>
        <p:spPr>
          <a:xfrm>
            <a:off x="1763640" y="393372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46920" y="0"/>
            <a:ext cx="3097080" cy="206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d"/>
          <p:cNvPicPr/>
          <p:nvPr/>
        </p:nvPicPr>
        <p:blipFill>
          <a:blip r:embed="rId4"/>
          <a:stretch/>
        </p:blipFill>
        <p:spPr>
          <a:xfrm>
            <a:off x="7596360" y="378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hd"/>
          <p:cNvPicPr/>
          <p:nvPr/>
        </p:nvPicPr>
        <p:blipFill>
          <a:blip r:embed="rId5"/>
          <a:stretch/>
        </p:blipFill>
        <p:spPr>
          <a:xfrm>
            <a:off x="2340000" y="4653000"/>
            <a:ext cx="53820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hd"/>
          <p:cNvPicPr/>
          <p:nvPr/>
        </p:nvPicPr>
        <p:blipFill>
          <a:blip r:embed="rId6"/>
          <a:stretch/>
        </p:blipFill>
        <p:spPr>
          <a:xfrm>
            <a:off x="539640" y="501336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hd"/>
          <p:cNvPicPr/>
          <p:nvPr/>
        </p:nvPicPr>
        <p:blipFill>
          <a:blip r:embed="rId7"/>
          <a:stretch/>
        </p:blipFill>
        <p:spPr>
          <a:xfrm>
            <a:off x="7956720" y="4797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d"/>
          <p:cNvPicPr/>
          <p:nvPr/>
        </p:nvPicPr>
        <p:blipFill>
          <a:blip r:embed="rId8"/>
          <a:stretch/>
        </p:blipFill>
        <p:spPr>
          <a:xfrm>
            <a:off x="6516720" y="458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hd"/>
          <p:cNvPicPr/>
          <p:nvPr/>
        </p:nvPicPr>
        <p:blipFill>
          <a:blip r:embed="rId9"/>
          <a:stretch/>
        </p:blipFill>
        <p:spPr>
          <a:xfrm>
            <a:off x="395280" y="3357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d"/>
          <p:cNvPicPr/>
          <p:nvPr/>
        </p:nvPicPr>
        <p:blipFill>
          <a:blip r:embed="rId10"/>
          <a:stretch/>
        </p:blipFill>
        <p:spPr>
          <a:xfrm>
            <a:off x="4643280" y="47973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hd"/>
          <p:cNvPicPr/>
          <p:nvPr/>
        </p:nvPicPr>
        <p:blipFill>
          <a:blip r:embed="rId11"/>
          <a:stretch/>
        </p:blipFill>
        <p:spPr>
          <a:xfrm>
            <a:off x="3492360" y="4869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d"/>
          <p:cNvPicPr/>
          <p:nvPr/>
        </p:nvPicPr>
        <p:blipFill>
          <a:blip r:embed="rId12"/>
          <a:stretch/>
        </p:blipFill>
        <p:spPr>
          <a:xfrm>
            <a:off x="6659640" y="3573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14763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435600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745164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6"/>
          <a:stretch/>
        </p:blipFill>
        <p:spPr>
          <a:xfrm>
            <a:off x="579600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7"/>
          <a:stretch/>
        </p:blipFill>
        <p:spPr>
          <a:xfrm>
            <a:off x="291636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8"/>
          <a:stretch/>
        </p:blipFill>
        <p:spPr>
          <a:xfrm>
            <a:off x="0" y="542916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9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2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943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793800" y="-2097000"/>
            <a:ext cx="7315200" cy="10958400"/>
            <a:chOff x="793800" y="-2097000"/>
            <a:chExt cx="7315200" cy="10958400"/>
          </a:xfrm>
        </p:grpSpPr>
        <p:grpSp>
          <p:nvGrpSpPr>
            <p:cNvPr id="197" name=""/>
            <p:cNvGrpSpPr/>
            <p:nvPr/>
          </p:nvGrpSpPr>
          <p:grpSpPr>
            <a:xfrm>
              <a:off x="793800" y="-2097000"/>
              <a:ext cx="7315200" cy="10958400"/>
              <a:chOff x="793800" y="-2097000"/>
              <a:chExt cx="7315200" cy="10958400"/>
            </a:xfrm>
          </p:grpSpPr>
          <p:sp>
            <p:nvSpPr>
              <p:cNvPr id="198" name=""/>
              <p:cNvSpPr/>
              <p:nvPr/>
            </p:nvSpPr>
            <p:spPr>
              <a:xfrm>
                <a:off x="793800" y="-2097000"/>
                <a:ext cx="7315200" cy="10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693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3800" y="-2097000"/>
                <a:ext cx="7315200" cy="10958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793800" y="-2097000"/>
              <a:ext cx="7315200" cy="10958400"/>
            </a:xfrm>
            <a:prstGeom prst="rect">
              <a:avLst/>
            </a:prstGeom>
            <a:noFill/>
            <a:ln w="0">
              <a:solidFill>
                <a:srgbClr val="dcf0d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rcRect l="8204" t="46324" r="7693" b="1075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0" r="0" b="863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356000" y="836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Times New Roman"/>
              </a:rPr>
              <a:t>Let’s </a:t>
            </a:r>
            <a:r>
              <a:rPr b="0" lang="en-US" sz="6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chant</a:t>
            </a:r>
            <a:r>
              <a:rPr b="0" lang="en-US" sz="6000" spc="-1" strike="noStrike" u="sng">
                <a:solidFill>
                  <a:srgbClr val="6600cc"/>
                </a:solidFill>
                <a:uFillTx/>
                <a:latin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9640" y="404640"/>
            <a:ext cx="4032360" cy="74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u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e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绿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u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蓝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k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黑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e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u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le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w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棕色（的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k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粉色（的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ge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橙色（的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a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灰色（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Times New Roman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680" y="0"/>
            <a:ext cx="59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8600"/>
                </a:solidFill>
                <a:latin typeface="Arial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948360" y="4437000"/>
            <a:ext cx="168444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635280" y="91116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79640" y="191916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g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47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k</a:t>
            </a:r>
            <a:r>
              <a:rPr b="1" lang="el-GR" sz="32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84240" y="1413000"/>
            <a:ext cx="15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j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əʊ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256860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b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u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1640" y="3071880"/>
            <a:ext cx="157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b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0920" y="3576600"/>
            <a:ext cx="145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w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10400" y="4078440"/>
            <a:ext cx="16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p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ɜ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43520" y="458136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b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40720" y="50864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p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n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65920" y="55886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ʒ/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022800"/>
            <a:ext cx="129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 g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5589720"/>
            <a:ext cx="71280" cy="230040"/>
          </a:xfrm>
          <a:custGeom>
            <a:avLst/>
            <a:gdLst/>
            <a:ahLst/>
            <a:rect l="l" t="t" r="r" b="b"/>
            <a:pathLst>
              <a:path w="50" h="145">
                <a:moveTo>
                  <a:pt x="50" y="0"/>
                </a:moveTo>
                <a:lnTo>
                  <a:pt x="41" y="50"/>
                </a:lnTo>
                <a:lnTo>
                  <a:pt x="0" y="1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4149720"/>
            <a:ext cx="71280" cy="230040"/>
          </a:xfrm>
          <a:custGeom>
            <a:avLst/>
            <a:gdLst/>
            <a:ahLst/>
            <a:rect l="l" t="t" r="r" b="b"/>
            <a:pathLst>
              <a:path w="50" h="145">
                <a:moveTo>
                  <a:pt x="50" y="0"/>
                </a:moveTo>
                <a:lnTo>
                  <a:pt x="41" y="50"/>
                </a:lnTo>
                <a:lnTo>
                  <a:pt x="0" y="1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313080" cy="9651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995640" y="1052640"/>
            <a:ext cx="1370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24000" y="981000"/>
            <a:ext cx="13716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981000"/>
            <a:ext cx="1371600" cy="5814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81000"/>
            <a:ext cx="14479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845480" y="1052640"/>
            <a:ext cx="12985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3789360"/>
            <a:ext cx="147636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t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4000" y="3860640"/>
            <a:ext cx="1368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4176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Arial"/>
              </a:rPr>
              <a:t>c</a:t>
            </a: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</a:t>
            </a: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o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r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124000" y="1628640"/>
            <a:ext cx="1400400" cy="1805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995640" y="1628640"/>
            <a:ext cx="1409760" cy="1879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867280" y="1628640"/>
            <a:ext cx="13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743960" y="1700280"/>
            <a:ext cx="1400040" cy="21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0" y="4508640"/>
            <a:ext cx="1400040" cy="21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8"/>
          <a:stretch/>
        </p:blipFill>
        <p:spPr>
          <a:xfrm>
            <a:off x="2124000" y="4508640"/>
            <a:ext cx="1400400" cy="2104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772400" y="3860640"/>
            <a:ext cx="1371600" cy="581400"/>
          </a:xfrm>
          <a:prstGeom prst="rect">
            <a:avLst/>
          </a:prstGeom>
          <a:solidFill>
            <a:srgbClr val="66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24360" y="3860640"/>
            <a:ext cx="1371600" cy="581400"/>
          </a:xfrm>
          <a:prstGeom prst="rect">
            <a:avLst/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in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789360"/>
            <a:ext cx="1584360" cy="70344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w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5724360" y="4437000"/>
            <a:ext cx="1368720" cy="2104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3924360" y="4508640"/>
            <a:ext cx="1400040" cy="2104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172360" y="5229360"/>
            <a:ext cx="360360" cy="4572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1">
            <a:lum bright="24000"/>
            <a:alphaModFix amt="95000"/>
          </a:blip>
          <a:stretch/>
        </p:blipFill>
        <p:spPr>
          <a:xfrm>
            <a:off x="7812000" y="4437000"/>
            <a:ext cx="1332000" cy="21034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7885080" y="4581360"/>
            <a:ext cx="1069920" cy="161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pic0440"/>
          <p:cNvPicPr/>
          <p:nvPr/>
        </p:nvPicPr>
        <p:blipFill>
          <a:blip r:embed="rId1"/>
          <a:stretch/>
        </p:blipFill>
        <p:spPr>
          <a:xfrm>
            <a:off x="0" y="304920"/>
            <a:ext cx="2286000" cy="2819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3"/>
          <p:cNvSpPr/>
          <p:nvPr/>
        </p:nvSpPr>
        <p:spPr>
          <a:xfrm>
            <a:off x="324000" y="2205000"/>
            <a:ext cx="92883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1.           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_         _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日依山尽，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河入海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日出江花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胜火，春来江水 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如 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等闲识得东风面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万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purple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千  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总是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满面尘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grey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烟火色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两鬓苍苍十指</a:t>
            </a:r>
            <a:r>
              <a:rPr b="1" lang="zh-CN" sz="3200" spc="-1" strike="noStrike" u="sng">
                <a:solidFill>
                  <a:srgbClr val="4e324c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4e324c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2004822428164[1]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2637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457200" y="609480"/>
            <a:ext cx="137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2987640" y="620640"/>
            <a:ext cx="108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6372360" y="40464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Monotype Corsiva"/>
                <a:ea typeface="华文新魏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788000" y="620640"/>
            <a:ext cx="99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051640" y="213372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6012000" y="4581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2362320" y="3352680"/>
            <a:ext cx="7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4859280" y="2060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5943600" y="327672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4"/>
          <p:cNvSpPr/>
          <p:nvPr/>
        </p:nvSpPr>
        <p:spPr>
          <a:xfrm>
            <a:off x="7543800" y="3352680"/>
            <a:ext cx="108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6877080" y="59500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43040" y="20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14520" y="1281240"/>
            <a:ext cx="40003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6600"/>
                </a:solidFill>
                <a:latin typeface="Comic Sans MS"/>
              </a:rPr>
              <a:t>Different mean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eg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black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green h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white coffee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grey hai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529240" y="1957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红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514840" y="24861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新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5500800" y="305748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加牛奶的咖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500800" y="3533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白头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MCj04361900000[1]"/>
          <p:cNvPicPr/>
          <p:nvPr/>
        </p:nvPicPr>
        <p:blipFill>
          <a:blip r:embed="rId1"/>
          <a:stretch/>
        </p:blipFill>
        <p:spPr>
          <a:xfrm>
            <a:off x="1943280" y="4390920"/>
            <a:ext cx="4736880" cy="1067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MCj03669540000[1]"/>
          <p:cNvPicPr/>
          <p:nvPr/>
        </p:nvPicPr>
        <p:blipFill>
          <a:blip r:embed="rId2"/>
          <a:stretch/>
        </p:blipFill>
        <p:spPr>
          <a:xfrm>
            <a:off x="479520" y="1009800"/>
            <a:ext cx="120168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333360"/>
            <a:ext cx="792000" cy="64764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89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ok at the picture. Write the letter for each color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图写出与每种颜色匹配的字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26370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270828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4360" y="508464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2133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4437000"/>
            <a:ext cx="431640" cy="432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3284640"/>
            <a:ext cx="431640" cy="431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3860640"/>
            <a:ext cx="431640" cy="4320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5589720"/>
            <a:ext cx="431640" cy="4316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6165720"/>
            <a:ext cx="431640" cy="4320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2205000"/>
            <a:ext cx="2735280" cy="44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   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  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le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n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29080" y="20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29080" y="270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629080" y="3213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28720" y="378936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2520" y="4365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07200" y="4941720"/>
            <a:ext cx="43668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702160" y="551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2520" y="6093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92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9" dur="192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1" dur="192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3" dur="192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5280" y="333360"/>
            <a:ext cx="792000" cy="64764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26028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Listen and repeat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录音并跟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22680" y="1550880"/>
            <a:ext cx="288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51040" y="4286160"/>
            <a:ext cx="288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bl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740720" y="404640"/>
            <a:ext cx="520560" cy="520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381560" y="907920"/>
            <a:ext cx="4762440" cy="566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43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6" dur="22805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006720" y="9586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826360" y="327168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936880" y="19558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78280" y="447048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620640"/>
            <a:ext cx="395280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/es/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549360"/>
            <a:ext cx="1600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/ti: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19051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91280" y="322092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239920" cy="23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268360" y="692280"/>
            <a:ext cx="5113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What's in the box?</a:t>
            </a:r>
            <a:endParaRPr b="0" i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4360" y="620640"/>
            <a:ext cx="77752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836640"/>
            <a:ext cx="1752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564000" y="69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84720" y="177336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720" y="3233880"/>
            <a:ext cx="473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35280" y="458136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.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11280" y="744480"/>
            <a:ext cx="1981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/vi: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2728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2239920" cy="2396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0"/>
            <a:ext cx="381636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Times New Roman"/>
              </a:rPr>
              <a:t>/`dʌblju:/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5296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10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W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3072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316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68360" y="333360"/>
            <a:ext cx="198108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</a:rPr>
              <a:t>/eks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41972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6600"/>
                </a:solidFill>
                <a:latin typeface="Times New Roman"/>
              </a:rPr>
              <a:t>orange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8360" y="189000"/>
            <a:ext cx="215892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ff00"/>
                </a:solidFill>
                <a:latin typeface="Times New Roman"/>
              </a:rPr>
              <a:t>Y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f00"/>
                </a:solidFill>
                <a:latin typeface="Times New Roman"/>
              </a:rPr>
              <a:t>/wai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666880" y="19051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Y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1280" y="322092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43200" y="44197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.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11280" y="620640"/>
            <a:ext cx="792144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4221000"/>
            <a:ext cx="2239920" cy="2397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749680" y="6094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’s this?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72000" y="2924280"/>
            <a:ext cx="490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11280" y="4292640"/>
            <a:ext cx="673272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It’s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lack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US" sz="5400" spc="-1" strike="noStrike">
                <a:solidFill>
                  <a:srgbClr val="bbe0e3"/>
                </a:solidFill>
                <a:latin typeface="Times New Roman"/>
              </a:rPr>
              <a:t>.</a:t>
            </a:r>
            <a:r>
              <a:rPr b="0" lang="en-US" sz="5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800080"/>
                </a:solidFill>
                <a:latin typeface="Times New Roman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0001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345" name=""/>
          <p:cNvGrpSpPr/>
          <p:nvPr/>
        </p:nvGrpSpPr>
        <p:grpSpPr>
          <a:xfrm>
            <a:off x="2987640" y="1773360"/>
            <a:ext cx="4032360" cy="916920"/>
            <a:chOff x="2987640" y="1773360"/>
            <a:chExt cx="4032360" cy="916920"/>
          </a:xfrm>
        </p:grpSpPr>
        <p:sp>
          <p:nvSpPr>
            <p:cNvPr id="346" name=""/>
            <p:cNvSpPr/>
            <p:nvPr/>
          </p:nvSpPr>
          <p:spPr>
            <a:xfrm>
              <a:off x="2987640" y="1773360"/>
              <a:ext cx="4032360" cy="91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ff0000"/>
                  </a:solidFill>
                  <a:latin typeface="Times New Roman"/>
                </a:rPr>
                <a:t>It’s</a:t>
              </a:r>
              <a:r>
                <a:rPr b="0" lang="en-US" sz="5400" spc="-1" strike="noStrike">
                  <a:solidFill>
                    <a:srgbClr val="bbe0e3"/>
                  </a:solidFill>
                  <a:latin typeface="Times New Roman"/>
                </a:rPr>
                <a:t>     </a:t>
              </a:r>
              <a:r>
                <a:rPr b="0" lang="en-US" sz="5400" spc="-1" strike="noStrike">
                  <a:solidFill>
                    <a:srgbClr val="ff6600"/>
                  </a:solidFill>
                  <a:latin typeface="Times New Roman"/>
                </a:rPr>
                <a:t>.</a:t>
              </a:r>
              <a:r>
                <a:rPr b="0" lang="en-US" sz="5400" spc="-1" strike="noStrike">
                  <a:solidFill>
                    <a:srgbClr val="800080"/>
                  </a:solidFill>
                  <a:latin typeface="Times New Roman"/>
                </a:rPr>
                <a:t> 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4273920" y="1989000"/>
              <a:ext cx="4330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250920" y="2421000"/>
            <a:ext cx="345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/zed/  /zi: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57200" y="1219320"/>
            <a:ext cx="4876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’s this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pell it, p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color is 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’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map"/>
          <p:cNvPicPr/>
          <p:nvPr/>
        </p:nvPicPr>
        <p:blipFill>
          <a:blip r:embed="rId1"/>
          <a:stretch/>
        </p:blipFill>
        <p:spPr>
          <a:xfrm>
            <a:off x="5181480" y="1371600"/>
            <a:ext cx="3381480" cy="35053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1447920" y="1828800"/>
            <a:ext cx="20574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295280" y="4800600"/>
            <a:ext cx="22100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533520" y="3352680"/>
            <a:ext cx="19047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M-A-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304920" y="304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Look and say. 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看一看说一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pen"/>
          <p:cNvPicPr/>
          <p:nvPr/>
        </p:nvPicPr>
        <p:blipFill>
          <a:blip r:embed="rId2"/>
          <a:stretch/>
        </p:blipFill>
        <p:spPr>
          <a:xfrm>
            <a:off x="5029200" y="1143000"/>
            <a:ext cx="3240000" cy="44197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9"/>
          <p:cNvSpPr/>
          <p:nvPr/>
        </p:nvSpPr>
        <p:spPr>
          <a:xfrm>
            <a:off x="1523880" y="1828800"/>
            <a:ext cx="1828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09480" y="3429000"/>
            <a:ext cx="19051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P-E-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1447920" y="4876920"/>
            <a:ext cx="14475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key01"/>
          <p:cNvPicPr/>
          <p:nvPr/>
        </p:nvPicPr>
        <p:blipFill>
          <a:blip r:embed="rId3"/>
          <a:stretch/>
        </p:blipFill>
        <p:spPr>
          <a:xfrm>
            <a:off x="4876920" y="1600200"/>
            <a:ext cx="3886200" cy="34178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13"/>
          <p:cNvSpPr/>
          <p:nvPr/>
        </p:nvSpPr>
        <p:spPr>
          <a:xfrm>
            <a:off x="533520" y="3352680"/>
            <a:ext cx="1828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K-E-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1371600" y="4800600"/>
            <a:ext cx="2133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1447920" y="1828800"/>
            <a:ext cx="1828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k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6" descr="ruler02"/>
          <p:cNvPicPr/>
          <p:nvPr/>
        </p:nvPicPr>
        <p:blipFill>
          <a:blip r:embed="rId4"/>
          <a:stretch/>
        </p:blipFill>
        <p:spPr>
          <a:xfrm>
            <a:off x="3886200" y="1600200"/>
            <a:ext cx="5257800" cy="22924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7"/>
          <p:cNvSpPr/>
          <p:nvPr/>
        </p:nvSpPr>
        <p:spPr>
          <a:xfrm>
            <a:off x="1523880" y="1828800"/>
            <a:ext cx="2133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457200" y="3352680"/>
            <a:ext cx="2971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R-U-L-E-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1447920" y="4876920"/>
            <a:ext cx="12189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0" descr="jacket_green"/>
          <p:cNvPicPr/>
          <p:nvPr/>
        </p:nvPicPr>
        <p:blipFill>
          <a:blip r:embed="rId5"/>
          <a:stretch/>
        </p:blipFill>
        <p:spPr>
          <a:xfrm>
            <a:off x="5257800" y="990720"/>
            <a:ext cx="3492360" cy="41907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1"/>
          <p:cNvSpPr/>
          <p:nvPr/>
        </p:nvSpPr>
        <p:spPr>
          <a:xfrm>
            <a:off x="1523880" y="1828800"/>
            <a:ext cx="25146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ja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09480" y="3352680"/>
            <a:ext cx="35053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J-A-C-K-E-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1447920" y="4800600"/>
            <a:ext cx="1828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4" descr="棉被01"/>
          <p:cNvPicPr/>
          <p:nvPr/>
        </p:nvPicPr>
        <p:blipFill>
          <a:blip r:embed="rId6"/>
          <a:stretch/>
        </p:blipFill>
        <p:spPr>
          <a:xfrm>
            <a:off x="5410080" y="1676520"/>
            <a:ext cx="3733920" cy="37051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5"/>
          <p:cNvSpPr/>
          <p:nvPr/>
        </p:nvSpPr>
        <p:spPr>
          <a:xfrm>
            <a:off x="1523880" y="1905120"/>
            <a:ext cx="21337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a qui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609480" y="3352680"/>
            <a:ext cx="27432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Q-U-I-L-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7"/>
          <p:cNvSpPr/>
          <p:nvPr/>
        </p:nvSpPr>
        <p:spPr>
          <a:xfrm>
            <a:off x="1447920" y="4800600"/>
            <a:ext cx="18288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8" descr="images2"/>
          <p:cNvPicPr/>
          <p:nvPr/>
        </p:nvPicPr>
        <p:blipFill>
          <a:blip r:embed="rId7"/>
          <a:stretch/>
        </p:blipFill>
        <p:spPr>
          <a:xfrm>
            <a:off x="5334120" y="1523880"/>
            <a:ext cx="3276360" cy="31734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29"/>
          <p:cNvSpPr/>
          <p:nvPr/>
        </p:nvSpPr>
        <p:spPr>
          <a:xfrm>
            <a:off x="1523880" y="1905120"/>
            <a:ext cx="304812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 Black"/>
              </a:rPr>
              <a:t>an</a:t>
            </a: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 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533520" y="3352680"/>
            <a:ext cx="37335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O-R-A-N-G-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1447920" y="4876920"/>
            <a:ext cx="2286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50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5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95280" y="333360"/>
            <a:ext cx="792000" cy="64764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33336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ractice the conversations in the picture with your partner. Then make your own conversations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图中对话，然后与同伴编新对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425080" cy="42483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369800" y="1925640"/>
            <a:ext cx="6632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听录音并朗读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上的单词和句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抄写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上的单词三遍，听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默写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页图片上的句子一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完成作业本中本单元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部分的题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987640" y="549360"/>
            <a:ext cx="338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omework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92520" y="457200"/>
            <a:ext cx="33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2356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Revision(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复习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95280" y="1773360"/>
            <a:ext cx="662940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句意及首字母完成下列对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How are you ?I am f_____ , 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We eat breakfast in the m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What’s this in E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.S______ it ,please? M-A-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.H____are you ?I’m 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2708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36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3573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40053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p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00360" y="4437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67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67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67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67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型转换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70172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.____ _____ 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’m fine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根据回答提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2._____ ______ in 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t’s a jacket.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根据回答提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3.____ it ,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K-E-Y.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根据下句写出上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这是一个橙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is __  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7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w are y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95840" y="256536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hat’s this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13440" y="256536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342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429000"/>
            <a:ext cx="15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53600" y="4797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479736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32720" y="4869000"/>
            <a:ext cx="915840" cy="93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79640" y="191628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: What c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or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s it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2637000"/>
            <a:ext cx="303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2565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29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94172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5805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58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580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40720" y="4724280"/>
            <a:ext cx="14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22766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357336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445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ə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6165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9564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80000" y="6165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39337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ə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01080" y="522936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6300360" y="6164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6165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33336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: What’s this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112536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: It’s a/a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979640" y="4365720"/>
            <a:ext cx="1190520" cy="132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1268280"/>
            <a:ext cx="1619280" cy="135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451640" y="3160800"/>
            <a:ext cx="1513080" cy="1708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236000" y="476280"/>
            <a:ext cx="1643040" cy="1890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067280" y="234936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95280" y="3716280"/>
            <a:ext cx="1295280" cy="116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292720" y="4076640"/>
            <a:ext cx="863640" cy="187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3564000" y="4221000"/>
            <a:ext cx="1285920" cy="1433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651640" y="2565360"/>
            <a:ext cx="151272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2448000" cy="2033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51280" y="404640"/>
            <a:ext cx="4392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 What’s th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B: It’s a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ap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: 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B: It’s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ed and yellow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89000"/>
            <a:ext cx="2228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irwor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771640" y="342900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987640" y="5157720"/>
            <a:ext cx="1747800" cy="1700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800000" cy="164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596360" y="5445000"/>
            <a:ext cx="1126800" cy="1150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364000" y="525636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7529400" y="3357720"/>
            <a:ext cx="1428840" cy="1539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179280" y="5046840"/>
            <a:ext cx="23400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380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Guessing colors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猜颜色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895480"/>
            <a:ext cx="2209680" cy="129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2971800"/>
            <a:ext cx="213372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048120"/>
            <a:ext cx="1981440" cy="99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971800"/>
            <a:ext cx="217980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971800"/>
            <a:ext cx="1981080" cy="1143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2971800"/>
            <a:ext cx="2209680" cy="1066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971800"/>
            <a:ext cx="1676520" cy="10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7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4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3958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o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907920"/>
            <a:ext cx="1871640" cy="865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125360"/>
            <a:ext cx="1368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836640"/>
            <a:ext cx="18162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2205000"/>
            <a:ext cx="1815840" cy="843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2205000"/>
            <a:ext cx="1816200" cy="93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500280"/>
            <a:ext cx="1898640" cy="965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3645000"/>
            <a:ext cx="1816200" cy="9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5013360"/>
            <a:ext cx="1958760" cy="914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084640"/>
            <a:ext cx="1816200" cy="935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32720" y="765000"/>
            <a:ext cx="2087280" cy="986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gray(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灰色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2133720"/>
            <a:ext cx="208908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orange(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橘色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3573360"/>
            <a:ext cx="2016000" cy="914400"/>
          </a:xfrm>
          <a:prstGeom prst="ellipse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purple(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紫色</a:t>
            </a:r>
            <a:r>
              <a:rPr b="0" lang="zh-CN" sz="24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4000" y="5013360"/>
            <a:ext cx="2089080" cy="9144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12000" y="105264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69920" y="6206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98640" y="206064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98640" y="494172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98640" y="3573360"/>
            <a:ext cx="75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42100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78936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522936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242100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3780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5229360"/>
            <a:ext cx="13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24000" y="4365720"/>
            <a:ext cx="18288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88000" y="1628640"/>
            <a:ext cx="182880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700280"/>
            <a:ext cx="1828800" cy="9144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2720" y="2924280"/>
            <a:ext cx="167616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2997360"/>
            <a:ext cx="190476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32720" y="4221000"/>
            <a:ext cx="16002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5589720"/>
            <a:ext cx="1828800" cy="990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32720" y="5516640"/>
            <a:ext cx="16002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01800" y="1484280"/>
            <a:ext cx="1470240" cy="7034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45080" y="2852640"/>
            <a:ext cx="1188360" cy="703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63640" y="4221000"/>
            <a:ext cx="16178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i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5445000"/>
            <a:ext cx="1511280" cy="7034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urpl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640" y="1773360"/>
            <a:ext cx="13665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80160" y="3068640"/>
            <a:ext cx="91368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4360" y="4508640"/>
            <a:ext cx="15645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2400" y="5877000"/>
            <a:ext cx="167724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090520" y="19000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012000" y="1989000"/>
            <a:ext cx="6094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195280" y="306864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796000" y="3357720"/>
            <a:ext cx="9316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123640" y="443700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227640" y="4716360"/>
            <a:ext cx="505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95640" y="573408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300720" y="6039000"/>
            <a:ext cx="42696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20960" y="1055160"/>
            <a:ext cx="563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08800" y="692280"/>
            <a:ext cx="70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Times New Roman"/>
              </a:rPr>
              <a:t>Write the following words about co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34800" y="228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写出下列关于颜色的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7:26:24Z</dcterms:created>
  <dc:creator>胡海燕</dc:creator>
  <dc:description/>
  <dc:language>en-US</dc:language>
  <cp:lastModifiedBy>微软中国</cp:lastModifiedBy>
  <dcterms:modified xsi:type="dcterms:W3CDTF">2013-09-08T09:35:38Z</dcterms:modified>
  <cp:revision>19</cp:revision>
  <dc:subject/>
  <dc:title>幻灯片 1</dc:title>
</cp:coreProperties>
</file>