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4.wmf" ContentType="image/x-wmf"/>
  <Override PartName="/ppt/media/image48.jpeg" ContentType="image/jpeg"/>
  <Override PartName="/ppt/media/image46.jpeg" ContentType="image/jpeg"/>
  <Override PartName="/ppt/media/image45.png" ContentType="image/png"/>
  <Override PartName="/ppt/media/image42.jpeg" ContentType="image/jpeg"/>
  <Override PartName="/ppt/media/image18.png" ContentType="image/png"/>
  <Override PartName="/ppt/media/image59.jpeg" ContentType="image/jpeg"/>
  <Override PartName="/ppt/media/image38.wmf" ContentType="image/x-wmf"/>
  <Override PartName="/ppt/media/image37.jpeg" ContentType="image/jpeg"/>
  <Override PartName="/ppt/media/hammer.wav" ContentType="audio/x-wav"/>
  <Override PartName="/ppt/media/image36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chimes.wav" ContentType="audio/x-wav"/>
  <Override PartName="/ppt/media/image9.jpeg" ContentType="image/jpeg"/>
  <Override PartName="/ppt/media/image66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5.jpeg" ContentType="image/jpeg"/>
  <Override PartName="/ppt/media/image49.wmf" ContentType="image/x-wmf"/>
  <Override PartName="/ppt/media/type.wav" ContentType="audio/x-wav"/>
  <Override PartName="/ppt/media/image63.jpeg" ContentType="image/jpeg"/>
  <Override PartName="/ppt/media/image6.jpeg" ContentType="image/jpeg"/>
  <Override PartName="/ppt/media/image67.jpeg" ContentType="image/jpeg"/>
  <Override PartName="/ppt/media/image65.png" ContentType="image/png"/>
  <Override PartName="/ppt/media/laser.wav" ContentType="audio/x-wav"/>
  <Override PartName="/ppt/media/image61.gif" ContentType="image/gif"/>
  <Override PartName="/ppt/media/image14.jpeg" ContentType="image/jpeg"/>
  <Override PartName="/ppt/media/image41.jpeg" ContentType="image/jpeg"/>
  <Override PartName="/ppt/media/image64.gif" ContentType="image/gif"/>
  <Override PartName="/ppt/media/image58.jpeg" ContentType="image/jpeg"/>
  <Override PartName="/ppt/media/image56.png" ContentType="image/png"/>
  <Override PartName="/ppt/media/image40.gif" ContentType="image/gif"/>
  <Override PartName="/ppt/media/image55.jpeg" ContentType="image/jpeg"/>
  <Override PartName="/ppt/media/image60.gif" ContentType="image/gif"/>
  <Override PartName="/ppt/media/image57.jpeg" ContentType="image/jpeg"/>
  <Override PartName="/ppt/media/explode.wav" ContentType="audio/x-wav"/>
  <Override PartName="/ppt/media/image5.jpeg" ContentType="image/jpeg"/>
  <Override PartName="/ppt/media/image4.png" ContentType="image/png"/>
  <Override PartName="/ppt/media/image20.gif" ContentType="image/gif"/>
  <Override PartName="/ppt/media/image53.wmf" ContentType="image/x-wmf"/>
  <Override PartName="/ppt/media/image26.jpeg" ContentType="image/jpeg"/>
  <Override PartName="/ppt/media/image21.png" ContentType="image/png"/>
  <Override PartName="/ppt/media/image1.jpeg" ContentType="image/jpeg"/>
  <Override PartName="/ppt/media/image43.jpeg" ContentType="image/jpeg"/>
  <Override PartName="/ppt/media/image50.wmf" ContentType="image/x-wmf"/>
  <Override PartName="/ppt/media/image23.jpeg" ContentType="image/jpeg"/>
  <Override PartName="/ppt/media/image8.png" ContentType="image/png"/>
  <Override PartName="/ppt/media/image39.jpeg" ContentType="image/jpeg"/>
  <Override PartName="/ppt/media/image22.jpeg" ContentType="image/jpeg"/>
  <Override PartName="/ppt/media/image16.gif" ContentType="image/gif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44.gif" ContentType="image/gif"/>
  <Override PartName="/ppt/media/image24.jpeg" ContentType="image/jpeg"/>
  <Override PartName="/ppt/media/image27.gif" ContentType="image/gif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47.wmf" ContentType="image/x-wmf"/>
  <Override PartName="/ppt/media/image1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BAF6-324C-4001-9022-79AF8206C3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 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 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tion A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909-9691-4BC1-AAD9-641A20A6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8D0-7384-46F9-BFFA-54F272E9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09A-79FE-4721-9CB6-FC7572EC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BDF-FD24-4B44-A857-10F0732C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4F1F-E3BA-43E3-9CDE-8DDF70B7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4BFD-3242-406B-950E-9FFDA1C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E2C6-B53B-466E-B038-55586CC3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0C62-EFE1-4043-A4E8-916828B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0F8-61DA-4B06-950B-2E3113C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87B4-AAD4-4AEE-864A-157B9D5E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5210-509D-4AE3-9235-2C5055C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EDA-D75C-42F3-9E52-A4D8E82E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6AE5-441A-4658-B0E3-B3D82BE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C04E-E908-487E-80EE-6BD7886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86C-271B-4974-B1F1-D43B3351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8C5-0F11-4AEF-8042-841CAA8C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F1F5-4834-4668-8968-FF81D8C9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7E2E-E010-463A-88CD-81043A3A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C632B-4EC2-41A3-9576-6E62EA6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4829-1AAD-48FC-8270-A57652DF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18EF-AB9C-41DD-B96D-2BE580FC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8BA5-9775-407C-BCF2-A82407EA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FD8-7FC0-46C2-A7CC-68233D7C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84F3-BDD6-4CBB-97E5-20CA5193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CFFD-5CEC-4C28-9EFD-D34EA89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3EC5-6CE1-4521-B46C-2946F3E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1D89-054D-4DBF-9217-E4DC813C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BB9D-0486-4475-BA50-C5F2522D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7510-39DF-4180-875A-88A6A9FC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3BB1-7B3B-48F6-86FB-E62DA2A8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D758-41F0-4454-A8EE-6E41A720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B5E6-74CC-4C8B-AAF7-4976FF07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D9D8-2A94-44DF-8A3F-529794E7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DB7-7AF2-45E5-A4C2-5EC8BA7B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80071-5253-456A-8468-1349463C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C08D-0A23-415C-A194-D265CAE1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E719-2D20-4D1B-971E-72B33945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CD75-4778-42C0-9B53-6D3902E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152C-959C-4A8E-9EB4-194D3AA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C74E-4299-433A-A600-F83091A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2FA8-CD35-4D23-BA4E-9D6F01EB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540D-F70A-4902-B2F1-2A359ACD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85081-99AD-4B56-A524-EF88395F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E7D7-B104-4094-90AB-09D28068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D0A-141F-4C04-B6E9-5894662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E7AE1-5E43-4D86-AEBC-A7205B70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49BD-CD25-4FAD-B5AC-4C2562A2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FACC-AD09-4C55-AB75-37C78EB5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07295-81AF-4620-8AA6-734FA178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4664-46AE-477C-8CCC-B90653E5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CD42-AD27-4804-B24C-094C3A3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F0B2-D104-438E-913C-3BD7388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BB54-C165-453E-AF95-4B80D0C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499A-5313-4595-917F-A791186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C1CC-BA04-4E19-AA10-CC782EAB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E17-4AC6-4F22-95FF-1D641ACD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AF87-A020-49DF-B566-0D0A5218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1C83-13C5-4C72-ADAF-4588BA33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94A42-FA8C-4134-97B3-DF4F9F8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E3F1-DCE4-4F87-890A-6969E26B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8567-D9C5-42F2-A3DC-62344F36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27FEC-62A6-4C67-BA46-4A9DA86A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EBDF4-4809-4491-8EE4-930D9601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E9ADE-FA92-4931-AB06-A77D8B8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818F8-2904-4E75-A294-E8C369CC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97E1-156B-4D6A-925A-9ED0009D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020-F3DB-41B2-BC5D-7136018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52485-4EA3-4F5A-B93B-9E9A9E6D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2365A-1DF4-49A8-9660-ADD0EEED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E85E-0D14-4964-B62E-0C3F476C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25137-06DF-42C0-8057-2EC1B097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7292-EDEE-4E07-8BBB-BDC2CDA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AE5BD-33F5-432C-8E70-4EE2B75B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83F5D-D416-4E22-89FB-82BECFFA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A55AF-A699-40F3-862D-C0FF4A67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CF7D-D299-4642-8952-529A06ED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11FC6-CD8D-4906-9F3F-41A2414A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169-0B6C-42A8-B6F9-80F61C9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8A7E-CC59-4986-9C33-2539BBD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CDFC-6822-4ADA-BB10-07001B7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D0F1C-2D14-4258-AD59-8315391F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B010E-BB5C-489C-AEC0-1FFC7802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570A-60F5-4438-AC85-64D1299B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8E6A-B006-4801-8135-FF83892A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F94D-DA90-4FEC-91BE-9DEE562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951B-8DF6-45E5-BDDD-9B3E2A6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15949-5C90-45EB-B6B0-E0819F86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72B93-D33C-4DAE-A512-EF3259A7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EE6-6E2C-41C8-ABBE-FA859C7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7A4B-AB9A-40E4-9F10-679C1C8E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9A32B-5804-4BE0-9485-DD85402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8AD85-7B78-471A-A59E-A691201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67A2F-7934-4893-AEA9-FFBBAE1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C211-0BD0-47E2-B18F-4703DC1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D3BBF-1D65-40BD-B55D-3279F21F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7B3B4-D8FB-4AD2-8ECC-00C28810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4A3-DA75-4AD3-8EA5-4253C8E8D4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D3D-1AD5-49FC-8598-D9886F2378B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562040" y="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3124080" y="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4686480" y="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6248520" y="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0"/>
            <a:srcRect l="0" t="0" r="14836" b="0"/>
            <a:stretch/>
          </p:blipFill>
          <p:spPr>
            <a:xfrm>
              <a:off x="7810560" y="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1"/>
            <a:stretch/>
          </p:blipFill>
          <p:spPr>
            <a:xfrm>
              <a:off x="0" y="15620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2"/>
            <a:stretch/>
          </p:blipFill>
          <p:spPr>
            <a:xfrm>
              <a:off x="1562040" y="15620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3"/>
            <a:stretch/>
          </p:blipFill>
          <p:spPr>
            <a:xfrm>
              <a:off x="3124080" y="156204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4"/>
            <a:stretch/>
          </p:blipFill>
          <p:spPr>
            <a:xfrm>
              <a:off x="4686480" y="15620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5"/>
            <a:stretch/>
          </p:blipFill>
          <p:spPr>
            <a:xfrm>
              <a:off x="6248520" y="15620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6"/>
            <a:srcRect l="0" t="0" r="14836" b="0"/>
            <a:stretch/>
          </p:blipFill>
          <p:spPr>
            <a:xfrm>
              <a:off x="7810560" y="156204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7"/>
            <a:stretch/>
          </p:blipFill>
          <p:spPr>
            <a:xfrm>
              <a:off x="0" y="3124080"/>
              <a:ext cx="156204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8"/>
            <a:stretch/>
          </p:blipFill>
          <p:spPr>
            <a:xfrm>
              <a:off x="1562040" y="3124080"/>
              <a:ext cx="156204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9"/>
            <a:stretch/>
          </p:blipFill>
          <p:spPr>
            <a:xfrm>
              <a:off x="3124080" y="3124080"/>
              <a:ext cx="156240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0"/>
            <a:stretch/>
          </p:blipFill>
          <p:spPr>
            <a:xfrm>
              <a:off x="4686480" y="3124080"/>
              <a:ext cx="156204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1"/>
            <a:stretch/>
          </p:blipFill>
          <p:spPr>
            <a:xfrm>
              <a:off x="6248520" y="3124080"/>
              <a:ext cx="156204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2"/>
            <a:srcRect l="0" t="0" r="14836" b="0"/>
            <a:stretch/>
          </p:blipFill>
          <p:spPr>
            <a:xfrm>
              <a:off x="7810560" y="3124080"/>
              <a:ext cx="133344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3"/>
            <a:stretch/>
          </p:blipFill>
          <p:spPr>
            <a:xfrm>
              <a:off x="0" y="46864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4"/>
            <a:stretch/>
          </p:blipFill>
          <p:spPr>
            <a:xfrm>
              <a:off x="1562040" y="46864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5"/>
            <a:stretch/>
          </p:blipFill>
          <p:spPr>
            <a:xfrm>
              <a:off x="3124080" y="468648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6"/>
            <a:stretch/>
          </p:blipFill>
          <p:spPr>
            <a:xfrm>
              <a:off x="4686480" y="46864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7"/>
            <a:stretch/>
          </p:blipFill>
          <p:spPr>
            <a:xfrm>
              <a:off x="6248520" y="46864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8"/>
            <a:srcRect l="0" t="0" r="14836" b="0"/>
            <a:stretch/>
          </p:blipFill>
          <p:spPr>
            <a:xfrm>
              <a:off x="7810560" y="468648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9"/>
            <a:srcRect l="0" t="0" r="0" b="60960"/>
            <a:stretch/>
          </p:blipFill>
          <p:spPr>
            <a:xfrm>
              <a:off x="0" y="624852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0"/>
            <a:srcRect l="0" t="0" r="0" b="60960"/>
            <a:stretch/>
          </p:blipFill>
          <p:spPr>
            <a:xfrm>
              <a:off x="1562040" y="624852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1"/>
            <a:srcRect l="0" t="0" r="0" b="60960"/>
            <a:stretch/>
          </p:blipFill>
          <p:spPr>
            <a:xfrm>
              <a:off x="3124080" y="6248520"/>
              <a:ext cx="1562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2"/>
            <a:srcRect l="0" t="0" r="0" b="60960"/>
            <a:stretch/>
          </p:blipFill>
          <p:spPr>
            <a:xfrm>
              <a:off x="4686480" y="624852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3"/>
            <a:srcRect l="0" t="0" r="0" b="60960"/>
            <a:stretch/>
          </p:blipFill>
          <p:spPr>
            <a:xfrm>
              <a:off x="6248520" y="624852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4"/>
            <a:srcRect l="0" t="0" r="14836" b="60960"/>
            <a:stretch/>
          </p:blipFill>
          <p:spPr>
            <a:xfrm>
              <a:off x="7810560" y="6248520"/>
              <a:ext cx="133344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B949-6CB2-4555-BB46-D7D6BAFCA022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E87-94D2-4A96-B3BC-CA05CAE032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56C8-E8C1-4AB1-974A-BAD3ED1843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BD80-C861-4618-89AA-3542BA0DD1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A187-1F7C-43C6-A980-D7657347E1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98C9-523D-4C32-A997-91C5321750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4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jpeg"/><Relationship Id="rId6" Type="http://schemas.openxmlformats.org/officeDocument/2006/relationships/hyperlink" Target="http://image.baidu.com/i?ct=503316480&amp;z=611328402&amp;tn=baiduimagedetail&amp;word=&#34987;&#23376;&amp;in=736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gif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0.gif"/><Relationship Id="rId3" Type="http://schemas.openxmlformats.org/officeDocument/2006/relationships/image" Target="../media/image61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&#21160;&#30011;&#35789;&#27719;/spell.sw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image" Target="../media/image22.jpeg"/><Relationship Id="rId4" Type="http://schemas.openxmlformats.org/officeDocument/2006/relationships/audio" Target="../media/explod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11804953&amp;tn=baiduimagedetail&amp;word=&#34987;&#23376;&amp;in=158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hyperlink" Target="http://image.baidu.com/i?ct=503316480&amp;z=311804953&amp;tn=baiduimagedetail&amp;word=&#34987;&#23376;&amp;in=158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920" y="2060280"/>
            <a:ext cx="568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tarter Unit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68000" y="3357720"/>
            <a:ext cx="83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’s this in English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cda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4895640" cy="34509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492360" y="549360"/>
            <a:ext cx="29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99"/>
                </a:solidFill>
                <a:latin typeface="Arial Black"/>
              </a:rPr>
              <a:t>PR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132000" y="333360"/>
            <a:ext cx="30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99"/>
                </a:solidFill>
                <a:latin typeface="Arial"/>
              </a:rPr>
              <a:t>50k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3160800" cy="41389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971640" y="2349360"/>
            <a:ext cx="3571920" cy="42865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995640" y="40464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99"/>
                </a:solidFill>
                <a:latin typeface="Arial Black"/>
              </a:rPr>
              <a:t>NB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059280" y="2708280"/>
            <a:ext cx="3743280" cy="3816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284720" y="26028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990099"/>
                </a:solidFill>
                <a:latin typeface="Arial Black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3a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Listen and number the pictures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9ac"/>
                </a:solidFill>
                <a:latin typeface="Arial"/>
              </a:rPr>
              <a:t>3b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Listen and complete the words under the pictures in 3a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5364000" y="4208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364000" y="272556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32314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86910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2430360" cy="33926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85800" y="53352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’s this in Engl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pen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2268360" y="2316240"/>
            <a:ext cx="6264360" cy="4281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85800" y="4428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’s this in Engl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quil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410440" cy="37562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762120" y="15228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’s this in Engl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map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53352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’s that in Engl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jacke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080120" y="4797360"/>
            <a:ext cx="1144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85800" y="53352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’s this in Engl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ke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3513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b.  Listen and 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508720" y="4437000"/>
            <a:ext cx="944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609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85800" y="53352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’s this in Engl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rule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389040" cy="38862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85800" y="53352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’s this in Engl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n orang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 rot="21290400">
            <a:off x="3382920" y="1125000"/>
            <a:ext cx="5040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Can you spell it?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 rot="20293800">
            <a:off x="826920" y="3357360"/>
            <a:ext cx="2448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92360" y="260280"/>
            <a:ext cx="352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600" spc="-1" strike="noStrike">
                <a:solidFill>
                  <a:srgbClr val="ffffcc"/>
                </a:solidFill>
                <a:latin typeface="Arial Black"/>
              </a:rPr>
              <a:t>ke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2411280" y="3141720"/>
            <a:ext cx="45990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260280"/>
            <a:ext cx="3960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600" spc="-1" strike="noStrike">
                <a:solidFill>
                  <a:srgbClr val="990099"/>
                </a:solidFill>
                <a:latin typeface="Arial Black"/>
              </a:rPr>
              <a:t>pe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2627280" y="2852640"/>
            <a:ext cx="43927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84360" y="404640"/>
            <a:ext cx="5907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600" spc="-1" strike="noStrike">
                <a:solidFill>
                  <a:srgbClr val="990099"/>
                </a:solidFill>
                <a:latin typeface="Arial Black"/>
              </a:rPr>
              <a:t>orang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00360" y="26028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0099"/>
                </a:solidFill>
                <a:latin typeface="Arial Black"/>
              </a:rPr>
              <a:t>jack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3321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64000" y="260280"/>
            <a:ext cx="3960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990099"/>
                </a:solidFill>
                <a:latin typeface="Arial Black"/>
              </a:rPr>
              <a:t>rule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 rot="20762400">
            <a:off x="539640" y="3645000"/>
            <a:ext cx="8282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48000" y="260280"/>
            <a:ext cx="417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600" spc="-1" strike="noStrike">
                <a:solidFill>
                  <a:srgbClr val="990099"/>
                </a:solidFill>
                <a:latin typeface="Arial Black"/>
              </a:rPr>
              <a:t>ma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8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59280" y="26028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990099"/>
                </a:solidFill>
                <a:latin typeface="Arial Black"/>
              </a:rPr>
              <a:t>quil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5042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2349360"/>
            <a:ext cx="9143640" cy="4508640"/>
            <a:chOff x="0" y="2349360"/>
            <a:chExt cx="9143640" cy="450864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0" y="2349360"/>
              <a:ext cx="914364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6243840" y="3315240"/>
              <a:ext cx="2239200" cy="21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3892320" y="2575800"/>
              <a:ext cx="1063440" cy="173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0" y="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’s this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308720" y="400536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6227640" y="2565360"/>
            <a:ext cx="1150920" cy="1486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00000" y="4005360"/>
            <a:ext cx="1371600" cy="1025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8"/>
          <a:stretch/>
        </p:blipFill>
        <p:spPr>
          <a:xfrm>
            <a:off x="2050920" y="5300640"/>
            <a:ext cx="1524240" cy="1279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9"/>
          <a:stretch/>
        </p:blipFill>
        <p:spPr>
          <a:xfrm>
            <a:off x="3276720" y="3357720"/>
            <a:ext cx="896760" cy="8762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324000" y="2492280"/>
            <a:ext cx="1596960" cy="12002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8173080" y="357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44360" y="58770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8000" y="48690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q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80360" y="335772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95640" y="400536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80360" y="26370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941440" y="580536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98100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48440" y="65736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36800" y="62064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50320" y="6146640"/>
            <a:ext cx="193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57520" y="1268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75000" y="1268280"/>
            <a:ext cx="179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ru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57520" y="620640"/>
            <a:ext cx="193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ja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24600" y="177336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0360" y="1773360"/>
            <a:ext cx="287280" cy="14292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6440" y="1268280"/>
            <a:ext cx="163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qui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3640" y="76500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67640" y="554040"/>
            <a:ext cx="3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690480"/>
            <a:ext cx="3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937280" y="547920"/>
            <a:ext cx="35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85280" y="1195200"/>
            <a:ext cx="3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33280" y="1339920"/>
            <a:ext cx="3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33640" y="126612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60560" y="1698840"/>
            <a:ext cx="35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4716360" y="5445000"/>
            <a:ext cx="96048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39ac"/>
                </a:solidFill>
                <a:latin typeface="Arial"/>
              </a:rPr>
              <a:t>cup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2305080" cy="1511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1067040" cy="1752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7236000" y="2349360"/>
            <a:ext cx="990360" cy="17337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 rot="2458800">
            <a:off x="2123640" y="4149360"/>
            <a:ext cx="1943280" cy="1546200"/>
          </a:xfrm>
          <a:prstGeom prst="wedgeEllipseCallout">
            <a:avLst>
              <a:gd name="adj1" fmla="val -44527"/>
              <a:gd name="adj2" fmla="val 6385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32000" y="2492280"/>
            <a:ext cx="2158920" cy="1158840"/>
          </a:xfrm>
          <a:prstGeom prst="wedgeEllipseCallout">
            <a:avLst>
              <a:gd name="adj1" fmla="val -55231"/>
              <a:gd name="adj2" fmla="val 388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4688600">
            <a:off x="4419000" y="196560"/>
            <a:ext cx="1922760" cy="2338560"/>
          </a:xfrm>
          <a:prstGeom prst="wedgeRoundRectCallout">
            <a:avLst>
              <a:gd name="adj1" fmla="val -84958"/>
              <a:gd name="adj2" fmla="val 2707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0800000">
            <a:off x="5076720" y="4005000"/>
            <a:ext cx="2159280" cy="825480"/>
          </a:xfrm>
          <a:prstGeom prst="wedgeRoundRectCallout">
            <a:avLst>
              <a:gd name="adj1" fmla="val -44486"/>
              <a:gd name="adj2" fmla="val 1032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62760" y="692280"/>
            <a:ext cx="18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i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34560" y="278136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24960" y="402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 it, 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97800" y="450864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A-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6804000" y="5462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18730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001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64236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2700360" y="1773360"/>
            <a:ext cx="6624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  <a:ea typeface="幼圆"/>
              </a:rPr>
              <a:t>What’s that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  <a:ea typeface="幼圆"/>
              </a:rPr>
              <a:t>It’s an  oran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ea typeface="幼圆"/>
                <a:hlinkClick r:id="rId2"/>
              </a:rPr>
              <a:t>Spell 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 Black"/>
                <a:ea typeface="幼圆"/>
              </a:rPr>
              <a:t>it , 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  <a:ea typeface="幼圆"/>
              </a:rPr>
              <a:t>O-R-A-N-G-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4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838080" y="2895480"/>
            <a:ext cx="91440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: What’s this in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: It’s a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: </a:t>
            </a:r>
            <a:r>
              <a:rPr b="1" i="1" lang="en-US" sz="3600" spc="-1" strike="noStrike">
                <a:solidFill>
                  <a:srgbClr val="ff3399"/>
                </a:solidFill>
                <a:latin typeface="Times New Roman"/>
              </a:rPr>
              <a:t>Spell it, plea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: C-A-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: Than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: </a:t>
            </a:r>
            <a:r>
              <a:rPr b="1" i="1" lang="en-US" sz="3600" spc="-1" strike="noStrike">
                <a:solidFill>
                  <a:srgbClr val="ff3399"/>
                </a:solidFill>
                <a:latin typeface="Times New Roman"/>
              </a:rPr>
              <a:t>You’re welc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00720" y="5493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a c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29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2438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0" y="2819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qui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00400" y="304920"/>
            <a:ext cx="5410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: What’s this in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: It’s a qui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: </a:t>
            </a:r>
            <a:r>
              <a:rPr b="1" i="1" lang="en-US" sz="3600" spc="-1" strike="noStrike">
                <a:solidFill>
                  <a:srgbClr val="ff3399"/>
                </a:solidFill>
                <a:latin typeface="Times New Roman"/>
              </a:rPr>
              <a:t>Spell i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: Q-U-I-L-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: 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: </a:t>
            </a:r>
            <a:r>
              <a:rPr b="1" i="1" lang="en-US" sz="3600" spc="-1" strike="noStrike">
                <a:solidFill>
                  <a:srgbClr val="ff3399"/>
                </a:solidFill>
                <a:latin typeface="Times New Roman"/>
              </a:rPr>
              <a:t>You’re wel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504720" cy="5205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85186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145160" y="441360"/>
            <a:ext cx="397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48320" y="135576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Bye-by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676520" y="106668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宋体"/>
              </a:rPr>
              <a:t>Attention: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416" name=""/>
          <p:cNvSpPr/>
          <p:nvPr/>
        </p:nvSpPr>
        <p:spPr>
          <a:xfrm>
            <a:off x="2135880" y="2590920"/>
            <a:ext cx="27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’s 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91840" y="2489040"/>
            <a:ext cx="21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What 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00040" y="3251160"/>
            <a:ext cx="118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It 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00400" y="5105520"/>
            <a:ext cx="450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Do you understand?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301040" y="2209680"/>
            <a:ext cx="681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at’ s  that  in Englis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91640" y="3657600"/>
            <a:ext cx="19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t’ s 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50840" y="3657600"/>
            <a:ext cx="12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98492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2592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1904760" cy="15098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523880" y="4419720"/>
            <a:ext cx="2019600" cy="17780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6248520" y="1752480"/>
            <a:ext cx="1523880" cy="13525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5486400" y="4419720"/>
            <a:ext cx="2584440" cy="16891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7696080" y="304920"/>
            <a:ext cx="949320" cy="1143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37480" y="304920"/>
            <a:ext cx="52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What’s this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08040" y="3241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440" y="2971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10280" y="1565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36280" y="6137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57080" y="6137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7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97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76920" y="613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82040" y="156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6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527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93040" y="1773360"/>
            <a:ext cx="592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What’s this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It’s a / a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5486400" y="4689360"/>
            <a:ext cx="3276720" cy="2168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2743200" y="3276720"/>
            <a:ext cx="2666880" cy="20685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1600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5638680" y="4689360"/>
            <a:ext cx="3276720" cy="21686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2895480" y="3200400"/>
            <a:ext cx="2667240" cy="2068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620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619280" y="189000"/>
            <a:ext cx="223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考眼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0" y="476280"/>
            <a:ext cx="3257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505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WHO  HAS GOOD EYES?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505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a. Listen and repea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b. Listen and number the letters you hea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4419720" y="2997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572000" y="48132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33019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34378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547640" y="907920"/>
            <a:ext cx="561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 you know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76360" y="2852640"/>
            <a:ext cx="67676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What these letters mean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3:03:08Z</dcterms:created>
  <dc:creator>USER</dc:creator>
  <dc:description/>
  <dc:language>en-US</dc:language>
  <cp:lastModifiedBy>微软用户</cp:lastModifiedBy>
  <dcterms:modified xsi:type="dcterms:W3CDTF">2012-09-06T07:16:41Z</dcterms:modified>
  <cp:revision>67</cp:revision>
  <dc:subject/>
  <dc:title>幻灯片 1</dc:title>
</cp:coreProperties>
</file>