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7.png" ContentType="image/png"/>
  <Override PartName="/ppt/media/image25.png" ContentType="image/png"/>
  <Override PartName="/ppt/media/image20.jpeg" ContentType="image/jpeg"/>
  <Override PartName="/ppt/media/image18.png" ContentType="image/png"/>
  <Override PartName="/ppt/media/image21.gif" ContentType="image/gif"/>
  <Override PartName="/ppt/media/image19.gif" ContentType="image/gif"/>
  <Override PartName="/ppt/media/image4.wmf" ContentType="image/x-wmf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3.jpeg" ContentType="image/jpeg"/>
  <Override PartName="/ppt/media/image2.jpeg" ContentType="image/jpe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1F0-06C4-48CB-9737-0E16868C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17520"/>
            <a:ext cx="73152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294-2DFA-4283-8E21-2E8CAF91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17520"/>
            <a:ext cx="73152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251-57E3-414B-BE31-718B078F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17520"/>
            <a:ext cx="73152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5A6-E234-4F69-9180-F18B3B68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17520"/>
            <a:ext cx="73152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C8C-ED9E-4FE7-A8FD-726C5EE0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17520"/>
            <a:ext cx="73152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240-EF82-4814-B6F6-C7E4A942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17520"/>
            <a:ext cx="73152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451-AD92-422B-A7D7-CCC05D72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17520"/>
            <a:ext cx="73152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F96-AE3F-4213-BA33-051ED69D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17520"/>
            <a:ext cx="7315200" cy="45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6A3-090F-4C9D-B39E-F6EB9346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17520"/>
            <a:ext cx="73152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436-E170-4B4F-B824-CF11A7FF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17520"/>
            <a:ext cx="73152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86F-00D6-402F-84A4-C88B7D7F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17520"/>
            <a:ext cx="73152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4FEC-FC5D-494A-87AC-18732776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17520"/>
            <a:ext cx="73152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C924-DEB7-47A5-A790-FB14A7098E8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../../&#35270;&#39057;/&#40644;&#22303;&#39640;&#21407;.swf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netc.nwsuaf.edu.cn/jingpin/qinshi1/images/tuku/yellow3/images/37_jpg.jpg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317520"/>
            <a:ext cx="73152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" name="Picture 4" descr="黄土高原完整的黄土塬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840400" y="620640"/>
            <a:ext cx="335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00b5b"/>
                </a:solidFill>
                <a:latin typeface="黑体"/>
                <a:ea typeface="黑体"/>
              </a:rPr>
              <a:t>8-1  </a:t>
            </a:r>
            <a:r>
              <a:rPr b="0" lang="zh-CN" sz="5400" spc="-1" strike="noStrike">
                <a:solidFill>
                  <a:srgbClr val="200b5b"/>
                </a:solidFill>
                <a:latin typeface="黑体"/>
                <a:ea typeface="黑体"/>
              </a:rPr>
              <a:t>黄土高原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61600" y="2976480"/>
            <a:ext cx="729000" cy="2083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黄土塬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835280" y="5805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山东省荣成市第二实验中学  徐文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0" y="587700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戈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835280" y="587700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沙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076720" y="5877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黄土高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826920" y="1052640"/>
            <a:ext cx="2808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3635280" y="1052640"/>
            <a:ext cx="2881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643280" y="1268280"/>
            <a:ext cx="0" cy="1224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5364000" y="1341360"/>
            <a:ext cx="0" cy="1079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6012000" y="1341360"/>
            <a:ext cx="0" cy="1150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308720" y="3933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太行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0" y="40464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亚、蒙古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3" descr=""/>
          <p:cNvPicPr/>
          <p:nvPr/>
        </p:nvPicPr>
        <p:blipFill>
          <a:blip r:embed="rId1"/>
          <a:stretch/>
        </p:blipFill>
        <p:spPr>
          <a:xfrm>
            <a:off x="0" y="609480"/>
            <a:ext cx="3017880" cy="468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1132200" y="762120"/>
            <a:ext cx="12776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风成说证据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348000" y="549360"/>
            <a:ext cx="4572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000099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）厚度均匀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000099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）从西北向东南颗粒越来越细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000099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）与基岩的矿物成分不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000099"/>
                </a:solidFill>
                <a:latin typeface="隶书"/>
                <a:ea typeface="隶书"/>
              </a:rPr>
              <a:t>4</a:t>
            </a:r>
            <a:r>
              <a:rPr b="1" lang="zh-CN" sz="4000" spc="-1" strike="noStrike">
                <a:solidFill>
                  <a:srgbClr val="000099"/>
                </a:solidFill>
                <a:latin typeface="隶书"/>
                <a:ea typeface="隶书"/>
              </a:rPr>
              <a:t>）有古土壤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849240" y="572760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课本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7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152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黄土高原的地貌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2914560" cy="2895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3124080" y="9907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6095880" y="990720"/>
            <a:ext cx="3048120" cy="28954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6553080" y="6858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eaeaea"/>
                </a:solidFill>
                <a:latin typeface="Times New Roman"/>
              </a:rPr>
              <a:t>（图片点击可放大）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609480" y="4038480"/>
            <a:ext cx="914400" cy="368280"/>
          </a:xfrm>
          <a:prstGeom prst="rect">
            <a:avLst/>
          </a:prstGeom>
          <a:solidFill>
            <a:srgbClr val="6600ff">
              <a:alpha val="50000"/>
            </a:srgbClr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ahoma"/>
              </a:rPr>
              <a:t>黄土塬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3733920" y="3886200"/>
            <a:ext cx="914400" cy="368280"/>
          </a:xfrm>
          <a:prstGeom prst="rect">
            <a:avLst/>
          </a:prstGeom>
          <a:solidFill>
            <a:srgbClr val="6600ff">
              <a:alpha val="50000"/>
            </a:srgbClr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ahoma"/>
              </a:rPr>
              <a:t>黄土梁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010280" y="3962520"/>
            <a:ext cx="914400" cy="368280"/>
          </a:xfrm>
          <a:prstGeom prst="rect">
            <a:avLst/>
          </a:prstGeom>
          <a:solidFill>
            <a:srgbClr val="6600ff">
              <a:alpha val="50000"/>
            </a:srgbClr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aea"/>
                </a:solidFill>
                <a:latin typeface="Tahoma"/>
              </a:rPr>
              <a:t>黄土峁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685800" y="4876920"/>
            <a:ext cx="7772400" cy="1312920"/>
          </a:xfrm>
          <a:prstGeom prst="rect">
            <a:avLst/>
          </a:prstGeom>
          <a:solidFill>
            <a:srgbClr val="6600ff">
              <a:alpha val="50000"/>
            </a:srgbClr>
          </a:solidFill>
          <a:ln cap="sq"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隶书"/>
              </a:rPr>
              <a:t>不同的类型显示了黄土地区被侵蚀的不同程度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chhuang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WordArt 3" descr=""/>
          <p:cNvPicPr/>
          <p:nvPr/>
        </p:nvPicPr>
        <p:blipFill>
          <a:blip r:embed="rId2"/>
          <a:stretch/>
        </p:blipFill>
        <p:spPr>
          <a:xfrm>
            <a:off x="1249200" y="1695600"/>
            <a:ext cx="6572520" cy="34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751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隶书"/>
              </a:rPr>
              <a:t>二、水土流失的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619280" y="47242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被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763640" y="1413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黄土结构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692360" y="2924280"/>
            <a:ext cx="205740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气候原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299040" cy="4176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0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72040" y="1844640"/>
            <a:ext cx="4971960" cy="46800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0"/>
          <p:cNvSpPr/>
          <p:nvPr/>
        </p:nvSpPr>
        <p:spPr>
          <a:xfrm>
            <a:off x="1371600" y="1905120"/>
            <a:ext cx="144360" cy="3744720"/>
          </a:xfrm>
          <a:custGeom>
            <a:avLst/>
            <a:gdLst>
              <a:gd name="textAreaLeft" fmla="*/ 92160 w 144360"/>
              <a:gd name="textAreaRight" fmla="*/ 144360 w 14436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11" descr="37_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48000" y="0"/>
            <a:ext cx="4896000" cy="45086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438840" y="2071800"/>
            <a:ext cx="78984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隶书"/>
              </a:rPr>
              <a:t>1.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隶书"/>
              </a:rPr>
              <a:t>自然原因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2330640" y="206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疏松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1476360" y="350028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降水集中在七八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多暴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1403280" y="537372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少植被保护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黄土高原b"/>
          <p:cNvPicPr/>
          <p:nvPr/>
        </p:nvPicPr>
        <p:blipFill>
          <a:blip r:embed="rId1"/>
          <a:srcRect l="0" t="0" r="-23" b="0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活动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：观察图中的植被、水量、泥沙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876920"/>
            <a:ext cx="8763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说明：</a:t>
            </a:r>
            <a:r>
              <a:rPr b="1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植被条件越好，水土流失越</a:t>
            </a:r>
            <a:r>
              <a:rPr b="1" lang="en-US" sz="3600" spc="-1" strike="noStrike">
                <a:solidFill>
                  <a:srgbClr val="000099"/>
                </a:solidFill>
                <a:latin typeface="隶书"/>
                <a:ea typeface="隶书"/>
              </a:rPr>
              <a:t>______</a:t>
            </a:r>
            <a:r>
              <a:rPr b="1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植被条件越差，水土流失现象越</a:t>
            </a:r>
            <a:r>
              <a:rPr b="1" lang="en-US" sz="3600" spc="-1" strike="noStrike">
                <a:solidFill>
                  <a:srgbClr val="000099"/>
                </a:solidFill>
                <a:latin typeface="隶书"/>
                <a:ea typeface="隶书"/>
              </a:rPr>
              <a:t>______</a:t>
            </a:r>
            <a:r>
              <a:rPr b="0" lang="zh-CN" sz="3600" spc="-1" strike="noStrike">
                <a:solidFill>
                  <a:srgbClr val="663300"/>
                </a:solidFill>
                <a:latin typeface="Arial"/>
                <a:ea typeface="华文中宋"/>
              </a:rPr>
              <a:t>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7637760" y="486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轻微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206120" y="5661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严重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-380880" y="3045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阅读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69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页，活动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：谈谈你的看法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3" descr="Q_013"/>
          <p:cNvPicPr/>
          <p:nvPr/>
        </p:nvPicPr>
        <p:blipFill>
          <a:blip r:embed="rId1"/>
          <a:stretch/>
        </p:blipFill>
        <p:spPr>
          <a:xfrm>
            <a:off x="6400800" y="4191120"/>
            <a:ext cx="2103480" cy="1251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对话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47" name="Line 5"/>
          <p:cNvSpPr/>
          <p:nvPr/>
        </p:nvSpPr>
        <p:spPr>
          <a:xfrm>
            <a:off x="6629400" y="2057400"/>
            <a:ext cx="11430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7238880" y="2514600"/>
            <a:ext cx="11430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1295280" y="6095880"/>
            <a:ext cx="11430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5105520" y="6095880"/>
            <a:ext cx="1143000" cy="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Picture 9" descr="gif015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1905120" y="289548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修路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4" descr="58"/>
          <p:cNvPicPr/>
          <p:nvPr/>
        </p:nvPicPr>
        <p:blipFill>
          <a:blip r:embed="rId1"/>
          <a:stretch/>
        </p:blipFill>
        <p:spPr>
          <a:xfrm>
            <a:off x="4213080" y="2205000"/>
            <a:ext cx="4930920" cy="44085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1600200" y="10666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陡坡毁林开垦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6" descr="003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4267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1763640" y="4437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采矿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1403280" y="1484280"/>
            <a:ext cx="216000" cy="3457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90000 h 3457440"/>
              <a:gd name="textAreaBottom" fmla="*/ 336744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Picture 9" descr="Img226272369"/>
          <p:cNvPicPr/>
          <p:nvPr/>
        </p:nvPicPr>
        <p:blipFill>
          <a:blip r:embed="rId3"/>
          <a:stretch/>
        </p:blipFill>
        <p:spPr>
          <a:xfrm>
            <a:off x="3851280" y="2825640"/>
            <a:ext cx="5292720" cy="4032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439920" y="1428840"/>
            <a:ext cx="8506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eaeaea"/>
                </a:solidFill>
                <a:latin typeface="隶书"/>
                <a:ea typeface="隶书"/>
              </a:rPr>
              <a:t>、人为因素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水土流失会造成哪些后果？</a:t>
            </a:r>
            <a:br>
              <a:rPr sz="4000"/>
            </a:b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（课本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P80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）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-410400" y="538200"/>
            <a:ext cx="2009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讨论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0" y="2362320"/>
            <a:ext cx="89154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隶书"/>
                <a:ea typeface="隶书"/>
              </a:rPr>
              <a:t>1.</a:t>
            </a: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带走了地表肥沃的土壤。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隶书"/>
                <a:ea typeface="隶书"/>
              </a:rPr>
              <a:t>2.</a:t>
            </a: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使沟谷增多、扩大、加深。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隶书"/>
                <a:ea typeface="隶书"/>
              </a:rPr>
              <a:t>3.</a:t>
            </a: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向黄河下游输送大量泥沙。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181480" y="4952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228600" y="22860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阅读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82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页，活动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0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思考：</a:t>
            </a:r>
            <a:r>
              <a:rPr b="1" lang="zh-CN" sz="4800" spc="-1" strike="noStrike">
                <a:solidFill>
                  <a:srgbClr val="0000cc"/>
                </a:solidFill>
                <a:latin typeface="隶书"/>
                <a:ea typeface="隶书"/>
              </a:rPr>
              <a:t>读中国水土流失分布图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95280" y="182880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1.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水土流失严重的地区还有哪些？（在第几阶梯上）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62120" y="3471840"/>
            <a:ext cx="7467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华文中宋"/>
                <a:ea typeface="隶书"/>
              </a:rPr>
              <a:t>黄土高原、云贵高原、四川盆地、  南方山区、华北和东北山区。（二阶梯）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17520"/>
            <a:ext cx="73152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9" name="Picture 4" descr="黄土高原的黄土梁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61600" y="2976480"/>
            <a:ext cx="729000" cy="2083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黄土梁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0" y="981000"/>
            <a:ext cx="93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造成其水土流失的自然原因是什么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184464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隶书"/>
                <a:ea typeface="隶书"/>
              </a:rPr>
              <a:t>（</a:t>
            </a:r>
            <a:r>
              <a:rPr b="1" lang="en-US" sz="4800" spc="-1" strike="noStrike">
                <a:solidFill>
                  <a:srgbClr val="0000cc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0000cc"/>
                </a:solidFill>
                <a:latin typeface="隶书"/>
                <a:ea typeface="隶书"/>
              </a:rPr>
              <a:t>）地形 </a:t>
            </a:r>
            <a:r>
              <a:rPr b="1" lang="en-US" sz="4800" spc="-1" strike="noStrike">
                <a:solidFill>
                  <a:srgbClr val="0000cc"/>
                </a:solidFill>
                <a:latin typeface="华文中宋"/>
                <a:ea typeface="隶书"/>
              </a:rPr>
              <a:t>—</a:t>
            </a:r>
            <a:r>
              <a:rPr b="1" lang="en-US" sz="48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隶书"/>
                <a:ea typeface="隶书"/>
              </a:rPr>
              <a:t>山区、坡度较大；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隶书"/>
                <a:ea typeface="隶书"/>
              </a:rPr>
              <a:t>（</a:t>
            </a:r>
            <a:r>
              <a:rPr b="1" lang="en-US" sz="4800" spc="-1" strike="noStrike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4800" spc="-1" strike="noStrike">
                <a:solidFill>
                  <a:srgbClr val="0000cc"/>
                </a:solidFill>
                <a:latin typeface="隶书"/>
                <a:ea typeface="隶书"/>
              </a:rPr>
              <a:t>）降水 </a:t>
            </a:r>
            <a:r>
              <a:rPr b="1" lang="en-US" sz="4800" spc="-1" strike="noStrike">
                <a:solidFill>
                  <a:srgbClr val="0000cc"/>
                </a:solidFill>
                <a:latin typeface="华文中宋"/>
                <a:ea typeface="隶书"/>
              </a:rPr>
              <a:t>—</a:t>
            </a:r>
            <a:r>
              <a:rPr b="1" lang="en-US" sz="48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0000cc"/>
                </a:solidFill>
                <a:latin typeface="隶书"/>
                <a:ea typeface="隶书"/>
              </a:rPr>
              <a:t>降水量较大、季节差异大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80880" y="1523880"/>
            <a:ext cx="2384640" cy="642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一、世界最大的黄土堆积区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429000" y="15238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黄土高原的范围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429000" y="22096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黄土高原的成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429000" y="28954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主要的黄土地貌景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80880" y="4343400"/>
            <a:ext cx="2473560" cy="642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二、黄土高原的水土流失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276720" y="42670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自然原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352680" y="571500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人为原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2819520" y="4495680"/>
            <a:ext cx="75960" cy="1600200"/>
          </a:xfrm>
          <a:custGeom>
            <a:avLst/>
            <a:gdLst>
              <a:gd name="textAreaLeft" fmla="*/ 48600 w 75960"/>
              <a:gd name="textAreaRight" fmla="*/ 76320 w 759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2895480" y="175248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33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33520" y="22860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小结：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826920" y="83664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造成黄土高原地区水土流失的主要人类活动是（       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过度放牧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开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毁林开荒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营造宫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895480" y="17524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3492360" y="126828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684360" y="3429000"/>
            <a:ext cx="817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土高原水土流失的自然因素是（    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植被的破坏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不合理的耕作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开矿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土质、降水、地形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398720" y="33955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355500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练一练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143000" y="106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279440" y="108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叙述，正确的是（   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黄土高原在秦汉以前就已是千沟万壑的状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人为因素是形成本区现代水土流失的主要原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治理黄土高原的水土流失主要是进行自然条件  的改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黄土上质疏松、垂直节理发育，是形成水土流失的唯一原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716360" y="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0" y="357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黄土高原地区最突出的环境问题是（     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风沙危害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土流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植被破坏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土质疏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6950160" y="35226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2"/>
          <p:cNvGraphicFramePr/>
          <p:nvPr/>
        </p:nvGraphicFramePr>
        <p:xfrm>
          <a:off x="755640" y="3933720"/>
          <a:ext cx="119052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933720"/>
                    <a:ext cx="11905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4"/>
          <p:cNvSpPr/>
          <p:nvPr/>
        </p:nvSpPr>
        <p:spPr>
          <a:xfrm>
            <a:off x="684360" y="1197000"/>
            <a:ext cx="73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</a:rPr>
              <a:t>黄土高原生态环境脆弱的原因；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imes New Roman"/>
              </a:rPr>
              <a:t>KP82-83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65400" y="3213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0b5b"/>
                </a:solidFill>
                <a:latin typeface="Times New Roman"/>
              </a:rPr>
              <a:t>自然原因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3132000" y="2565360"/>
            <a:ext cx="609840" cy="2209680"/>
          </a:xfrm>
          <a:custGeom>
            <a:avLst/>
            <a:gdLst>
              <a:gd name="textAreaLeft" fmla="*/ 389520 w 609840"/>
              <a:gd name="textAreaRight" fmla="*/ 610200 w 6098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780000" y="2349360"/>
            <a:ext cx="26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地形破碎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708360" y="306864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气候干旱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258800" y="3789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水土流失严重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4258800" y="4508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自然灾害频繁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069920" y="5300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5b"/>
                </a:solidFill>
                <a:latin typeface="Times New Roman"/>
              </a:rPr>
              <a:t>人为原因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3779280" y="5300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人口增长，人地矛盾突出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0" y="317520"/>
            <a:ext cx="84582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、脆弱的生态环境及生态建设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640" y="5444640"/>
            <a:ext cx="73152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5b"/>
                </a:solidFill>
                <a:latin typeface="Times New Roman"/>
              </a:rPr>
              <a:t>黄土高原人地关系恶性循环示意图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611280" y="981000"/>
            <a:ext cx="1366920" cy="165744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AutoShape 7"/>
          <p:cNvSpPr/>
          <p:nvPr/>
        </p:nvSpPr>
        <p:spPr>
          <a:xfrm>
            <a:off x="0" y="2492280"/>
            <a:ext cx="1944720" cy="10810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人口增长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4067280" y="1052640"/>
            <a:ext cx="936360" cy="792000"/>
          </a:xfrm>
          <a:prstGeom prst="rightArrow">
            <a:avLst>
              <a:gd name="adj1" fmla="val 50000"/>
              <a:gd name="adj2" fmla="val 29557"/>
            </a:avLst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AutoShape 30"/>
          <p:cNvSpPr/>
          <p:nvPr/>
        </p:nvSpPr>
        <p:spPr>
          <a:xfrm>
            <a:off x="6143760" y="2205000"/>
            <a:ext cx="2771640" cy="180036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生态环境恶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自然灾害频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AutoShape 43"/>
          <p:cNvSpPr/>
          <p:nvPr/>
        </p:nvSpPr>
        <p:spPr>
          <a:xfrm>
            <a:off x="3995640" y="4221000"/>
            <a:ext cx="1009800" cy="720720"/>
          </a:xfrm>
          <a:prstGeom prst="leftArrow">
            <a:avLst>
              <a:gd name="adj1" fmla="val 50000"/>
              <a:gd name="adj2" fmla="val 35027"/>
            </a:avLst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AutoShape 50"/>
          <p:cNvSpPr/>
          <p:nvPr/>
        </p:nvSpPr>
        <p:spPr>
          <a:xfrm rot="16200000">
            <a:off x="647640" y="3392280"/>
            <a:ext cx="1295280" cy="136836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AutoShape 51"/>
          <p:cNvSpPr/>
          <p:nvPr/>
        </p:nvSpPr>
        <p:spPr>
          <a:xfrm rot="10800000">
            <a:off x="7019640" y="3789360"/>
            <a:ext cx="1152360" cy="122400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AutoShape 52"/>
          <p:cNvSpPr/>
          <p:nvPr/>
        </p:nvSpPr>
        <p:spPr>
          <a:xfrm rot="5400000">
            <a:off x="6984000" y="1232280"/>
            <a:ext cx="1152720" cy="1224000"/>
          </a:xfrm>
          <a:prstGeom prst="pie">
            <a:avLst/>
          </a:prstGeom>
          <a:solidFill>
            <a:srgbClr val="ffff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56"/>
          <p:cNvSpPr/>
          <p:nvPr/>
        </p:nvSpPr>
        <p:spPr>
          <a:xfrm>
            <a:off x="2050920" y="692280"/>
            <a:ext cx="2016360" cy="1068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均耕地减少燃料需求增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Text Box 57"/>
          <p:cNvSpPr/>
          <p:nvPr/>
        </p:nvSpPr>
        <p:spPr>
          <a:xfrm>
            <a:off x="4932360" y="765000"/>
            <a:ext cx="2016000" cy="1556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破坏植被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垦荒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砍伐森林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Text Box 58"/>
          <p:cNvSpPr/>
          <p:nvPr/>
        </p:nvSpPr>
        <p:spPr>
          <a:xfrm>
            <a:off x="5003640" y="4149720"/>
            <a:ext cx="2016360" cy="581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农作物产量下降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59"/>
          <p:cNvSpPr/>
          <p:nvPr/>
        </p:nvSpPr>
        <p:spPr>
          <a:xfrm>
            <a:off x="2050920" y="4005360"/>
            <a:ext cx="2016360" cy="1068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扩大荒地开垦面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Object 3"/>
          <p:cNvGraphicFramePr/>
          <p:nvPr/>
        </p:nvGraphicFramePr>
        <p:xfrm>
          <a:off x="0" y="0"/>
          <a:ext cx="9144000" cy="37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 Box 6"/>
          <p:cNvSpPr/>
          <p:nvPr/>
        </p:nvSpPr>
        <p:spPr>
          <a:xfrm>
            <a:off x="539640" y="393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0" y="3782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延安市的气候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的特点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3492360" y="3789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温带季风气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250920" y="429264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夏季高温多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冬季寒冷干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0" y="4869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延安市的降水的季节变化和年际变化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,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季最容易发生的灾害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春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;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季最容易发生的灾害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7596360" y="4869000"/>
            <a:ext cx="9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716360" y="5373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179280" y="5300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                     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降水少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蒸发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6443640" y="5805360"/>
            <a:ext cx="10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1460880" y="6278400"/>
            <a:ext cx="57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夏季风每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月到达该地，往往造成降水集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55640" y="0"/>
            <a:ext cx="3887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想一想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0" y="836640"/>
          <a:ext cx="5508720" cy="51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550872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7"/>
          <p:cNvSpPr/>
          <p:nvPr/>
        </p:nvSpPr>
        <p:spPr>
          <a:xfrm>
            <a:off x="5651640" y="87624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200b5b"/>
                </a:solidFill>
                <a:latin typeface="Times New Roman"/>
              </a:rPr>
              <a:t>延安发生旱涝灾害的频率是</a:t>
            </a:r>
            <a:r>
              <a:rPr b="1" lang="en-US" sz="3600" spc="-1" strike="noStrike">
                <a:solidFill>
                  <a:srgbClr val="200b5b"/>
                </a:solidFill>
                <a:latin typeface="Times New Roman"/>
              </a:rPr>
              <a:t>____%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5724360" y="2060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83.4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5651640" y="3213000"/>
            <a:ext cx="34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200b5b"/>
                </a:solidFill>
                <a:latin typeface="Times New Roman"/>
              </a:rPr>
              <a:t>黄土高原最主要的自然灾害是</a:t>
            </a:r>
            <a:r>
              <a:rPr b="1" lang="en-US" sz="3600" spc="-1" strike="noStrike">
                <a:solidFill>
                  <a:srgbClr val="200b5b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200b5b"/>
                </a:solidFill>
                <a:latin typeface="Times New Roman"/>
              </a:rPr>
              <a:t>灾害</a:t>
            </a:r>
            <a:r>
              <a:rPr b="1" lang="en-US" sz="3600" spc="-1" strike="noStrike">
                <a:solidFill>
                  <a:srgbClr val="200b5b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200b5b"/>
                </a:solidFill>
                <a:latin typeface="Times New Roman"/>
              </a:rPr>
              <a:t>为什么</a:t>
            </a:r>
            <a:r>
              <a:rPr b="1" lang="en-US" sz="3600" spc="-1" strike="noStrike">
                <a:solidFill>
                  <a:srgbClr val="200b5b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imes New Roman"/>
              </a:rPr>
              <a:t>______________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6227640" y="4292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旱涝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867280" y="5373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夏季风不稳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Object 2"/>
          <p:cNvGraphicFramePr/>
          <p:nvPr/>
        </p:nvGraphicFramePr>
        <p:xfrm>
          <a:off x="0" y="907920"/>
          <a:ext cx="91440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Text Box 3"/>
          <p:cNvSpPr/>
          <p:nvPr/>
        </p:nvSpPr>
        <p:spPr>
          <a:xfrm>
            <a:off x="1798560" y="4724280"/>
            <a:ext cx="53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5b"/>
                </a:solidFill>
                <a:latin typeface="Times New Roman"/>
              </a:rPr>
              <a:t>除图片中的措施外，你还知道哪些生态环境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5b"/>
                </a:solidFill>
                <a:latin typeface="Times New Roman"/>
              </a:rPr>
              <a:t>建设的措施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WordArt 4"/>
          <p:cNvSpPr txBox="1"/>
          <p:nvPr/>
        </p:nvSpPr>
        <p:spPr>
          <a:xfrm>
            <a:off x="380880" y="0"/>
            <a:ext cx="39625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生态建设大家谈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0" y="162864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工程措施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780000" y="170028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生物措施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350064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生态建设小结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390680" y="2403720"/>
            <a:ext cx="155520" cy="198072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468360" y="2276640"/>
            <a:ext cx="6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0b5b"/>
                </a:solidFill>
                <a:latin typeface="Times New Roman"/>
                <a:ea typeface="黑体"/>
              </a:rPr>
              <a:t>生态建设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894320" y="1916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一方面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3059280" y="1557360"/>
            <a:ext cx="433080" cy="1511280"/>
          </a:xfrm>
          <a:custGeom>
            <a:avLst/>
            <a:gdLst>
              <a:gd name="textAreaLeft" fmla="*/ 276840 w 433080"/>
              <a:gd name="textAreaRight" fmla="*/ 433440 w 433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3700440" y="133524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措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694120" y="1314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植树种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3700440" y="263700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工程措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5771520" y="2664000"/>
            <a:ext cx="21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建梯田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修挡土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1403280" y="386064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另一方面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582440" y="3978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理安排生产活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3708360" y="4581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陡坡地退耕还林还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3635280" y="5300640"/>
            <a:ext cx="46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过度放牧的地方要减少放牧的牲畜的数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黄土高原的黄土峁1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561600" y="2976480"/>
            <a:ext cx="729000" cy="2083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黄土峁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3152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练一练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填空题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省全部位于黄土高原上，该省的省会城市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黄土高原最主要的自然灾害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灾害，生态环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温度带上看，黄土高原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带，农作物耕作制度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黄土高原上最丰富的矿产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该矿产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省储量最大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684360" y="162864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山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619280" y="213372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太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867280" y="2708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旱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979640" y="3213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脆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5364000" y="378936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暖温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2411280" y="4221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两年三熟或一年两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5724360" y="4869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煤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684360" y="53737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山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、单项选择题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下列关于黄土高原的叙述，正确的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地面崎岖不平，是个多山的高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石灰岩广布，喀斯特地貌发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是世界上黄土分布最广、最厚的地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高原上多沟谷、湖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黄土高原自然灾害发生越来越频繁的原因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  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地理位置特殊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生态系统比较稳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人类不合理的开发利用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全球气温升高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下列四组城市中，都位于黄土高原上，又是省级行政区中心城市的一组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     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兰州、西安、太原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太原、西安、包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延安、太原、兰州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郑州、西安、兰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7451640" y="47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96360" y="3213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435640" y="5229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引起黄土高原水土流失的人为原因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    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毁林开荒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修筑梯田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降雨集中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土质疏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黄土高原水土保持工作的根本措施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    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平整土地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修筑梯田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深耕改土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植树种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黄土高原水土流失严重，生态、经济恶性循环的根本原因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     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开发历史悠久，可耕土地已被全部开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人口增长过快，人地矛盾突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耕作技术落后，农业产量不高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自然灾害频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67640" y="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7667640" y="1628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3419640" y="3645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下列关于黄土高原水土流失的叙述，正确的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      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土高原水土流失现象是在出现了人类之后发生的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土高原水土流失的主要原因是自然因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土流失的治理应当是生物措施和工程措施相结合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彻底治理黄土高原的水土流失必须全部退耕还林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要解决黄土高原生态建设中面临的问题，应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强计划生育力度，严格控制人口增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量迁移黄土高原上的居民，大规模退耕还林还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停止在黄土高原上开采煤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立各种自然保护区，引进世界各地速生树木、花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黄土高原上种植的主要粮食作物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      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稻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麦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玉米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谷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7740720" y="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7667640" y="256536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5867280" y="5084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双项选择题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下列关于黄土高原多旱涝灾害原因的叙述，正确的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属温带季风气候，降水季节分配不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土流失严重，造成河道中淤积严重，洪水排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泄不畅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全年降水量地区分布不平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没有任何防洪抗旱措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黄河中游流经黄土高原，支流多，最主要的支流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         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湟水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渭河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洮河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汾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476360" y="1052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042920" y="50641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B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水土流失给黄土高原造成的环境问题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          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震、泥石流灾害日益频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沟谷增多、扩大、加深，导致耕地面积减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黄河中下游含沙量大增，给河道整治和防洪造成困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气污染严重，气温显著升高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国水土流失状况十分严重，除黄土高原外，水土流失也很严重的地方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          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南方低山丘陵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疆塔里木盆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江中下游平原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北方土石山地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7596360" y="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5219640" y="3933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A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黄土高原生态环境脆弱的表现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          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土地荒漠化日益严重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抵御自然灾害能力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口增长过快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境遭破坏后，恢复相当困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下列属于水土保持工作基本措施的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            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筑高速公路和铁路，改善交通条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建立农业高科技示范站，推广农业新技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流域综合治理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退耕还林还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7308720" y="299736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C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6300720" y="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B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下列支持黄土高原“风成说”的有力证据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       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黄土高原南面的秦岭北坡有许多大断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黄土高原自西北到东南，黄土的颗粒越来越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黄土中多花岗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黄土以差不多的厚度覆盖在起伏不同的各种地形上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我国下列地区生态环境也很脆弱的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藏高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南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云贵高原和广西的西北部石灰岩分布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川盆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093080" y="39211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A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635040" y="5000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B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091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一、世界最大的黄土堆积区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0" y="1447920"/>
          <a:ext cx="3809880" cy="3062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380988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Group 10"/>
          <p:cNvGrpSpPr/>
          <p:nvPr/>
        </p:nvGrpSpPr>
        <p:grpSpPr>
          <a:xfrm>
            <a:off x="3809880" y="914400"/>
            <a:ext cx="4905000" cy="2903760"/>
            <a:chOff x="3809880" y="914400"/>
            <a:chExt cx="4905000" cy="2903760"/>
          </a:xfrm>
        </p:grpSpPr>
        <p:sp>
          <p:nvSpPr>
            <p:cNvPr id="57" name="AutoShape 6"/>
            <p:cNvSpPr/>
            <p:nvPr/>
          </p:nvSpPr>
          <p:spPr>
            <a:xfrm>
              <a:off x="3809880" y="914400"/>
              <a:ext cx="1096920" cy="1296000"/>
            </a:xfrm>
            <a:prstGeom prst="cloudCallout">
              <a:avLst>
                <a:gd name="adj1" fmla="val 62361"/>
                <a:gd name="adj2" fmla="val 105902"/>
              </a:avLst>
            </a:prstGeom>
            <a:solidFill>
              <a:srgbClr val="eeb00b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00b5b"/>
                  </a:solidFill>
                  <a:latin typeface="隶书"/>
                  <a:ea typeface="隶书"/>
                </a:rPr>
                <a:t>活动</a:t>
              </a:r>
              <a:r>
                <a:rPr b="0" lang="en-US" sz="2800" spc="-1" strike="noStrike">
                  <a:solidFill>
                    <a:srgbClr val="200b5b"/>
                  </a:solidFill>
                  <a:latin typeface="隶书"/>
                  <a:ea typeface="隶书"/>
                </a:rPr>
                <a:t>1</a:t>
              </a:r>
              <a:r>
                <a:rPr b="0" lang="zh-CN" sz="2800" spc="-1" strike="noStrike">
                  <a:solidFill>
                    <a:srgbClr val="200b5b"/>
                  </a:solidFill>
                  <a:latin typeface="隶书"/>
                  <a:ea typeface="隶书"/>
                </a:rPr>
                <a:t>：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3882960" y="3236760"/>
              <a:ext cx="4831920" cy="581400"/>
            </a:xfrm>
            <a:prstGeom prst="rect">
              <a:avLst/>
            </a:prstGeom>
            <a:solidFill>
              <a:srgbClr val="6600ff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找出太行山、乌鞘岭、长城以及黄土高原所跨的省级行政区。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9" name="Text Box 8"/>
          <p:cNvSpPr/>
          <p:nvPr/>
        </p:nvSpPr>
        <p:spPr>
          <a:xfrm>
            <a:off x="1447920" y="41911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eaeaea"/>
                </a:solidFill>
                <a:latin typeface="Times New Roman"/>
              </a:rPr>
              <a:t>（图片点击可放大）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4479840" y="3094200"/>
            <a:ext cx="18432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33520" y="48769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26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27"/>
          <p:cNvSpPr/>
          <p:nvPr/>
        </p:nvSpPr>
        <p:spPr>
          <a:xfrm>
            <a:off x="971640" y="1628640"/>
            <a:ext cx="15843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乌鞘岭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Text Box 1028"/>
          <p:cNvSpPr/>
          <p:nvPr/>
        </p:nvSpPr>
        <p:spPr>
          <a:xfrm>
            <a:off x="4356000" y="1557360"/>
            <a:ext cx="201636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长城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Text Box 1029"/>
          <p:cNvSpPr/>
          <p:nvPr/>
        </p:nvSpPr>
        <p:spPr>
          <a:xfrm>
            <a:off x="3348000" y="5805360"/>
            <a:ext cx="194472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秦岭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Text Box 1030"/>
          <p:cNvSpPr/>
          <p:nvPr/>
        </p:nvSpPr>
        <p:spPr>
          <a:xfrm>
            <a:off x="7542360" y="2637000"/>
            <a:ext cx="1277640" cy="1728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太行山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3960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黄土高原的范围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1042920" y="0"/>
            <a:ext cx="8101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158400" y="-331920"/>
            <a:ext cx="7290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黄土高原所跨省区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7240320" y="1574640"/>
            <a:ext cx="7290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山           西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Text Box 10"/>
          <p:cNvSpPr/>
          <p:nvPr/>
        </p:nvSpPr>
        <p:spPr>
          <a:xfrm rot="564000">
            <a:off x="5223600" y="4022280"/>
            <a:ext cx="7290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陕           西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 rot="648000">
            <a:off x="3351960" y="2234160"/>
            <a:ext cx="729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宁      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Text Box 12"/>
          <p:cNvSpPr/>
          <p:nvPr/>
        </p:nvSpPr>
        <p:spPr>
          <a:xfrm rot="20422800">
            <a:off x="1912680" y="3013560"/>
            <a:ext cx="7290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甘           肃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 rot="18586200">
            <a:off x="7496640" y="4854240"/>
            <a:ext cx="729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河      南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7833240" y="24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太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5632560" y="522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674320" y="5157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西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3945600" y="198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银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2145240" y="4076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兰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8122320" y="508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郑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609480" y="38088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imes New Roman"/>
                <a:ea typeface="隶书"/>
              </a:rPr>
              <a:t>1.</a:t>
            </a:r>
            <a:r>
              <a:rPr b="1" lang="zh-CN" sz="6000" spc="-1" strike="noStrike">
                <a:solidFill>
                  <a:srgbClr val="000099"/>
                </a:solidFill>
                <a:latin typeface="Times New Roman"/>
                <a:ea typeface="隶书"/>
              </a:rPr>
              <a:t>位置和范围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68360" y="126828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00b5b"/>
                </a:solidFill>
                <a:latin typeface="Times New Roman"/>
                <a:ea typeface="隶书"/>
              </a:rPr>
              <a:t>范围：黄土高原东起太行山、西至乌鞘岭、南至秦岭、北抵长城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00b5b"/>
                </a:solidFill>
                <a:latin typeface="Times New Roman"/>
                <a:ea typeface="隶书"/>
              </a:rPr>
              <a:t>跨越省区：山西、陕西、宁夏、甘肃、河南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056200" y="494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067280" y="5157720"/>
            <a:ext cx="4319640" cy="1295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看课本</a:t>
            </a:r>
            <a:r>
              <a:rPr b="1" lang="en-US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P78</a:t>
            </a: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图说话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4495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黄土的世界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04920" y="914400"/>
            <a:ext cx="8076960" cy="277524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黄土高原的黄土覆盖厚度一般在</a:t>
            </a:r>
            <a:r>
              <a:rPr b="1" lang="en-US" sz="4400" spc="-1" strike="noStrike">
                <a:solidFill>
                  <a:srgbClr val="000099"/>
                </a:solidFill>
                <a:latin typeface="隶书"/>
                <a:ea typeface="隶书"/>
              </a:rPr>
              <a:t>100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米左右，六盘山以东到吕梁山西侧，黄土厚度在</a:t>
            </a:r>
            <a:r>
              <a:rPr b="1" lang="en-US" sz="4400" spc="-1" strike="noStrike">
                <a:solidFill>
                  <a:srgbClr val="000099"/>
                </a:solidFill>
                <a:latin typeface="隶书"/>
                <a:ea typeface="隶书"/>
              </a:rPr>
              <a:t>100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米</a:t>
            </a:r>
            <a:r>
              <a:rPr b="1" lang="en-US" sz="4400" spc="-1" strike="noStrike">
                <a:solidFill>
                  <a:srgbClr val="000099"/>
                </a:solidFill>
                <a:latin typeface="隶书"/>
                <a:ea typeface="隶书"/>
              </a:rPr>
              <a:t>--200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米之间，最厚在兰州，达</a:t>
            </a:r>
            <a:r>
              <a:rPr b="1" lang="en-US" sz="4400" spc="-1" strike="noStrike">
                <a:solidFill>
                  <a:srgbClr val="000099"/>
                </a:solidFill>
                <a:latin typeface="隶书"/>
                <a:ea typeface="隶书"/>
              </a:rPr>
              <a:t>300</a:t>
            </a:r>
            <a:r>
              <a:rPr b="1" lang="zh-CN" sz="4400" spc="-1" strike="noStrike">
                <a:solidFill>
                  <a:srgbClr val="000099"/>
                </a:solidFill>
                <a:latin typeface="隶书"/>
                <a:ea typeface="隶书"/>
              </a:rPr>
              <a:t>米以上。黄土分布的面积和厚度，都居世界之冠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5105520"/>
            <a:ext cx="1643040" cy="457200"/>
          </a:xfrm>
          <a:prstGeom prst="cloudCallout">
            <a:avLst>
              <a:gd name="adj1" fmla="val 122361"/>
              <a:gd name="adj2" fmla="val -25347"/>
            </a:avLst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00b5b"/>
                </a:solidFill>
                <a:latin typeface="Arial"/>
              </a:rPr>
              <a:t>想一想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447920" y="5119560"/>
            <a:ext cx="64767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这么厚的黄土到底是怎么形成的？为什么别的地区没有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黑体"/>
              </a:rPr>
              <a:t>2.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黑体"/>
              </a:rPr>
              <a:t>黄土的形成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067280" y="260280"/>
            <a:ext cx="17287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水成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067280" y="2205000"/>
            <a:ext cx="17287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风成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067280" y="1197000"/>
            <a:ext cx="23050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风水雨相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36600" y="1511280"/>
            <a:ext cx="2482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科学家的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假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2924280" y="976320"/>
            <a:ext cx="961920" cy="1600200"/>
            <a:chOff x="2924280" y="976320"/>
            <a:chExt cx="961920" cy="1600200"/>
          </a:xfrm>
        </p:grpSpPr>
        <p:sp>
          <p:nvSpPr>
            <p:cNvPr id="95" name="AutoShape 8"/>
            <p:cNvSpPr/>
            <p:nvPr/>
          </p:nvSpPr>
          <p:spPr>
            <a:xfrm>
              <a:off x="3657600" y="976320"/>
              <a:ext cx="228600" cy="1600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2924280" y="1766880"/>
              <a:ext cx="761760" cy="0"/>
            </a:xfrm>
            <a:prstGeom prst="line">
              <a:avLst/>
            </a:prstGeom>
            <a:ln cap="sq" w="5724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7" name="AutoShape 10"/>
          <p:cNvSpPr/>
          <p:nvPr/>
        </p:nvSpPr>
        <p:spPr>
          <a:xfrm>
            <a:off x="4495680" y="285264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084720" y="630864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eaeaea"/>
                </a:solidFill>
                <a:latin typeface="Times New Roman"/>
              </a:rPr>
              <a:t>（图片点击可放大）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9" name="Object 12"/>
          <p:cNvGraphicFramePr/>
          <p:nvPr/>
        </p:nvGraphicFramePr>
        <p:xfrm>
          <a:off x="1187280" y="3716280"/>
          <a:ext cx="6519960" cy="2160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716280"/>
                    <a:ext cx="65199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01:53:39Z</dcterms:created>
  <dc:creator/>
  <dc:description/>
  <dc:language>en-US</dc:language>
  <cp:lastModifiedBy>岳宝丽</cp:lastModifiedBy>
  <dcterms:modified xsi:type="dcterms:W3CDTF">2010-12-21T06:02:35Z</dcterms:modified>
  <cp:revision>88</cp:revision>
  <dc:subject/>
  <dc:title>PowerPoint 演示文稿</dc:title>
</cp:coreProperties>
</file>