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889-F03C-47F9-BFF0-E616070E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0CC-6B12-46CD-B308-8F1CBD5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6D7-E940-44D8-88BD-9F3F8899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CDE-C9B2-4B3D-A711-DAF8D49C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E9B0-AB35-4F62-92E4-6C0059B6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8F3-EEE7-4021-A731-FC3AC75B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875-1D49-427D-BDA9-72BA472E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EB7E-7FC4-4144-B652-32A0DB9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F1C-2D45-45B0-8176-3D786EA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DE43-0E9C-45C0-8FBD-5AAF157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6ED-8272-41AA-8F01-285974E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E4F-3303-43CA-A3D1-6DF8CE0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B8D1-329F-4EE7-B533-4DA030E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9FB7-35B2-4964-81FE-1D72063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AA50-1CA2-4311-BDC3-F080A4F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0144-25E3-4ED0-91A4-9D55CFFD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F0B2-80C2-4829-BBEB-7445C86D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7CF-1C9E-49ED-B99A-5D2059E2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04E-0F6B-49C5-ADDB-5747344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7FA-6622-43C2-8F34-BC647581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233-AAC4-47E8-9724-C716B8B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904-066F-4CE4-BEE2-A10D7F9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8B3-FEB2-4119-8AA4-545ECE1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A01-2020-453D-8B86-858BD04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0D92-3DFA-4D2B-843D-A2475B6EA3E8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3D24-13E6-45F9-B050-F35BAF26269A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节  研究液体压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4941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枣阳市新市二中    刘 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压强计是研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仪器。当把压强计的金属盒放入液体内部的某一深度时，观察到的现象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管两边液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个现象说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所示：把一个容器侧壁开一个孔，当往容器中注水时，水会从小孔中喷出，水喷出距离最远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，这是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5029200"/>
            <a:ext cx="53316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052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5181480"/>
            <a:ext cx="22860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486400"/>
            <a:ext cx="22860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867280"/>
            <a:ext cx="22860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257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、如图ａ所示，突出的橡皮膜表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是由于液体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：如图ｂ所示，突出的橡皮膜表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是由于液体具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、潜水员潜入水中较深的地方就觉得耳膜痛，这主要是因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５、深海中的鱼在捞出水面前通常已经死了，这是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417680" cy="1817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2940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固体由于受重力作用，对支撑它的物体有压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液体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液体有压强吗？液体压强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究液体压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98764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67080" y="22096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受重力作用对支撑它的物体——容器底有压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441972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能流动，对阻碍它流散开的容器壁也有压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器材：压强计，大烧杯，水，盐水，刻度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609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液体压强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249732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2720" y="228600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内部有压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106800" cy="4362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9810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内部压强，随深度的增加而增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2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内部向各个方向都有压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286000" cy="428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46483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一深度液体向各个方向的压强都相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液体压强还和密度有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0" r="0" b="5550"/>
          <a:stretch/>
        </p:blipFill>
        <p:spPr>
          <a:xfrm>
            <a:off x="1676520" y="2590920"/>
            <a:ext cx="48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压强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对容器底和容器壁都有压强，液体内部向各个方向都有压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液体的压强随深度的增加而增大，在同一深度，液体向各个方向的压强相等；不同液体的压强还和密度有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血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血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血液在血管内流动时作用于血管壁上的压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收缩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心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收缩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，动脉血压所达到的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舒张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心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舒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，动脉血压所达到的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低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16:46:27Z</dcterms:created>
  <dc:creator>teachers</dc:creator>
  <dc:description/>
  <dc:language>en-US</dc:language>
  <cp:lastModifiedBy>Z</cp:lastModifiedBy>
  <dcterms:modified xsi:type="dcterms:W3CDTF">2008-10-23T01:51:49Z</dcterms:modified>
  <cp:revision>32</cp:revision>
  <dc:subject/>
  <dc:title>PowerPoint 演示文稿</dc:title>
</cp:coreProperties>
</file>