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explode.wav" ContentType="audio/x-wav"/>
  <Override PartName="/ppt/media/image33.png" ContentType="image/png"/>
  <Override PartName="/ppt/media/image46.jpeg" ContentType="image/jpeg"/>
  <Override PartName="/ppt/media/image34.png" ContentType="image/png"/>
  <Override PartName="/ppt/media/image12.jpeg" ContentType="image/jpeg"/>
  <Override PartName="/ppt/media/image48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7.png" ContentType="image/png"/>
  <Override PartName="/ppt/media/image49.jpeg" ContentType="image/jpeg"/>
  <Override PartName="/ppt/media/image31.jpeg" ContentType="image/jpeg"/>
  <Override PartName="/ppt/media/image53.jpeg" ContentType="image/jpeg"/>
  <Override PartName="/ppt/media/image11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D9E-A7FF-475F-9C5B-C260E824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8F4-F914-4686-824C-6220FC0E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74B-D423-4309-8497-410CC6BB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97E-D0B2-4BD7-B657-24946EC6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B18-5CA4-4A9E-AB25-651D8092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291-7F16-4581-80D0-D5CC798D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368-9A29-43AB-9CF9-64C2199D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AAB-ACC8-4186-AA38-19082D5C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14B-E783-4E5F-98E4-A61E45D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3FA-1095-4C8D-B814-B6D9206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4AD-EC7C-4B16-9F11-D1D8AAA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4AC-E2A5-45D5-9D8C-5C2912A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DBB-B12D-46F9-85D6-6311EBB7C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zyn.com/uploadfile/shi/uploadfile/200707/20070715105752940.jpg&amp;imgrefurl=http://www.yzyn.com/shi/2007/07/62.html&amp;h=350&amp;w=350&amp;sz=16&amp;hl=zh-CN&amp;start=1&amp;usg=__j_SAAfl_czDEjnTUhnelai2H-Wk=&amp;tbnid=pWH6JfoHcObUpM:&amp;tbnh=120&amp;tbnw=120&amp;prev=/images%3Fq%3D%25E7%25AB%25B9%25E5%25AD%2590%26gbv%3D2%26complete%3D1%26hl%3Dzh-CN%26newwindow%3D1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" Target="slide31.xml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31.xml"/><Relationship Id="rId3" Type="http://schemas.openxmlformats.org/officeDocument/2006/relationships/image" Target="../media/image39.jpeg"/><Relationship Id="rId4" Type="http://schemas.openxmlformats.org/officeDocument/2006/relationships/image" Target="../media/image37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16000" y="1773360"/>
            <a:ext cx="6985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do you like pan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0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495288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2436840"/>
            <a:ext cx="5065560" cy="3800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1778040" cy="119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2152800" cy="161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32720" y="4437000"/>
            <a:ext cx="1417680" cy="1838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56360" y="787320"/>
            <a:ext cx="14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652840" cy="3543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3020760" cy="34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17287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22520" y="69516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ot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862000" cy="3816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08360" y="2133720"/>
            <a:ext cx="48974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51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2720" y="8366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from Af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00" y="1700280"/>
            <a:ext cx="21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2000" y="2637000"/>
            <a:ext cx="44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800" y="3429000"/>
            <a:ext cx="41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2720" y="4221000"/>
            <a:ext cx="32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t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661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raff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5084640"/>
            <a:ext cx="34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324000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4160" y="476280"/>
            <a:ext cx="38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960" y="1916280"/>
            <a:ext cx="79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 from all the countries love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2360" y="1197000"/>
            <a:ext cx="52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black and wh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637000"/>
            <a:ext cx="52578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their favorite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10520" y="453384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n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57336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2708280"/>
            <a:ext cx="3233880" cy="3457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5661000"/>
            <a:ext cx="719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9800" y="69228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’s kind of sc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240" y="1628640"/>
            <a:ext cx="59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likes eating small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9800" y="249228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can find some in Fuji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62160" y="4437000"/>
            <a:ext cx="25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ig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208" t="23415" r="17156" b="0"/>
          <a:stretch/>
        </p:blipFill>
        <p:spPr>
          <a:xfrm>
            <a:off x="4500720" y="3429000"/>
            <a:ext cx="3744720" cy="261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720" y="76500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’s not big but very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628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lik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wim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492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likes eating fish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5440" y="443700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4284720" cy="23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413000"/>
            <a:ext cx="8569080" cy="1224000"/>
          </a:xfrm>
          <a:prstGeom prst="rect">
            <a:avLst/>
          </a:prstGeom>
          <a:solidFill>
            <a:srgbClr val="0000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smart ___     3. beautiful ____  5. lazy___7. small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friendly ___  4. cute ____   6. scary ___    8. sh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02240" y="13716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14479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13716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13716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28600"/>
            <a:ext cx="79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a. Match the description words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723888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1413000"/>
            <a:ext cx="8569080" cy="1224000"/>
          </a:xfrm>
          <a:prstGeom prst="rect">
            <a:avLst/>
          </a:prstGeom>
          <a:solidFill>
            <a:srgbClr val="008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smart ___     3. beautiful ____  5. lazy___7. small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friendly ___  4. cute ____   6. scary ___    8. sh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02240" y="13716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14479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3716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20574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137160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79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a. Match the description words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7239240" cy="379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600120" cy="761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1371600"/>
            <a:ext cx="1905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137160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057400"/>
            <a:ext cx="8380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371600"/>
            <a:ext cx="1600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2057400"/>
            <a:ext cx="685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692280"/>
            <a:ext cx="7991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99"/>
                </a:solidFill>
                <a:latin typeface="Times New Roman"/>
                <a:ea typeface="MS PGothic"/>
              </a:rPr>
              <a:t>1c. Listen again and fill in the char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844640"/>
          <a:ext cx="7920000" cy="3589200"/>
        </p:xfrm>
        <a:graphic>
          <a:graphicData uri="http://schemas.openxmlformats.org/drawingml/2006/table">
            <a:tbl>
              <a:tblPr/>
              <a:tblGrid>
                <a:gridCol w="2087280"/>
                <a:gridCol w="2816280"/>
                <a:gridCol w="301644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’s word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’s word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phant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da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971800" y="2819520"/>
            <a:ext cx="25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esting,  really 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32440" y="3057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422100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autiful,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ind of s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ind of 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18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MS PGothic"/>
              </a:rPr>
              <a:t>Ch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1125360"/>
            <a:ext cx="583416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at animals do you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 like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pand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I like pan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y are quiet. They are qu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at animals do you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 like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koal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I like koa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y are cute. They are c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at animals do you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 like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dolphi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I like dolph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y are clever. They are clev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365760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朗读音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692280"/>
            <a:ext cx="638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d. Talk about the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628640"/>
            <a:ext cx="64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What animals do you li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I like eleph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y are c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nimals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I like dogs bec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’re friendly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3703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476280"/>
            <a:ext cx="583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food do they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341360"/>
            <a:ext cx="5832360" cy="4967280"/>
          </a:xfrm>
          <a:prstGeom prst="rect">
            <a:avLst/>
          </a:prstGeom>
          <a:solidFill>
            <a:srgbClr val="33cc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ndas like bamboo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oalas like leaves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树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igers like m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lephants like gr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ons like m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iraffes like le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enguins like sea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olphins like f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765000"/>
            <a:ext cx="44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pandas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20500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42900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panda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58136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213372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am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50864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42576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419640" y="4221000"/>
            <a:ext cx="2039400" cy="2165400"/>
            <a:chOff x="3419640" y="4221000"/>
            <a:chExt cx="2039400" cy="2165400"/>
          </a:xfrm>
        </p:grpSpPr>
        <p:grpSp>
          <p:nvGrpSpPr>
            <p:cNvPr id="171" name=""/>
            <p:cNvGrpSpPr/>
            <p:nvPr/>
          </p:nvGrpSpPr>
          <p:grpSpPr>
            <a:xfrm>
              <a:off x="3419640" y="4221000"/>
              <a:ext cx="2039400" cy="1523160"/>
              <a:chOff x="3419640" y="4221000"/>
              <a:chExt cx="2039400" cy="152316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2320" y="4221000"/>
                <a:ext cx="1476720" cy="12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4774680"/>
                <a:ext cx="1126080" cy="969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"/>
            <p:cNvSpPr/>
            <p:nvPr/>
          </p:nvSpPr>
          <p:spPr>
            <a:xfrm>
              <a:off x="3560040" y="5744880"/>
              <a:ext cx="189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79280" y="62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koalas like to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700280"/>
            <a:ext cx="344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637000"/>
            <a:ext cx="56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koala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42900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2320920" cy="1944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940360" y="907920"/>
            <a:ext cx="2808360" cy="49752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572000" y="1413000"/>
            <a:ext cx="1265040" cy="1708200"/>
            <a:chOff x="4572000" y="1413000"/>
            <a:chExt cx="1265040" cy="1708200"/>
          </a:xfrm>
        </p:grpSpPr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4572000" y="1413000"/>
              <a:ext cx="11948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82600" y="2480040"/>
              <a:ext cx="1054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59280" y="3357720"/>
            <a:ext cx="21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16286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249228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giraffe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284640"/>
            <a:ext cx="46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2040120" cy="2095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765000"/>
            <a:ext cx="3240000" cy="24750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042920" y="4581360"/>
            <a:ext cx="1218960" cy="1586160"/>
            <a:chOff x="1042920" y="4581360"/>
            <a:chExt cx="1218960" cy="1586160"/>
          </a:xfrm>
        </p:grpSpPr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1065960" y="4581360"/>
              <a:ext cx="119592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042920" y="5526000"/>
              <a:ext cx="105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987640" y="4221000"/>
            <a:ext cx="2109600" cy="2013120"/>
            <a:chOff x="2987640" y="4221000"/>
            <a:chExt cx="2109600" cy="2013120"/>
          </a:xfrm>
        </p:grpSpPr>
        <p:grpSp>
          <p:nvGrpSpPr>
            <p:cNvPr id="194" name=""/>
            <p:cNvGrpSpPr/>
            <p:nvPr/>
          </p:nvGrpSpPr>
          <p:grpSpPr>
            <a:xfrm>
              <a:off x="2987640" y="4221000"/>
              <a:ext cx="2039400" cy="1523880"/>
              <a:chOff x="2987640" y="4221000"/>
              <a:chExt cx="2039400" cy="15238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50320" y="4221000"/>
                <a:ext cx="1476720" cy="127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987640" y="4775040"/>
                <a:ext cx="1126080" cy="96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"/>
            <p:cNvSpPr/>
            <p:nvPr/>
          </p:nvSpPr>
          <p:spPr>
            <a:xfrm>
              <a:off x="3198600" y="5592600"/>
              <a:ext cx="1898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916360" y="3213000"/>
            <a:ext cx="16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70028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62064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giraffes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16286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24000" y="620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golden monkeys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1557360"/>
            <a:ext cx="34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234936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golden monkey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3068640"/>
            <a:ext cx="430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6920" y="4005360"/>
            <a:ext cx="3094920" cy="2012400"/>
            <a:chOff x="826920" y="4005360"/>
            <a:chExt cx="3094920" cy="2012400"/>
          </a:xfrm>
        </p:grpSpPr>
        <p:grpSp>
          <p:nvGrpSpPr>
            <p:cNvPr id="207" name=""/>
            <p:cNvGrpSpPr/>
            <p:nvPr/>
          </p:nvGrpSpPr>
          <p:grpSpPr>
            <a:xfrm>
              <a:off x="826920" y="4005360"/>
              <a:ext cx="2991240" cy="1523160"/>
              <a:chOff x="826920" y="4005360"/>
              <a:chExt cx="2991240" cy="15231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52400" y="4005360"/>
                <a:ext cx="2165760" cy="12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6920" y="4559040"/>
                <a:ext cx="1651680" cy="969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"/>
            <p:cNvSpPr/>
            <p:nvPr/>
          </p:nvSpPr>
          <p:spPr>
            <a:xfrm>
              <a:off x="1136160" y="5376600"/>
              <a:ext cx="278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59280" y="299736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155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716360" y="3068640"/>
            <a:ext cx="4010040" cy="3191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57150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564000" y="620640"/>
            <a:ext cx="48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elephants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14842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2421000"/>
            <a:ext cx="52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elephant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8520" y="3295800"/>
            <a:ext cx="45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141300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00720" y="3213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fr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871720" cy="4753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284720" y="4221000"/>
            <a:ext cx="3311640" cy="19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3500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lions like to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4221000"/>
            <a:ext cx="34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5013360"/>
            <a:ext cx="42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lion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5734080"/>
            <a:ext cx="52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765000"/>
            <a:ext cx="3774960" cy="2714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971640" y="907920"/>
            <a:ext cx="2320920" cy="2314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979640" y="4149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5661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796000" y="393372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0" y="765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tigers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0560" y="1738440"/>
            <a:ext cx="38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0560" y="2500200"/>
            <a:ext cx="417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tiger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2846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79872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2322360" cy="1866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227640" y="1700280"/>
            <a:ext cx="12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3213000"/>
            <a:ext cx="12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332000" y="4365720"/>
            <a:ext cx="238752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635280" y="1052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bears like to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63800" y="2106720"/>
            <a:ext cx="429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like to eat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5280" y="292572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bear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933720"/>
            <a:ext cx="50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672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4581360"/>
            <a:ext cx="3635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rth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095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1412640"/>
            <a:ext cx="66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’s raining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at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og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倾盆大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ve me, love m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o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屋及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o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has it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人都有得意的一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 busy as 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b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忙得团团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76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Remember them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！</a:t>
            </a:r>
            <a:r>
              <a:rPr b="0" lang="zh-CN" sz="5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365760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朗读音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69228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hat do penguins like to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1557360"/>
            <a:ext cx="38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at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249228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are penguins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328464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from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0920" y="1557360"/>
            <a:ext cx="9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71640" y="3284640"/>
            <a:ext cx="25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uth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13440" cy="3384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 lions        __________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 pandas   __________ giraff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 koalas    __________ 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04920"/>
            <a:ext cx="8207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a. Check (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√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) the animals you thin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re in great danger.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9720" y="205740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23640" y="365760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7320" y="21337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486320" y="3809880"/>
            <a:ext cx="4657680" cy="30481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5943600" cy="2361960"/>
          </a:xfrm>
          <a:prstGeom prst="rect">
            <a:avLst/>
          </a:prstGeom>
          <a:solidFill>
            <a:srgbClr val="33cccc">
              <a:alpha val="3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What Is an Eleph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Come to Thai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Let’s Save the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Elephants Are Good 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533520"/>
            <a:ext cx="820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b. Listen and check (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the best title for it.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55080" y="25146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038480" cy="1600200"/>
          </a:xfrm>
          <a:prstGeom prst="rect">
            <a:avLst/>
          </a:prstGeom>
          <a:solidFill>
            <a:srgbClr val="333399">
              <a:alpha val="2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portance in Tha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first flag had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symbol of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8600"/>
            <a:ext cx="820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c. Read again and complete the mind map.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914400"/>
            <a:ext cx="4648320" cy="2286000"/>
          </a:xfrm>
          <a:prstGeom prst="rect">
            <a:avLst/>
          </a:prstGeom>
          <a:solidFill>
            <a:srgbClr val="33996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cts and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people  _________ many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people kill them for 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today there are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(over _______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114800"/>
            <a:ext cx="4343400" cy="2438280"/>
          </a:xfrm>
          <a:prstGeom prst="rect">
            <a:avLst/>
          </a:prstGeom>
          <a:solidFill>
            <a:srgbClr val="33996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an play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an also  _________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can _______ place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food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3809880"/>
            <a:ext cx="4343400" cy="2819520"/>
          </a:xfrm>
          <a:prstGeom prst="rect">
            <a:avLst/>
          </a:pr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to sa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don’t cut down so many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don’t  ________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made of 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_______ is Thai Elephan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3124080"/>
            <a:ext cx="2667240" cy="1143000"/>
          </a:xfrm>
          <a:prstGeom prst="ellipse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PH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0880" y="18288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 white elep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34800" y="2590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ood l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0720" y="4648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occer or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39720" y="5181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68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1371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u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560" y="1828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3335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3000 in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2960" y="2743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60320" y="4648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5032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120" y="58672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r. 13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68360" y="549360"/>
            <a:ext cx="7991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3a. Look the giraffe. Then fill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blanks with the words in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762120" y="1905120"/>
          <a:ext cx="7351560" cy="758880"/>
        </p:xfrm>
        <a:graphic>
          <a:graphicData uri="http://schemas.openxmlformats.org/drawingml/2006/table">
            <a:tbl>
              <a:tblPr/>
              <a:tblGrid>
                <a:gridCol w="735156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ike beautiful Africa years lives bec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457200" y="3200400"/>
            <a:ext cx="5780160" cy="2736720"/>
          </a:xfrm>
          <a:prstGeom prst="rect">
            <a:avLst/>
          </a:prstGeom>
          <a:solidFill>
            <a:srgbClr val="00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s Becky. Isn’t she _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e is from ______. She is twe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______old. I ______ Becky 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e issmart and friendly. She 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 Blackwood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31543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MS PGothic"/>
              </a:rPr>
              <a:t>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2133720" cy="3209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057400" y="3733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4267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4876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492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c. Write a description of a pan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990720" y="1523880"/>
          <a:ext cx="5410080" cy="1162080"/>
        </p:xfrm>
        <a:graphic>
          <a:graphicData uri="http://schemas.openxmlformats.org/drawingml/2006/table">
            <a:tbl>
              <a:tblPr/>
              <a:tblGrid>
                <a:gridCol w="541008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eibei   five years old    China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ute      shy       Beijing Zo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533520" y="3276720"/>
            <a:ext cx="8305560" cy="2286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My favourite animal is a panda in the Beijing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I call him Beibei. She is black and white. She is 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big but she looks kind of cute .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59724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friendl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友好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蔼可亲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是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rie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形容词形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常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连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riendl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eople in China are very frien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She likes to pla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her friends and eat gr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prep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……在一起    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usually play chess with my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404640"/>
            <a:ext cx="430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区别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用于连接主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宾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主语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,  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放在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y father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usually play chess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play wi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……一起玩耍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玩…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often play with my pet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n’t play with wat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42472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Elephants can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walk for a long tim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ver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get lo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象能长时间行走而且从不迷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walk for a long tim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时间行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lo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为“迷路的，走失的”，此处为形容词，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系动词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, ge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构成短语来表“迷路，走失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常直接用于名词前作定语修饰名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:  Bad luck! My keys ar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lo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倒霉，钥匙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los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urists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迷路的游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lo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e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遗失的钢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35344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be) in dang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“面临危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 : Firefighters are often in great d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义词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(be) out of dang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离危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 :  The person in hospital is out of d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students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aila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泰国学生，其中的介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使用是英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一种习惯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: reporters from CCT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央视记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music from the movie Tit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影《泰坦尼克号》的音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05080" y="537372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11200"/>
            <a:ext cx="7081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to describe anim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09880" cy="321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362" r="0" b="0"/>
          <a:stretch/>
        </p:blipFill>
        <p:spPr>
          <a:xfrm>
            <a:off x="5292720" y="1916280"/>
            <a:ext cx="3309840" cy="324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53440" y="537372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1800" y="537372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save the trees and not buy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made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vor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必须拯救树木拒买象牙制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made of 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“由…… 制造” 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出原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made from 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…… 制造” 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出原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de in 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“在哪里制造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e.g.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boat is made of wood.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条船是木头制造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paper is made from wo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纸是木头做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is product is made in China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产品是中国制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8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I.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根据句意及首字母提示完成单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--What a_____ do you li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I like dogs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Class begins. Please be q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2492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答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nimal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“dogs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复数形式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429264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答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qui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“开始上课了”，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“请安静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8218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There are many green l____ on the tre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We have Chinese, math, English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______ su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2421000"/>
            <a:ext cx="7777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答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av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上有很多叶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a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5373720"/>
            <a:ext cx="54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答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th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的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The g_____ have long necks. Many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nt to se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276640"/>
            <a:ext cx="799308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答案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iraff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长脖子且首字母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单元所学的只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raffe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ck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明“长颈鹿”为多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Ⅱ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单项选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He is _____. He is very good at ma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bus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laz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C. cl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429000"/>
            <a:ext cx="8461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后一句“他擅长数学”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busy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zy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合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聪明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1557360"/>
            <a:ext cx="79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— _____ doesn’t she go with yo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cause she has much homework to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hy               C.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9640" y="3357720"/>
            <a:ext cx="7921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答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cause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问句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9874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ere do lions come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fr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C.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2565360"/>
            <a:ext cx="8209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m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三个选项搭配的含义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me from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来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me 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进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me in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进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43280" y="7714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Let’s _____ the panda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see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B. to 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C.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2133720"/>
            <a:ext cx="7956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让某人做某事”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t sb. do sth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后的动词须用原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5280" y="3645000"/>
            <a:ext cx="7920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—_____ are koalas fr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B. What              C.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5229360"/>
            <a:ext cx="882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解析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地点，对地点提问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20720" y="35798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700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My mother doesn’t like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B. swimm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C. sk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2924280"/>
            <a:ext cx="828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i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加两种形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like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ke doing sth, sw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双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wimm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1197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 I like this story-book because it’s very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cute              B. interes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2924280"/>
            <a:ext cx="79218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u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ma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人或动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不修饰没有生命的东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”喜欢的原因是“故事书”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669080" y="1052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44000" y="357336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8160" y="4869000"/>
            <a:ext cx="24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nger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801880" cy="2736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34520" y="1268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3800" y="2421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u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342900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动画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koala gets up and _____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eats leaf         B.eat lea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C.eats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3068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并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应用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t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a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该用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5440" y="9874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0643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Loo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lphins _____ in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is swimming  B. are swimming   C.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141720"/>
            <a:ext cx="84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解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志词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ok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明句子要用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行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lphins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32360" y="1052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— _____ she _____ during the 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es, she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Does; sleep B. Do; sleep  C. Are; sl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3500280"/>
            <a:ext cx="7991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答案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答用助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es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问句也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构成一般疑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8000" y="8431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56000" y="1125360"/>
            <a:ext cx="3311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263700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a description of another ani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42670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讲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050920" y="1916280"/>
            <a:ext cx="525780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description of an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2123640" y="177300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012000" y="148428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572000" y="11250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124000" y="3789360"/>
            <a:ext cx="1152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00720" y="4005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80000" y="3933720"/>
            <a:ext cx="43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80000" y="620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63700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4724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1413000"/>
            <a:ext cx="107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43640" y="42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59640" y="2060640"/>
            <a:ext cx="24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7636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44370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308720" y="249192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84720" y="10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77080" y="3573360"/>
            <a:ext cx="431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93080" y="50133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403280" y="1700280"/>
            <a:ext cx="6181560" cy="1638360"/>
            <a:chOff x="1403280" y="1700280"/>
            <a:chExt cx="6181560" cy="1638360"/>
          </a:xfrm>
        </p:grpSpPr>
        <p:sp>
          <p:nvSpPr>
            <p:cNvPr id="366" name=""/>
            <p:cNvSpPr txBox="1"/>
            <p:nvPr/>
          </p:nvSpPr>
          <p:spPr>
            <a:xfrm>
              <a:off x="1479600" y="1700280"/>
              <a:ext cx="6105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Animals are our friends,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1403280" y="2690640"/>
              <a:ext cx="60768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we should protect them.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68" name=""/>
          <p:cNvSpPr txBox="1"/>
          <p:nvPr/>
        </p:nvSpPr>
        <p:spPr>
          <a:xfrm>
            <a:off x="1763640" y="429264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保护动物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人人有责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523880" y="205740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936720"/>
            <a:ext cx="2014560" cy="191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183040" cy="267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11640" y="476280"/>
            <a:ext cx="2328840" cy="336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067280" y="4221000"/>
            <a:ext cx="2411280" cy="190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61440" y="515772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i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5440" y="1844640"/>
            <a:ext cx="17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y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9800" y="479736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9800" y="54936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6520" y="501336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95416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800080" cy="2100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767400" cy="33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816360" cy="315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93080" y="522936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520" y="52293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73860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814560" cy="2567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76720" y="24210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3089160" cy="231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21800" y="476280"/>
            <a:ext cx="21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2720" y="150336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1T14:09:3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