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6.jpeg" ContentType="image/jpeg"/>
  <Override PartName="/ppt/media/image9.jpeg" ContentType="image/jpeg"/>
  <Override PartName="/ppt/media/image8.jpeg" ContentType="image/jpeg"/>
  <Override PartName="/ppt/media/image2.gif" ContentType="image/gif"/>
  <Override PartName="/ppt/media/image12.png" ContentType="image/png"/>
  <Override PartName="/ppt/media/image7.png" ContentType="image/png"/>
  <Override PartName="/ppt/media/image11.gif" ContentType="image/gif"/>
  <Override PartName="/ppt/media/image6.gif" ContentType="image/gif"/>
  <Override PartName="/ppt/media/image21.png" ContentType="image/png"/>
  <Override PartName="/ppt/media/image19.gif" ContentType="image/gif"/>
  <Override PartName="/ppt/media/image1.gif" ContentType="image/gif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10.gif" ContentType="image/gif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E66-7D50-44A9-BF50-0256E286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0C4-99DE-45D2-A5AB-14F6172F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B5C-8452-4F02-884B-23A30180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FA2-129B-40A9-A5A6-B9AD1809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1E4-A534-4934-9BE5-B8E6BC52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E1E-3C8F-4700-B580-692D294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A4D-58C8-48E8-814E-C70654FA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DCF-9352-41E6-954F-872ADC08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A38-84AB-455E-A8EE-BF850F7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42B-4149-401A-AC42-49599A6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746-204C-4E93-8F0A-5185E10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B8E-CB0B-4D64-9756-09C2F91D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D1DF-0B84-4E12-A6DC-F1183EC1173C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Comic Sans MS"/>
              </a:rPr>
              <a:t>Unit 13 Rainy days make me sad.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08360" y="2060640"/>
            <a:ext cx="2143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4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ction A</a:t>
            </a:r>
            <a:endParaRPr b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4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4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a----2c</a:t>
            </a:r>
            <a:endParaRPr b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4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5327640" y="14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PeriodⅠ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920" y="0"/>
            <a:ext cx="49305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Grammar Focus</a:t>
            </a:r>
            <a:endParaRPr b="1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0932" t="0" r="5715" b="13889"/>
          <a:stretch/>
        </p:blipFill>
        <p:spPr>
          <a:xfrm>
            <a:off x="179280" y="1197000"/>
            <a:ext cx="9252000" cy="5327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2205000"/>
            <a:ext cx="8604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ud music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kes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nt  to dance.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at movi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d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d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oud music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ke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nse.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181480"/>
            <a:ext cx="3600360" cy="1400400"/>
          </a:xfrm>
          <a:prstGeom prst="wedgeRoundRectCallout">
            <a:avLst>
              <a:gd name="adj1" fmla="val 59347"/>
              <a:gd name="adj2" fmla="val -144217"/>
              <a:gd name="adj3" fmla="val 16667"/>
            </a:avLst>
          </a:prstGeom>
          <a:solidFill>
            <a:srgbClr val="cc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make   sb.   adj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eg: This news makes us happy.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5300640"/>
            <a:ext cx="4140360" cy="1252440"/>
          </a:xfrm>
          <a:prstGeom prst="wedgeRoundRectCallout">
            <a:avLst>
              <a:gd name="adj1" fmla="val -56939"/>
              <a:gd name="adj2" fmla="val -253800"/>
              <a:gd name="adj3" fmla="val 16667"/>
            </a:avLst>
          </a:prstGeom>
          <a:solidFill>
            <a:srgbClr val="cc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make   sb.    do   sth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eg: This photo makes me remember him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04920"/>
            <a:ext cx="8458200" cy="6197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. make +n.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ake food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做饭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ake a plane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做飞机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ake the bed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铺床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ake money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赚钱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. I just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made it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to my class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Unit 9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）我恰好赶到班级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rrived in time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3. make sb. / sth. + adj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使某人（感到）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可用到的形容词有：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happy, pleased, surprised, angry, annoyed, sad, upset, unhappy, worried, anxious, excited, relaxed, stressed out, tense, calm, scared, comfortable, sick …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eg.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occer makes me crazy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足球使我疯狂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The soft music makes Tina sleepy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轻柔的音乐使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Tina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快睡着了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189000"/>
            <a:ext cx="7848720" cy="4839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4. make sb. / sth. + do …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使某人做某事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eg.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Wars make the peace go away.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战争使和平远离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The color red makes people want to eat faster.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红色使人们吃得更快些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48360" y="6093000"/>
            <a:ext cx="1476360" cy="765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71640" y="3068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97000"/>
            <a:ext cx="91440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: _______? I called you but your mother said you were out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: I went to Kentucky with my friends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: ___________________?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: Because I love the food very much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: But it is very crowded there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: _______________. And the noise made me uncomfortable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: _______________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: Yes,that makes people not stay long. So we left early. Oh, _______?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: Nothing much. I just want to know when we will meet on Sunday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: At 7:00 o’clock.    A: OK. Thanks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1700280"/>
            <a:ext cx="4032360" cy="2158920"/>
          </a:xfrm>
          <a:prstGeom prst="rect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buClr>
                <a:srgbClr val="99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And the chairs are too hard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B. That’s right.                        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. What’s the matter?             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D. Where did you go?            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. Why did you go there?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22606" t="27332" r="3690" b="0"/>
          <a:stretch/>
        </p:blipFill>
        <p:spPr>
          <a:xfrm>
            <a:off x="0" y="0"/>
            <a:ext cx="3960720" cy="1413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43046" t="54839" r="36924" b="16734"/>
          <a:stretch/>
        </p:blipFill>
        <p:spPr>
          <a:xfrm>
            <a:off x="1295280" y="2133720"/>
            <a:ext cx="37008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10809" t="52268" r="70295" b="11694"/>
          <a:stretch/>
        </p:blipFill>
        <p:spPr>
          <a:xfrm>
            <a:off x="990720" y="10666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rcRect l="70975" t="12903" r="6463" b="57006"/>
          <a:stretch/>
        </p:blipFill>
        <p:spPr>
          <a:xfrm>
            <a:off x="7772400" y="4876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rcRect l="42139" t="10534" r="36848" b="54435"/>
          <a:stretch/>
        </p:blipFill>
        <p:spPr>
          <a:xfrm>
            <a:off x="1219320" y="38098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rcRect l="0" t="10685" r="60015" b="57359"/>
          <a:stretch/>
        </p:blipFill>
        <p:spPr>
          <a:xfrm>
            <a:off x="1219320" y="4419720"/>
            <a:ext cx="761760" cy="457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64000" y="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Exercise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43280" y="554040"/>
            <a:ext cx="39304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omework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9148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Write some sentences according to the grammer focus</a:t>
            </a:r>
            <a:r>
              <a:rPr b="1" i="1" lang="zh-CN" sz="3200" spc="-1" strike="noStrike">
                <a:solidFill>
                  <a:srgbClr val="ffffff"/>
                </a:solidFill>
                <a:latin typeface="Comic Sans MS"/>
              </a:rPr>
              <a:t>．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68360" y="2997360"/>
            <a:ext cx="235116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oodbye!</a:t>
            </a:r>
            <a:endParaRPr b="0" lang="en-US" sz="4000" spc="1" strike="noStrike">
              <a:ln w="12600">
                <a:solidFill>
                  <a:srgbClr val="99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95640" y="404640"/>
            <a:ext cx="52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47628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16000" y="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: Do you like  the winter vacation?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476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: Yes /No.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052640"/>
            <a:ext cx="34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: Why/why not ?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1557360"/>
            <a:ext cx="921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: Beca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t’s interesting/relaxing/boring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66560" y="5157720"/>
            <a:ext cx="7991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: How do you feel about the winter vacation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042920" y="5734080"/>
            <a:ext cx="104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B:I like / hate it. It makes m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laxed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appy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ored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pse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…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2000" y="5157720"/>
            <a:ext cx="1771560" cy="148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203688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4989600"/>
            <a:ext cx="2382840" cy="1868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565360"/>
            <a:ext cx="2736720" cy="1440000"/>
          </a:xfrm>
          <a:prstGeom prst="wedgeRoundRectCallout">
            <a:avLst>
              <a:gd name="adj1" fmla="val -45648"/>
              <a:gd name="adj2" fmla="val 82523"/>
              <a:gd name="adj3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does he or she feel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4648320"/>
            <a:ext cx="1728720" cy="1515960"/>
          </a:xfrm>
          <a:prstGeom prst="irregularSeal1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1341360"/>
            <a:ext cx="2233800" cy="1368360"/>
          </a:xfrm>
          <a:prstGeom prst="irregularSeal1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mfortabl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508640"/>
            <a:ext cx="2448000" cy="1873080"/>
          </a:xfrm>
          <a:prstGeom prst="irregularSeal1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uncomfortabl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2852640"/>
            <a:ext cx="2664000" cy="936720"/>
          </a:xfrm>
          <a:prstGeom prst="wedgeRoundRectCallout">
            <a:avLst>
              <a:gd name="adj1" fmla="val 60666"/>
              <a:gd name="adj2" fmla="val 116439"/>
              <a:gd name="adj3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hat makes him or her …?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8360" y="0"/>
            <a:ext cx="1649520" cy="191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0" y="533520"/>
            <a:ext cx="1728720" cy="1079280"/>
          </a:xfrm>
          <a:prstGeom prst="irregularSeal1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905120"/>
            <a:ext cx="1729080" cy="1079280"/>
          </a:xfrm>
          <a:prstGeom prst="irregularSeal1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ngry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19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6600ff"/>
                </a:solidFill>
                <a:latin typeface="Comic Sans MS"/>
              </a:rPr>
              <a:t>Rainy days make him sad.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5890" t="6365" r="62614" b="34212"/>
          <a:stretch/>
        </p:blipFill>
        <p:spPr>
          <a:xfrm>
            <a:off x="0" y="2205000"/>
            <a:ext cx="2124000" cy="465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1600" y="184320"/>
            <a:ext cx="43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What makes him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sad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50920" y="189000"/>
            <a:ext cx="4032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Pairwork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1197000"/>
            <a:ext cx="5834160" cy="132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Ａ：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What makes him/her 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</a:rPr>
              <a:t>sad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B:   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</a:rPr>
              <a:t>Rainy days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kes him sad.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4076640"/>
            <a:ext cx="5400720" cy="2232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00ff"/>
              </a:gs>
              <a:gs pos="50000">
                <a:srgbClr val="ffcccc"/>
              </a:gs>
              <a:gs pos="100000">
                <a:srgbClr val="cc00ff"/>
              </a:gs>
            </a:gsLst>
            <a:lin ang="135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smoking                                         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heavy traffic                                   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loud noise                                        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people who keep you waiting       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ovie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I Love My Family       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3789360"/>
            <a:ext cx="3348000" cy="2665440"/>
          </a:xfrm>
          <a:prstGeom prst="foldedCorner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happy                     sad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angry                relaxed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annoyed            stressed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happy                 tens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comfortable              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uncomfortable         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24410" t="23893" r="3489" b="40274"/>
          <a:stretch/>
        </p:blipFill>
        <p:spPr>
          <a:xfrm>
            <a:off x="2050920" y="0"/>
            <a:ext cx="7093080" cy="463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225440" cy="115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13688" t="66641" r="4524" b="24166"/>
          <a:stretch/>
        </p:blipFill>
        <p:spPr>
          <a:xfrm>
            <a:off x="0" y="479736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628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Listen.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5867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tens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5410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relaxed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943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sleepy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8000" y="115920"/>
            <a:ext cx="3995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rebuchet MS"/>
              </a:rPr>
              <a:t>PAIRWORK</a:t>
            </a:r>
            <a:endParaRPr b="1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80" name=""/>
          <p:cNvSpPr/>
          <p:nvPr/>
        </p:nvSpPr>
        <p:spPr>
          <a:xfrm>
            <a:off x="120960" y="1735200"/>
            <a:ext cx="85064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A: 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I’d rather go to the Blue Lagoon Restaurant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because I like to listen to quiet music while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I’m eating.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B: 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Me too! Loud music makes me tense.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A: 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I agree! Loud music makes me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uncomfortable.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5661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Comic Sans MS"/>
              </a:rPr>
              <a:t>What  is your opinion?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752480"/>
            <a:ext cx="8172360" cy="57492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50000">
                <a:srgbClr val="ffcccc"/>
              </a:gs>
              <a:gs pos="100000">
                <a:srgbClr val="cc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79280" y="0"/>
            <a:ext cx="2693880" cy="1447920"/>
          </a:xfrm>
          <a:prstGeom prst="irregularSeal2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2924280"/>
          <a:ext cx="8686800" cy="2181240"/>
        </p:xfrm>
        <a:graphic>
          <a:graphicData uri="http://schemas.openxmlformats.org/drawingml/2006/table">
            <a:tbl>
              <a:tblPr/>
              <a:tblGrid>
                <a:gridCol w="1403280"/>
                <a:gridCol w="982800"/>
                <a:gridCol w="1195200"/>
                <a:gridCol w="768600"/>
                <a:gridCol w="909360"/>
                <a:gridCol w="1217880"/>
                <a:gridCol w="1143000"/>
                <a:gridCol w="106668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Weather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rainy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unny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hot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old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loudy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windy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foggy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feeling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sad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happy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380880" y="1828800"/>
            <a:ext cx="81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Talk about how the different kinds of weather make you feel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0400" y="533520"/>
            <a:ext cx="32767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roupwork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80880"/>
            <a:ext cx="1514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ask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7"/>
          <a:srcRect l="0" t="29311" r="53492" b="33916"/>
          <a:stretch/>
        </p:blipFill>
        <p:spPr>
          <a:xfrm>
            <a:off x="5181480" y="5410080"/>
            <a:ext cx="3657600" cy="1219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8"/>
          <a:srcRect l="46155" t="29518" r="0" b="32026"/>
          <a:stretch/>
        </p:blipFill>
        <p:spPr>
          <a:xfrm>
            <a:off x="304920" y="5410080"/>
            <a:ext cx="328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2062080"/>
            <a:ext cx="871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_____ Waiting for her made me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angry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_____ She said that loud music made her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tense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_____ Loud music makes me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happy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_____ Loud music always makes me </a:t>
            </a:r>
            <a:r>
              <a:rPr b="1" lang="en-US" sz="2400" spc="-1" strike="noStrike">
                <a:solidFill>
                  <a:srgbClr val="0abc12"/>
                </a:solidFill>
                <a:latin typeface="Tahoma"/>
              </a:rPr>
              <a:t>want to dance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_____ It was so sad it made us </a:t>
            </a:r>
            <a:r>
              <a:rPr b="1" lang="en-US" sz="2400" spc="-1" strike="noStrike">
                <a:solidFill>
                  <a:srgbClr val="0abc12"/>
                </a:solidFill>
                <a:latin typeface="Tahoma"/>
              </a:rPr>
              <a:t>cry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_____ Sad movies don’t make me cry. They just make me </a:t>
            </a:r>
            <a:r>
              <a:rPr b="1" lang="en-US" sz="2400" spc="-1" strike="noStrike">
                <a:solidFill>
                  <a:srgbClr val="0abc12"/>
                </a:solidFill>
                <a:latin typeface="Tahoma"/>
              </a:rPr>
              <a:t>want to leave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_____ It made me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sad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1079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1160" y="451152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1160" y="393552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1160" y="335916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1160" y="227952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686800" y="1371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12193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371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295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85080" y="2060640"/>
            <a:ext cx="1224000" cy="64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a&amp;2b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6386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Listen and check the things that Tina and John said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08:29:27Z</dcterms:created>
  <dc:creator> </dc:creator>
  <dc:description> </dc:description>
  <cp:keywords/>
  <dc:language>en-US</dc:language>
  <cp:lastModifiedBy>User</cp:lastModifiedBy>
  <dcterms:modified xsi:type="dcterms:W3CDTF">2014-02-13T01:26:57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