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203-1F71-4F6C-9FCA-06637A88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F49-E89E-4EBA-8813-FAC9A0CA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253-99A7-4892-8DBE-F4B8BC44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F04-DC9C-4989-9FF6-E8852E7A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30F-014A-4D19-B031-CD429F62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CBE-7991-4FBC-87C1-B61AE37C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447-AAD9-4097-9976-32B8604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12B-DB8D-4969-BBA1-6E5C6427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0DF-7FCF-4DD5-9CB9-942E82B7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ECC-64C1-4498-8502-9D8D8B4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56A-0D1F-4DA7-BC2F-1AE2D71D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8C0-1CDD-4920-A57C-6785DCB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100-F250-47FF-AA79-F7C0A05DD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gw.cc/productdetails_705_2284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na.ningbopromotion.com/product-62622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food.cn/dish/dishlist/200808/22-2931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九年级人教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060640"/>
            <a:ext cx="727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Unit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en was it inv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4941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a. Fill in the blanks with the word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3011400" cy="309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35640" y="2565360"/>
            <a:ext cx="2797200" cy="287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2000" y="4797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, crispy, salty, s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49417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52520" y="1341360"/>
            <a:ext cx="299556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967120" cy="338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24000" y="35002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35772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b. Write the name of a different food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after each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9640" y="2204640"/>
            <a:ext cx="20876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e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s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l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2205000"/>
            <a:ext cx="5761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nana, apple, 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tato chips, sa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zza, french fries, o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pe, lemon, pickle, grape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a. Listen and circle “T” or “F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545440" cy="430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24720" y="148428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066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Potato chips were invented by mist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y were invented in 186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The customer thought the potatoes were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 eno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The customer said they weren’t salty eno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George wanted to make the customer hap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The customer was happy in the en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17080" y="54936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64360" y="148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40720" y="357336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59640" y="4365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5084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history of 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 that potato chips were invented by mistake? Potato chips _____________ by a chef called George Crum. They were invented in _______. George Crum cooked them for a long time until they __________. And he sprinkled lots of salt on them so they were 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133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d you know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924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r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328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5877000"/>
            <a:ext cx="201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re cris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157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lly s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04640"/>
            <a:ext cx="856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b. Listen again and complet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ntences.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08720" y="98100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2c. Pairwork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you know potat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ps were inven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:</a:t>
            </a:r>
            <a:r>
              <a:rPr b="1" lang="en-US" sz="3200" spc="-1" strike="noStrike">
                <a:solidFill>
                  <a:srgbClr val="4a78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w, I didn’t 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.Who inv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it was invented by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f called Geroge C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rcRect l="0" t="0" r="0" b="6881"/>
          <a:stretch/>
        </p:blipFill>
        <p:spPr>
          <a:xfrm>
            <a:off x="5435640" y="1700280"/>
            <a:ext cx="311004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a.Read the article and answer the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3168720" cy="3110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0360" y="1197000"/>
            <a:ext cx="3672000" cy="1224000"/>
          </a:xfrm>
          <a:prstGeom prst="ellipse">
            <a:avLst/>
          </a:prstGeom>
          <a:solidFill>
            <a:srgbClr val="33cccc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invented t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4103640" cy="302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at is the articl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en was it inven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o was it invented b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How was it inven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08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invention of tea.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2748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invented over three thousand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75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invented by the Chinese emperor, Shen Nong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37372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invented by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0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atch them into senten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682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933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n’t brou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02200" y="522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he western world until 16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n N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12536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boiling drinking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26370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 an open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05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134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h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4500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56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3933720"/>
            <a:ext cx="36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aste the hot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1700280"/>
            <a:ext cx="1656000" cy="25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4221000"/>
            <a:ext cx="1368720" cy="129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19280" y="1483920"/>
            <a:ext cx="151272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916280"/>
            <a:ext cx="151308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292640"/>
            <a:ext cx="1584360" cy="144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51280" y="1628640"/>
            <a:ext cx="2881440" cy="4105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2708280"/>
            <a:ext cx="1441440" cy="29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2781360"/>
            <a:ext cx="1512720" cy="14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they taste?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192720" cy="4484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48360" y="2349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ris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b. Write an article using the note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: college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: metal pie plate, flying d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:  1950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: bakery Bridgeport, Connectic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: students eat pie, throw pie pl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ay: clubs, magazines, fest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12000" y="981000"/>
            <a:ext cx="2842920" cy="237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sample version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pie plate to flying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lying disk was invented by colleg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ying disk is a metal pie plate. In the 1950s, sev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ge students ate pies made by a bakery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idgeport, Connecticut. They found it interest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w the pie plates with each other. Then it bec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game. Today, there are flying disk clubs, magaz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even a festival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a. Think of something that you don’t like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oing. Then think of an invention that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uld help you.Write the details in the char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278136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1197000"/>
            <a:ext cx="8136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 often get hurt by the h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er in the c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inven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a cup that can tell you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erature of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can show the temperature of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ic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Potato chips were invented b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stak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tak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名词 “错误，误会”。也可以作动词 “弄错，犯错”。常见形式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mistak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You have made a mistak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stake…for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错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mistook him for his br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mistak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错误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y sent the letter to me by mista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Geroge wanted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ustomer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“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么样”，其后常带复合宾语。常见结构为：主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mak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宾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ss can make the young man a rich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Did you know that tea…was inven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cid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accident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偶然地，碰巧”。同义词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chan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同义词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identally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词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found a new way to solv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thoug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a wasn’t brought to the  western worl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ti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61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thoug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连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 “虽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管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让步状语从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不能根据汉语习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后面使用连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过它可以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t, sti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主从句的主语相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从句谓语含有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将从句主语和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省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Although he is very busy, he always talks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…unti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 “直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才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一个时间状语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 did not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to be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til I finished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cording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 ancient Chinese lege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mperor Shen No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ove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ording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个短语介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 “根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依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或由疑问词以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出的名词性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According to the radio, it will r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ov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发现”，指发现的对象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来存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找到”，强调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v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发明”，发明的对象是以前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0" t="0" r="0" b="12861"/>
          <a:stretch/>
        </p:blipFill>
        <p:spPr>
          <a:xfrm>
            <a:off x="324000" y="549360"/>
            <a:ext cx="702144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24720" y="2492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ris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So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av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arb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us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ell in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er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ained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for so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arby adj.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附近的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works in a nearby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leaf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数形式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rem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 “继续留在某处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ow long will you remain 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 fall into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落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陷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was drunk and fell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用所给词的正确形式填空。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he TV ____________ (invent) around 19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y are used for _______ (see) 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This kite _________ (make) by Uncle W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Tea ______________ (discover) a long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Our classroom 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hould clean)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0560" y="1557360"/>
            <a:ext cx="24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inve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133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2781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m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429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4508640"/>
            <a:ext cx="316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ould be clea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Arial"/>
              </a:rPr>
              <a:t>Homework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n article using the notes in the box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7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24720" y="3284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5975640" cy="555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236000" y="234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3213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80360" y="2708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422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620640"/>
            <a:ext cx="6984720" cy="5418000"/>
            <a:chOff x="324000" y="620640"/>
            <a:chExt cx="6984720" cy="541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24000" y="691920"/>
              <a:ext cx="6984720" cy="53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620640"/>
              <a:ext cx="100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0" t="0" r="0" b="6516"/>
          <a:stretch/>
        </p:blipFill>
        <p:spPr>
          <a:xfrm>
            <a:off x="250920" y="836640"/>
            <a:ext cx="698508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51640" y="3284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403960" cy="532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8000" y="270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371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17346" r="0" b="0"/>
          <a:stretch/>
        </p:blipFill>
        <p:spPr>
          <a:xfrm>
            <a:off x="900000" y="836640"/>
            <a:ext cx="5040360" cy="518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72360" y="256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0:56:12Z</dcterms:created>
  <dc:creator> </dc:creator>
  <dc:description> </dc:description>
  <dc:language>en-US</dc:language>
  <cp:lastModifiedBy>微软用户</cp:lastModifiedBy>
  <cp:lastPrinted>1899-12-30T00:00:00Z</cp:lastPrinted>
  <dcterms:modified xsi:type="dcterms:W3CDTF">2013-08-14T01:27:07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