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0799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F9EE-B66E-49C0-A775-36548EB3A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1FDB-46A9-4222-B4E0-37406A21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2B77-E31C-44F2-9541-79C6A6B43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644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1360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644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1360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6271-03EF-473D-89A5-6C8325655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4E21-BC26-4AF0-AE65-260D7A89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5DCE-3815-45A4-B13D-BBF80AE4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08A1-4AAF-43C9-9500-7532A632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EFC9-DEDE-4C71-96B8-C24677EA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274320"/>
            <a:ext cx="972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FF69-1AA6-44D5-847A-A5A44578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F4D8-3EB3-41BD-A718-5B140279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6A41-7123-4323-8CE1-A7FFCA5B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FA00-CDA3-4F0D-9233-AB061CC7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356520"/>
            <a:ext cx="252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6356520"/>
            <a:ext cx="3419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6356520"/>
            <a:ext cx="252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EA34-5AEA-4A08-8CA1-580E72E66E9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6720" y="1196640"/>
            <a:ext cx="9182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隶书"/>
                <a:ea typeface="隶书"/>
              </a:rPr>
              <a:t>早发白帝城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5545080" y="270828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李白 （唐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081080" y="1341360"/>
            <a:ext cx="848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首句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“彩云间”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三字，描写白帝城</a:t>
            </a:r>
            <a:r>
              <a:rPr b="1" lang="zh-CN" sz="3600" spc="-1" strike="noStrike">
                <a:solidFill>
                  <a:srgbClr val="0000cc"/>
                </a:solidFill>
                <a:latin typeface="华文楷体"/>
                <a:ea typeface="华文楷体"/>
              </a:rPr>
              <a:t>地势之高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为全篇写下水船走得快这一动态蓄势。不写白帝城之极高，则无法体现出长江上下游之间斜度差距之大。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“彩云间”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也是写早晨景色，显示出从晦冥转为光明的大好气象，而诗人便在这曙光初灿的时刻，怀着兴奋的心情匆匆告别白帝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36720" y="1339560"/>
            <a:ext cx="590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千 里 江 陵 一 日 还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4753080" y="263520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Arial"/>
                <a:ea typeface="隶书"/>
              </a:rPr>
              <a:t>还</a:t>
            </a:r>
            <a:r>
              <a:rPr b="0" lang="zh-CN" sz="2800" spc="-1" strike="noStrike">
                <a:solidFill>
                  <a:srgbClr val="0070c0"/>
                </a:solidFill>
                <a:latin typeface="Arial"/>
                <a:ea typeface="隶书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472000" y="26337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回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1081080" y="135720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二句的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“千里”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“一日”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以</a:t>
            </a:r>
            <a:r>
              <a:rPr b="1" lang="zh-CN" sz="3600" spc="-1" strike="noStrike">
                <a:solidFill>
                  <a:srgbClr val="0000cc"/>
                </a:solidFill>
                <a:latin typeface="华文楷体"/>
                <a:ea typeface="华文楷体"/>
              </a:rPr>
              <a:t>空间之远与时间之暂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悬殊对比，自是一望而知；其妙处却在那个“还”字上。它不仅表现出诗人“一日”而行“千里”的痛快，也隐隐透露出遇赦的喜悦。江陵本非李白的家乡，而“还”字却亲切得俨如回乡一样。一个“还”字，暗处传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36720" y="1339560"/>
            <a:ext cx="590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两 岸 猿 声 啼 不 住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3930480" y="348768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Arial"/>
                <a:ea typeface="隶书"/>
              </a:rPr>
              <a:t>啼不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5543640" y="350028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不停地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3959280" y="255744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Arial"/>
                <a:ea typeface="隶书"/>
              </a:rPr>
              <a:t>猿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4680000" y="256392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猿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081080" y="105408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三句的境界更为神妙。诗人说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“啼不住”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是因为他乘坐飞快的轻舟行驶在长江上，耳听两岸的猿啼声，又看见两旁的山影，猿啼声不止一处，山影也不止一处，由于舟行人速，使得啼声和山影在耳目之间成为“浑然一片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36720" y="1339560"/>
            <a:ext cx="590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轻 舟 已 过 万 重 山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3745080" y="285120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Arial"/>
                <a:ea typeface="隶书"/>
              </a:rPr>
              <a:t>轻舟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4824360" y="2852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轻快的小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728720" y="1916280"/>
            <a:ext cx="813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瞬息之间，</a:t>
            </a:r>
            <a:r>
              <a:rPr b="1" lang="zh-CN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“轻舟”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已过</a:t>
            </a:r>
            <a:r>
              <a:rPr b="1" lang="zh-CN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“万重山”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为了形容船快，诗人除了用猿声山影来烘托，还给船的本身添上了一个</a:t>
            </a:r>
            <a:r>
              <a:rPr b="1" lang="zh-CN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“轻”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C:\WINDOWS\Desktop\我的公文包\02.jpg"/>
          <p:cNvPicPr/>
          <p:nvPr/>
        </p:nvPicPr>
        <p:blipFill>
          <a:blip r:embed="rId2"/>
          <a:stretch/>
        </p:blipFill>
        <p:spPr>
          <a:xfrm>
            <a:off x="1368360" y="2133720"/>
            <a:ext cx="3157560" cy="36338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5311800" y="2719440"/>
            <a:ext cx="5489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朝辞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白帝彩云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千里江陵一日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两岸猿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y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声啼不住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轻舟已过万重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2"/>
          <p:cNvSpPr/>
          <p:nvPr/>
        </p:nvSpPr>
        <p:spPr>
          <a:xfrm>
            <a:off x="6651720" y="1125360"/>
            <a:ext cx="280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原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248000" y="2707920"/>
            <a:ext cx="91821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清晨，我告别高入云霄的白帝城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江陵远在千里，船行只一日时间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两岸猿声，还在耳边不停地啼叫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不知不觉，轻舟已穿过万重青山。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C:\WINDOWS\Desktop\我的公文包\02.jpg"/>
          <p:cNvPicPr/>
          <p:nvPr/>
        </p:nvPicPr>
        <p:blipFill>
          <a:blip r:embed="rId2"/>
          <a:stretch/>
        </p:blipFill>
        <p:spPr>
          <a:xfrm>
            <a:off x="647640" y="2111400"/>
            <a:ext cx="3157560" cy="363384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4"/>
          <p:cNvSpPr/>
          <p:nvPr/>
        </p:nvSpPr>
        <p:spPr>
          <a:xfrm>
            <a:off x="6651720" y="1125360"/>
            <a:ext cx="280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译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 rot="5400000">
            <a:off x="3911400" y="2690640"/>
            <a:ext cx="2660760" cy="1412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107932" dir="8100000" blurRad="0" rotWithShape="0">
                    <a:srgbClr val="000080">
                      <a:alpha val="50000"/>
                    </a:srgbClr>
                  </a:outerShdw>
                </a:effectLst>
                <a:latin typeface="宋体"/>
              </a:rPr>
              <a:t>再 见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107932" dir="8100000" blurRad="0" rotWithShape="0">
                  <a:srgbClr val="000080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079640" y="222120"/>
            <a:ext cx="8713800" cy="24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写作背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在李白写这首诗的四年前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即公元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755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爆发了震撼唐帝国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安史之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在这次战乱中，当时的皇帝唐玄宗被迫逃往四川。后来，唐玄宗便把皇位传给了他的儿子李亨，即后来的唐肃宗。不久，唐肃宗的弟弟永王李璘也起兵，想和唐肃宗争夺帝位。当时李白在李璘手下做事，对内情并不知道，公元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758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李璘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战败，李白也受了牵连入狱，而且被判长期流放夜郎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今贵州西部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第二年西行到巫山（今重庆附近）时遇赦免罪，他立即从白帝城乘舟返回江陵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今湖北荆州市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3d1ff0f13a3dc1f47931aaf1"/>
          <p:cNvPicPr/>
          <p:nvPr/>
        </p:nvPicPr>
        <p:blipFill>
          <a:blip r:embed="rId2"/>
          <a:srcRect l="0" t="0" r="0" b="15587"/>
          <a:stretch/>
        </p:blipFill>
        <p:spPr>
          <a:xfrm>
            <a:off x="647640" y="71280"/>
            <a:ext cx="9631440" cy="67741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8974440" y="3429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3604"/>
                </a:solidFill>
                <a:latin typeface="Arial"/>
              </a:rPr>
              <a:t>长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6931080" y="4114800"/>
            <a:ext cx="360360" cy="304920"/>
          </a:xfrm>
          <a:custGeom>
            <a:avLst/>
            <a:gdLst/>
            <a:ahLst/>
            <a:rect l="l" t="t" r="r" b="b"/>
            <a:pathLst>
              <a:path w="360363" h="304800">
                <a:moveTo>
                  <a:pt x="0" y="116423"/>
                </a:moveTo>
                <a:lnTo>
                  <a:pt x="137647" y="116424"/>
                </a:lnTo>
                <a:lnTo>
                  <a:pt x="180182" y="0"/>
                </a:lnTo>
                <a:lnTo>
                  <a:pt x="222716" y="116424"/>
                </a:lnTo>
                <a:lnTo>
                  <a:pt x="360363" y="116423"/>
                </a:lnTo>
                <a:lnTo>
                  <a:pt x="249003" y="188376"/>
                </a:lnTo>
                <a:lnTo>
                  <a:pt x="291540" y="304799"/>
                </a:lnTo>
                <a:lnTo>
                  <a:pt x="180182" y="232845"/>
                </a:lnTo>
                <a:lnTo>
                  <a:pt x="68823" y="304799"/>
                </a:lnTo>
                <a:lnTo>
                  <a:pt x="111360" y="188376"/>
                </a:lnTo>
                <a:lnTo>
                  <a:pt x="0" y="116423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6031080" y="4191120"/>
            <a:ext cx="360360" cy="304560"/>
          </a:xfrm>
          <a:custGeom>
            <a:avLst/>
            <a:gdLst/>
            <a:ahLst/>
            <a:rect l="l" t="t" r="r" b="b"/>
            <a:pathLst>
              <a:path w="360362" h="304800">
                <a:moveTo>
                  <a:pt x="0" y="116423"/>
                </a:moveTo>
                <a:lnTo>
                  <a:pt x="137647" y="116424"/>
                </a:lnTo>
                <a:lnTo>
                  <a:pt x="180181" y="0"/>
                </a:lnTo>
                <a:lnTo>
                  <a:pt x="222715" y="116424"/>
                </a:lnTo>
                <a:lnTo>
                  <a:pt x="360362" y="116423"/>
                </a:lnTo>
                <a:lnTo>
                  <a:pt x="249003" y="188376"/>
                </a:lnTo>
                <a:lnTo>
                  <a:pt x="291539" y="304799"/>
                </a:lnTo>
                <a:lnTo>
                  <a:pt x="180181" y="232845"/>
                </a:lnTo>
                <a:lnTo>
                  <a:pt x="68823" y="304799"/>
                </a:lnTo>
                <a:lnTo>
                  <a:pt x="111359" y="188376"/>
                </a:lnTo>
                <a:lnTo>
                  <a:pt x="0" y="116423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5940360" y="4876920"/>
            <a:ext cx="360360" cy="304560"/>
          </a:xfrm>
          <a:custGeom>
            <a:avLst/>
            <a:gdLst/>
            <a:ahLst/>
            <a:rect l="l" t="t" r="r" b="b"/>
            <a:pathLst>
              <a:path w="360363" h="304800">
                <a:moveTo>
                  <a:pt x="0" y="116423"/>
                </a:moveTo>
                <a:lnTo>
                  <a:pt x="137647" y="116424"/>
                </a:lnTo>
                <a:lnTo>
                  <a:pt x="180182" y="0"/>
                </a:lnTo>
                <a:lnTo>
                  <a:pt x="222716" y="116424"/>
                </a:lnTo>
                <a:lnTo>
                  <a:pt x="360363" y="116423"/>
                </a:lnTo>
                <a:lnTo>
                  <a:pt x="249003" y="188376"/>
                </a:lnTo>
                <a:lnTo>
                  <a:pt x="291540" y="304799"/>
                </a:lnTo>
                <a:lnTo>
                  <a:pt x="180182" y="232845"/>
                </a:lnTo>
                <a:lnTo>
                  <a:pt x="68823" y="304799"/>
                </a:lnTo>
                <a:lnTo>
                  <a:pt x="111360" y="188376"/>
                </a:lnTo>
                <a:lnTo>
                  <a:pt x="0" y="116423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20102707102743266"/>
          <p:cNvPicPr/>
          <p:nvPr/>
        </p:nvPicPr>
        <p:blipFill>
          <a:blip r:embed="rId2"/>
          <a:stretch/>
        </p:blipFill>
        <p:spPr>
          <a:xfrm>
            <a:off x="360360" y="117360"/>
            <a:ext cx="9948960" cy="66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%E5%B7%AB%E5%B3%A14"/>
          <p:cNvPicPr/>
          <p:nvPr/>
        </p:nvPicPr>
        <p:blipFill>
          <a:blip r:embed="rId2"/>
          <a:stretch/>
        </p:blipFill>
        <p:spPr>
          <a:xfrm>
            <a:off x="360360" y="44280"/>
            <a:ext cx="10225080" cy="66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71640" y="18864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黑体"/>
              </a:rPr>
              <a:t>诗歌学习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08000" y="1343160"/>
            <a:ext cx="11017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初读读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读准字音，把诗读正确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细读读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结合画面，初步理解诗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提出不懂的地方与同学交流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再读领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　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抓住重点字词，能用自己的话说说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句诗的含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想象诵读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领会诗中意境，有感情地吟诵诗歌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C:\WINDOWS\Desktop\我的公文包\libai.jpg"/>
          <p:cNvPicPr/>
          <p:nvPr/>
        </p:nvPicPr>
        <p:blipFill>
          <a:blip r:embed="rId2"/>
          <a:stretch/>
        </p:blipFill>
        <p:spPr>
          <a:xfrm>
            <a:off x="568440" y="2386080"/>
            <a:ext cx="2911320" cy="3105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4105440" y="2565360"/>
            <a:ext cx="6264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朝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( </a:t>
            </a:r>
            <a:r>
              <a:rPr b="1" lang="zh-CN" sz="3600" spc="-1" strike="noStrike">
                <a:solidFill>
                  <a:srgbClr val="ff0066"/>
                </a:solidFill>
                <a:latin typeface="Tahoma"/>
              </a:rPr>
              <a:t>zhāo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cháo )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一日还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( </a:t>
            </a:r>
            <a:r>
              <a:rPr b="1" lang="zh-CN" sz="3600" spc="-1" strike="noStrike">
                <a:solidFill>
                  <a:srgbClr val="ff0066"/>
                </a:solidFill>
                <a:latin typeface="Tahoma"/>
              </a:rPr>
              <a:t>huán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hái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万重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( </a:t>
            </a:r>
            <a:r>
              <a:rPr b="1" lang="zh-CN" sz="3600" spc="-1" strike="noStrike">
                <a:solidFill>
                  <a:srgbClr val="ff0066"/>
                </a:solidFill>
                <a:latin typeface="Tahoma"/>
              </a:rPr>
              <a:t>chóng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zhòng )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4032360" y="907920"/>
            <a:ext cx="40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f497d"/>
                </a:solidFill>
                <a:latin typeface="Arial"/>
                <a:ea typeface="隶书"/>
              </a:rPr>
              <a:t>早 发 白 帝 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448000" y="184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f497d"/>
                </a:solidFill>
                <a:latin typeface="Arial"/>
                <a:ea typeface="隶书"/>
              </a:rPr>
              <a:t>发</a:t>
            </a:r>
            <a:r>
              <a:rPr b="0" lang="zh-CN" sz="2400" spc="-1" strike="noStrike">
                <a:solidFill>
                  <a:srgbClr val="1f497d"/>
                </a:solidFill>
                <a:latin typeface="Arial"/>
                <a:ea typeface="隶书"/>
              </a:rPr>
              <a:t>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168720" y="1844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出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305080" y="2565360"/>
            <a:ext cx="75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隶书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早发白帝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隶书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这个题目的意思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736720" y="321300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早上出发去白帝城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736720" y="385776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早上从白帝城出发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8066160" y="2565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36720" y="1339560"/>
            <a:ext cx="590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朝 辞 白 帝 彩 云 间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3932280" y="248292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f497d"/>
                </a:solidFill>
                <a:latin typeface="Arial"/>
                <a:ea typeface="隶书"/>
              </a:rPr>
              <a:t>朝</a:t>
            </a:r>
            <a:r>
              <a:rPr b="0" lang="en-US" sz="2800" spc="-1" strike="noStrike">
                <a:solidFill>
                  <a:srgbClr val="1f497d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932280" y="33526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f497d"/>
                </a:solidFill>
                <a:latin typeface="Arial"/>
                <a:ea typeface="隶书"/>
              </a:rPr>
              <a:t>辞</a:t>
            </a:r>
            <a:r>
              <a:rPr b="0" lang="en-US" sz="2800" spc="-1" strike="noStrike">
                <a:solidFill>
                  <a:srgbClr val="1f497d"/>
                </a:solidFill>
                <a:latin typeface="宋体"/>
              </a:rPr>
              <a:t>:</a:t>
            </a:r>
            <a:r>
              <a:rPr b="0" lang="en-US" sz="2800" spc="-1" strike="noStrike">
                <a:solidFill>
                  <a:srgbClr val="1f497d"/>
                </a:solidFill>
                <a:latin typeface="Arial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981600" y="423864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f497d"/>
                </a:solidFill>
                <a:latin typeface="Arial"/>
                <a:ea typeface="隶书"/>
              </a:rPr>
              <a:t>间</a:t>
            </a:r>
            <a:r>
              <a:rPr b="0" lang="en-US" sz="2800" spc="-1" strike="noStrike">
                <a:solidFill>
                  <a:srgbClr val="1f497d"/>
                </a:solidFill>
                <a:latin typeface="宋体"/>
              </a:rPr>
              <a:t>:</a:t>
            </a:r>
            <a:r>
              <a:rPr b="0" lang="en-US" sz="2800" spc="-1" strike="noStrike">
                <a:solidFill>
                  <a:srgbClr val="1f497d"/>
                </a:solidFill>
                <a:latin typeface="Arial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4643280" y="246708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早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4680000" y="33526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离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4710240" y="42624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中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0T08:45:35Z</dcterms:created>
  <dc:creator/>
  <dc:description/>
  <dc:language>en-US</dc:language>
  <cp:lastModifiedBy/>
  <dcterms:modified xsi:type="dcterms:W3CDTF">2014-04-24T02:00:56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