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2610-505B-4535-B319-AC91778452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89A-B02E-4D73-A809-85F265EB3A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DEA-5C11-4E99-ACFF-B9B8A1E7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766-2FBB-46AA-8C8C-0D04232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AD8-6FCD-4AF7-B1D4-C66C9791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6E9-A28A-4185-BBCF-8038C181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354-C384-4C72-8C13-AE6D88BD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F3B-74AC-4379-9A29-DFE62B3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C80-DC39-48F1-B1DB-02573551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622-2A4C-4F19-A975-7495055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BDA-2892-4480-9A76-CE3AEB2F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7D5-E51B-49E4-AC6F-8D0AED5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DDE-B2A6-4425-ABD1-C618C1F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13D-8341-4D7A-8CF1-E005652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1D90-3EB3-4178-8E55-2F9054E00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0260080272"/>
          <p:cNvPicPr/>
          <p:nvPr/>
        </p:nvPicPr>
        <p:blipFill>
          <a:blip r:embed="rId1"/>
          <a:stretch/>
        </p:blipFill>
        <p:spPr>
          <a:xfrm>
            <a:off x="468360" y="836640"/>
            <a:ext cx="4319640" cy="4994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春版四年级语文上册第一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124000" y="472428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96072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12" descr=""/>
          <p:cNvPicPr/>
          <p:nvPr/>
        </p:nvPicPr>
        <p:blipFill>
          <a:blip r:embed="rId3"/>
          <a:stretch/>
        </p:blipFill>
        <p:spPr>
          <a:xfrm>
            <a:off x="530280" y="4286160"/>
            <a:ext cx="8302680" cy="16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916280"/>
            <a:ext cx="813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Arial"/>
              </a:rPr>
              <a:t>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腿股票、股东、股份、一股泉水、一股香味、一股敌军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000" y="1125360"/>
            <a:ext cx="71276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66cc"/>
                </a:solidFill>
                <a:latin typeface="Arial"/>
              </a:rPr>
              <a:t>搬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bā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迁移搬家、搬迁、搬动、搬运、搬弄是非、搬起石头砸自己的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0081213141443"/>
          <p:cNvPicPr/>
          <p:nvPr/>
        </p:nvPicPr>
        <p:blipFill>
          <a:blip r:embed="rId1"/>
          <a:stretch/>
        </p:blipFill>
        <p:spPr>
          <a:xfrm>
            <a:off x="5724360" y="357336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116000" y="1483920"/>
            <a:ext cx="712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骗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谎言或诡计使人上当；欺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骗人、受骗、骗局、骗取、骗子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360" y="170028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作者希望自己长出胡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上爸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要跟儿子一起去探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给儿子讲最有趣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要带儿子去动物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作者希望自己的愿望快点实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ordArt 3" descr="白色大理石"/>
          <p:cNvPicPr/>
          <p:nvPr/>
        </p:nvPicPr>
        <p:blipFill>
          <a:blip r:embed="rId1"/>
          <a:stretch/>
        </p:blipFill>
        <p:spPr>
          <a:xfrm>
            <a:off x="3621240" y="1079640"/>
            <a:ext cx="1944360" cy="48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762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默读诗歌，思考：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我的愿望是什么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2060280"/>
            <a:ext cx="532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”的愿望是做一个跟儿子一起去探寻、给他讲最有趣的故事、带他去动物园的爸爸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小孩子"/>
          <p:cNvPicPr/>
          <p:nvPr/>
        </p:nvPicPr>
        <p:blipFill>
          <a:blip r:embed="rId1"/>
          <a:stretch/>
        </p:blipFill>
        <p:spPr>
          <a:xfrm>
            <a:off x="6732720" y="2276640"/>
            <a:ext cx="130464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13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"/>
              </a:rPr>
              <a:t>体会儿童的心愿得不到大人理解时的遗憾和无奈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1828440"/>
            <a:ext cx="79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这个爸爸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可这只是小男孩的愿望，事实上，他的爸爸是怎么样的呢？</a:t>
            </a:r>
            <a:br>
              <a:rPr sz="3200"/>
            </a:b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当我看小蚂蚁怎样搬家时，爸爸——</a:t>
            </a:r>
            <a:br>
              <a:rPr sz="3200"/>
            </a:b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当我问他大公鸡为什么不会下蛋时，爸爸——</a:t>
            </a:r>
            <a:br>
              <a:rPr sz="3200"/>
            </a:b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当我让他带我去动物园时，爸爸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小作者真的希望现在就长胡子吗？他的愿望到底是什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71640" y="1844280"/>
            <a:ext cx="741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在生活中，你有哪些心愿？大人又是怎样做的呢？也许他们满足了你的愿望，也许他们没有理解你的想法，请你说一说，写一写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3" descr=""/>
          <p:cNvPicPr/>
          <p:nvPr/>
        </p:nvPicPr>
        <p:blipFill>
          <a:blip r:embed="rId1"/>
          <a:stretch/>
        </p:blipFill>
        <p:spPr>
          <a:xfrm>
            <a:off x="3645000" y="1182600"/>
            <a:ext cx="1896840" cy="5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hucao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3" descr=""/>
          <p:cNvPicPr/>
          <p:nvPr/>
        </p:nvPicPr>
        <p:blipFill>
          <a:blip r:embed="rId2"/>
          <a:stretch/>
        </p:blipFill>
        <p:spPr>
          <a:xfrm>
            <a:off x="2182680" y="2560680"/>
            <a:ext cx="53946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27900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808080"/>
                </a:solidFill>
                <a:latin typeface="Arial"/>
              </a:rPr>
              <a:t>学习目标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8560" y="206028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本课生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诗歌大意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、流利、有感情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儿童的心愿得不到大人理解时的遗憾和无奈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d12792cff9869114f8dc61e1"/>
          <p:cNvPicPr/>
          <p:nvPr/>
        </p:nvPicPr>
        <p:blipFill>
          <a:blip r:embed="rId1"/>
          <a:srcRect l="0" t="0" r="-202" b="8452"/>
          <a:stretch/>
        </p:blipFill>
        <p:spPr>
          <a:xfrm>
            <a:off x="468360" y="765000"/>
            <a:ext cx="8280360" cy="5032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899640" y="1699920"/>
            <a:ext cx="7417080" cy="3529080"/>
          </a:xfrm>
          <a:prstGeom prst="rect">
            <a:avLst/>
          </a:prstGeom>
          <a:solidFill>
            <a:srgbClr val="60597b">
              <a:alpha val="4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蜘蛛：节肢动物，肛门尖端的突起能分泌黏液，黏液在空气中凝成细丝，用来结网捕食昆虫。生活在屋檐和草木间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76360" y="980640"/>
            <a:ext cx="675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蜘蛛、蛛网、蛛丝马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MG_1150"/>
          <p:cNvPicPr/>
          <p:nvPr/>
        </p:nvPicPr>
        <p:blipFill>
          <a:blip r:embed="rId1"/>
          <a:stretch/>
        </p:blipFill>
        <p:spPr>
          <a:xfrm>
            <a:off x="1763640" y="1773360"/>
            <a:ext cx="532944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ac3d5c8ac9ec8e569e2fb4c6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2360" y="3789000"/>
            <a:ext cx="8352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蚂蚁：昆虫，雌蚁和雄蚁有翅膀，工蚁和兵蚁没有。在地下筑巢，成群穴居。蚂蟥、蚂蚁啃骨头、蚂蚁搬泰山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340000" y="836280"/>
            <a:ext cx="5484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蚁后、蚂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95ad7f1264b943a96438dbcb"/>
          <p:cNvPicPr/>
          <p:nvPr/>
        </p:nvPicPr>
        <p:blipFill>
          <a:blip r:embed="rId1"/>
          <a:stretch/>
        </p:blipFill>
        <p:spPr>
          <a:xfrm>
            <a:off x="468360" y="836640"/>
            <a:ext cx="8335800" cy="496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8360" y="3933720"/>
            <a:ext cx="813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蝌蚪：蛙或蟾蜍等两栖动物的幼体，黑色，椭圆形，像小鱼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32000" y="1125000"/>
            <a:ext cx="675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蝌蚪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4896000" cy="43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1197000"/>
            <a:ext cx="7542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66cc"/>
                </a:solidFill>
                <a:latin typeface="Arial"/>
              </a:rPr>
              <a:t>屁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臀部屁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屁滚尿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形容非常惊恐或狼狈的样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1T11:53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