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926B-B562-4356-A06F-3812A35B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AB2F-1A5B-4B1B-9646-8F0BF1B7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06D-D0BE-4D5A-94B7-D9DD6CCA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BC8-AE1D-45C9-B6B3-31009696C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407-B6E6-4624-96E4-8AC7987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9A68-7BEF-4C97-8AED-C0A5E8E4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FD4-7865-42A5-B2CB-712E314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71E9-0A7C-4B03-B160-AAC6E31A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B8F8-4153-4D57-BCEA-A272DFE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FDE-3BED-4FDD-8749-37D87E2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3BD-372F-4FDB-87B3-D27AFDED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E59-7210-4654-8B66-28EB1488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049B-2289-45EA-AC06-42FC43297B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61800" y="476280"/>
            <a:ext cx="4857840" cy="638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871880" y="549360"/>
            <a:ext cx="4272120" cy="63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2324520" y="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春版四年级语文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2556000" y="2276640"/>
            <a:ext cx="3173400" cy="211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黑体"/>
              </a:rPr>
              <a:t>苦糖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65530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241aa10eaeffc2ce36d122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852640"/>
            <a:ext cx="8675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学习课文第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6—7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段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指读思考：这件事对“我”有怎么样的影响？</a:t>
            </a:r>
            <a:br>
              <a:rPr sz="4200"/>
            </a:b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我”为什么很少吃白糖了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?—</a:t>
            </a: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苦糖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4200" spc="-1" strike="noStrike">
                <a:solidFill>
                  <a:srgbClr val="ffffff"/>
                </a:solidFill>
                <a:latin typeface="宋体"/>
              </a:rPr>
              <a:t>想象一下，作者长大以后，第一次拿着白糖回家时的情景。他会和母亲说什么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1619280" y="2067120"/>
            <a:ext cx="7524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拴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shuān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绳子等系在物体上，再打上结，拴住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遭受，忍受挨打、挨饿、挨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拈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niān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两三个手指头夹取（东西），捏（做动作）拈轻怕重、拈香。</a:t>
            </a:r>
            <a:br>
              <a:rPr sz="2400"/>
            </a:b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手所撮取的东西一小撮、一撮盐、撮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平方向的长条形承重构件。木结构屋架中专指顺着前后方向架在柱子上的长木。屋梁、桥梁、鼻梁。　　　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有腿没靠背的专供人坐的家具。凳子、方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0090403145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342900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600" spc="-1" strike="noStrike">
                <a:solidFill>
                  <a:srgbClr val="333399"/>
                </a:solidFill>
                <a:latin typeface="Arial"/>
              </a:rPr>
              <a:t>解词</a:t>
            </a:r>
            <a:br>
              <a:rPr sz="4500"/>
            </a:br>
            <a:r>
              <a:rPr b="1" lang="zh-CN" sz="4500" spc="-1" strike="noStrike">
                <a:solidFill>
                  <a:srgbClr val="333399"/>
                </a:solidFill>
                <a:latin typeface="Arial"/>
              </a:rPr>
              <a:t>　　　　神物：神奇的东西。</a:t>
            </a:r>
            <a:br>
              <a:rPr sz="4500"/>
            </a:br>
            <a:br>
              <a:rPr sz="4500"/>
            </a:br>
            <a:r>
              <a:rPr b="1" lang="zh-CN" sz="4500" spc="-1" strike="noStrike">
                <a:solidFill>
                  <a:srgbClr val="333399"/>
                </a:solidFill>
                <a:latin typeface="Arial"/>
              </a:rPr>
              <a:t>　　　　怔怔：形容发愣的样子。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26735acb933308a1c81768f4"/>
          <p:cNvPicPr/>
          <p:nvPr/>
        </p:nvPicPr>
        <p:blipFill>
          <a:blip r:embed="rId1"/>
          <a:srcRect l="0" t="836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338856e81e9b6b16b90e2d39"/>
          <p:cNvPicPr/>
          <p:nvPr/>
        </p:nvPicPr>
        <p:blipFill>
          <a:blip r:embed="rId2"/>
          <a:stretch/>
        </p:blipFill>
        <p:spPr>
          <a:xfrm>
            <a:off x="5724360" y="3933720"/>
            <a:ext cx="2022480" cy="25275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755640" y="663480"/>
            <a:ext cx="78487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糖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本来是甜的，而本文作者却说是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苦糖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这强烈的反差又是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8569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Arial"/>
              </a:rPr>
              <a:t>思考：这篇课文讲了一件什么事？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63280" y="2421000"/>
            <a:ext cx="6264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本文是一篇写童年往事的回忆性的文章。本文以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苦糖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为中心线索，记叙了小时候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偷吃光了亲戚探望生病的父亲时送来的白糖，却没有遭到母亲一句责骂的往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5796000" cy="1597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2664720" y="45968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思考：你从这段知道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8250d55182a8787f1138c2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9280" y="2636640"/>
            <a:ext cx="75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66"/>
                </a:solidFill>
                <a:latin typeface="宋体"/>
              </a:rPr>
              <a:t>学习课文第</a:t>
            </a:r>
            <a:r>
              <a:rPr b="1" lang="zh-CN" sz="4200" spc="-1" strike="noStrike">
                <a:solidFill>
                  <a:srgbClr val="ff0066"/>
                </a:solidFill>
                <a:latin typeface="宋体"/>
              </a:rPr>
              <a:t>2—5</a:t>
            </a:r>
            <a:r>
              <a:rPr b="1" lang="zh-CN" sz="4200" spc="-1" strike="noStrike">
                <a:solidFill>
                  <a:srgbClr val="ff0066"/>
                </a:solidFill>
                <a:latin typeface="宋体"/>
              </a:rPr>
              <a:t>段</a:t>
            </a:r>
            <a:br>
              <a:rPr sz="4200"/>
            </a:b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白糖本来是留在端午节吃的，可一件意外的事情发生了。思考：发生了一件什么事？</a:t>
            </a:r>
            <a:br>
              <a:rPr sz="3000"/>
            </a:b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2.“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我”为什么要偷吃白糖？找出描写白糖滋味的句子。</a:t>
            </a:r>
            <a:br>
              <a:rPr sz="3000"/>
            </a:b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当“我”想象白糖滋味的时候，心情如何？</a:t>
            </a:r>
            <a:br>
              <a:rPr sz="3000"/>
            </a:b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（狂喜：极端高兴。）</a:t>
            </a:r>
            <a:br>
              <a:rPr sz="3000"/>
            </a:b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　　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4.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默读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3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、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4</a:t>
            </a:r>
            <a:r>
              <a:rPr b="1" lang="zh-CN" sz="3000" spc="-1" strike="noStrike">
                <a:solidFill>
                  <a:srgbClr val="009999"/>
                </a:solidFill>
                <a:latin typeface="宋体"/>
              </a:rPr>
              <a:t>段，划出给你印象最深的词语和句子，说一说你的理解。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　　　　</a:t>
            </a:r>
            <a:br>
              <a:rPr sz="2700"/>
            </a:br>
            <a:r>
              <a:rPr b="1" lang="zh-CN" sz="4200" spc="-1" strike="noStrike">
                <a:solidFill>
                  <a:srgbClr val="ff0066"/>
                </a:solidFill>
                <a:latin typeface="宋体"/>
              </a:rPr>
              <a:t>重点理解：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（</a:t>
            </a: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1</a:t>
            </a: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）“我”的心为什么缩了一下？</a:t>
            </a:r>
            <a:br>
              <a:rPr sz="2700"/>
            </a:b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　　　　（</a:t>
            </a: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2</a:t>
            </a:r>
            <a:r>
              <a:rPr b="1" lang="zh-CN" sz="2700" spc="-1" strike="noStrike">
                <a:solidFill>
                  <a:srgbClr val="009999"/>
                </a:solidFill>
                <a:latin typeface="宋体"/>
              </a:rPr>
              <a:t>）“怔怔”是什么意思？“我”为什么发呆、流泪？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129440" cy="340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611280" y="3716280"/>
            <a:ext cx="324000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Line 6"/>
          <p:cNvSpPr/>
          <p:nvPr/>
        </p:nvSpPr>
        <p:spPr>
          <a:xfrm>
            <a:off x="4572000" y="1197000"/>
            <a:ext cx="331308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1116000" y="1700280"/>
            <a:ext cx="684072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3"/>
          <a:stretch/>
        </p:blipFill>
        <p:spPr>
          <a:xfrm>
            <a:off x="4356000" y="3933720"/>
            <a:ext cx="4032360" cy="2433600"/>
          </a:xfrm>
          <a:prstGeom prst="rect">
            <a:avLst/>
          </a:prstGeom>
          <a:ln w="0">
            <a:noFill/>
          </a:ln>
        </p:spPr>
      </p:pic>
      <p:sp>
        <p:nvSpPr>
          <p:cNvPr id="64" name="Line 12"/>
          <p:cNvSpPr/>
          <p:nvPr/>
        </p:nvSpPr>
        <p:spPr>
          <a:xfrm>
            <a:off x="1116000" y="2133720"/>
            <a:ext cx="6912000" cy="7128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1116000" y="2565360"/>
            <a:ext cx="100800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140360" y="6453360"/>
            <a:ext cx="439236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1619280" y="2924280"/>
            <a:ext cx="57636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4356000" y="6381720"/>
            <a:ext cx="57636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5119560" y="2133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作者把自己偷糖吃的动作、心理写得细致入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0"/>
          <p:cNvSpPr/>
          <p:nvPr/>
        </p:nvSpPr>
        <p:spPr>
          <a:xfrm>
            <a:off x="3995640" y="3357720"/>
            <a:ext cx="3961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4140360" y="3789360"/>
            <a:ext cx="504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2"/>
          <p:cNvSpPr/>
          <p:nvPr/>
        </p:nvSpPr>
        <p:spPr>
          <a:xfrm>
            <a:off x="6156360" y="5589720"/>
            <a:ext cx="2305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3"/>
          <p:cNvSpPr/>
          <p:nvPr/>
        </p:nvSpPr>
        <p:spPr>
          <a:xfrm>
            <a:off x="4500720" y="602136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560" y="2420640"/>
            <a:ext cx="8569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5.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端午节这天早上，弟弟妹妹会想些什么？爸爸妈妈呢？我呢？</a:t>
            </a:r>
            <a:br>
              <a:rPr sz="3800"/>
            </a:b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6.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可是母亲——只是抱着空罐子发呆，连一句责怪的话都没有。</a:t>
            </a:r>
            <a:br>
              <a:rPr sz="3800"/>
            </a:b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7.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妈妈为什么发呆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?</a:t>
            </a:r>
            <a:r>
              <a:rPr b="1" lang="zh-CN" sz="3800" spc="-1" strike="noStrike">
                <a:solidFill>
                  <a:srgbClr val="ff0066"/>
                </a:solidFill>
                <a:latin typeface="宋体"/>
              </a:rPr>
              <a:t>为什么没有责怪我？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1T11:41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