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B241-174B-40B5-9313-31C1D561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792-7F7C-471A-9943-4A3002BF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DD0-B8EB-4487-BC1D-3063CE74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0392-3E11-41F2-BC43-998BE847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F26-A066-4DFA-A1FC-06F40955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629-5681-47DA-9831-47D43520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63C-AF90-432E-A0ED-C4862FB0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B4E-80DE-404C-8D07-6B347667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373-AD00-4821-A2C9-EBE5F123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FD8-FDD2-4200-9CB5-F5C5AE5D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E08-7339-433F-816E-95BC0990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8E9-3F8B-4860-A448-54CD8D42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A3D3-AA19-4F79-8645-F2CE2638DB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42920" y="1197000"/>
            <a:ext cx="64818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难忘的八个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4859280" y="4005360"/>
            <a:ext cx="3311640" cy="24429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1105920" y="3333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春版四年级语文上册第三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3"/>
          <p:cNvSpPr/>
          <p:nvPr/>
        </p:nvSpPr>
        <p:spPr>
          <a:xfrm>
            <a:off x="4267080" y="0"/>
            <a:ext cx="4876920" cy="1600200"/>
          </a:xfrm>
          <a:prstGeom prst="cloudCallout">
            <a:avLst>
              <a:gd name="adj1" fmla="val -46680"/>
              <a:gd name="adj2" fmla="val 70041"/>
            </a:avLst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我希望你是我女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2987640" y="2708280"/>
            <a:ext cx="2808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33520" y="1523880"/>
            <a:ext cx="81421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增长”的“增”读作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zēn</a:t>
            </a: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不要读作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zhēn</a:t>
            </a: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畸形”的“畸”读作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ī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不要读作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qí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巴”的“结”读作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iē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不要读作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ié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609480" y="53352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0"/>
                </a:gradFill>
                <a:latin typeface="楷体_GB2312"/>
              </a:rPr>
              <a:t>字 的 读 音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16360" y="691920"/>
            <a:ext cx="352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000000"/>
                </a:solidFill>
                <a:latin typeface="Arial"/>
              </a:rPr>
              <a:t>生字教学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00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龄   嘲   厌   恶   唇   倾   斜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测   验   述   烈   挺   鞋   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8200" y="312480"/>
            <a:ext cx="31258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词语教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0000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年龄、嘲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测验、兴高采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句子分析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列举：伦纳德老师胖胖的，很美，也很可爱。她有着金光闪闪的头发和一双黑黑的、笑眯眯的眼睛。每个孩子都喜欢她、敬慕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由：用外貌描写来表现了伦纳德老师的和蔼可亲，也是每个孩子喜欢她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句子分析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列举：但是，没有一个人比我更爱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由：表明“我”对老师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句子分析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列举：我不愿把这事说出来，因为同学们会更加嘲笑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由：表明了“我”的自卑心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句子分析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列举：“我愿你是我的女儿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由：这句朴实的话语表明伦纳德老师是一个善解童心，深怀母爱的人，因此她受到孩子们喜欢、敬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29528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15238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女孩为什么对同学撒谎心里就好受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没有一个人比我更爱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是什么原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做假的办法对付耳语测试，怎么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什么伦纳德夫人说的八个字会对小女孩产生那么大影响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28600" y="380880"/>
            <a:ext cx="391176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读课文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1T11:29:1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