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3.wmf" ContentType="image/x-wmf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8.png" ContentType="image/png"/>
  <Override PartName="/ppt/media/image12.png" ContentType="image/png"/>
  <Override PartName="/ppt/media/image7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2F95-1EB0-4004-9D89-C16737144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4507-088C-4EB8-96E8-9E68DC238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871B-C1AD-42E6-A67F-FFDB535A3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734D-1A1A-4385-95D2-F3834D8DD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7243-4398-40AA-8B6B-F6E7EC33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468B-1865-4FDB-A26D-B31BD9C0F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C6EE-7569-4958-8F6E-CFA9D3D7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2EE2-F7F8-41FD-903D-6F2265946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35DB-2FF2-4F84-AF67-7F08FD35D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926C-9562-409C-998C-6CD1928B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072A-D9D5-4995-816A-EEFFF344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1E6C-C6B0-4445-B05B-945D8552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61665-9725-4B8B-8A2C-47C7F23464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0" y="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长春版四年级语文上册第五单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1828800" y="3276720"/>
            <a:ext cx="62485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9900ff"/>
                </a:solidFill>
                <a:latin typeface="Arial"/>
                <a:ea typeface="楷体_GB2312"/>
              </a:rPr>
              <a:t>平分生命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990720" y="175248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99"/>
                </a:solidFill>
                <a:latin typeface="Arial"/>
                <a:ea typeface="楷体_GB2312"/>
              </a:rPr>
              <a:t>为什么医生听了贝贝的话想笑他无知，转念间却又被他震撼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5"/>
          <p:cNvSpPr/>
          <p:nvPr/>
        </p:nvSpPr>
        <p:spPr>
          <a:xfrm>
            <a:off x="762120" y="36576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从男孩的语言、神情看出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8001000" cy="19317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reeform 2"/>
          <p:cNvSpPr/>
          <p:nvPr/>
        </p:nvSpPr>
        <p:spPr>
          <a:xfrm>
            <a:off x="838080" y="228600"/>
            <a:ext cx="7669440" cy="6330960"/>
          </a:xfrm>
          <a:custGeom>
            <a:avLst/>
            <a:gdLst>
              <a:gd name="textAreaLeft" fmla="*/ 0 w 7669440"/>
              <a:gd name="textAreaRight" fmla="*/ 7669800 w 7669440"/>
              <a:gd name="textAreaTop" fmla="*/ 0 h 6330960"/>
              <a:gd name="textAreaBottom" fmla="*/ 6331320 h 6330960"/>
            </a:gdLst>
            <a:ahLst/>
            <a:rect l="textAreaLeft" t="textAreaTop" r="textAreaRight" b="textAreaBottom"/>
            <a:pathLst>
              <a:path w="4831" h="3988">
                <a:moveTo>
                  <a:pt x="2314" y="502"/>
                </a:moveTo>
                <a:cubicBezTo>
                  <a:pt x="2129" y="525"/>
                  <a:pt x="1962" y="222"/>
                  <a:pt x="1747" y="162"/>
                </a:cubicBezTo>
                <a:cubicBezTo>
                  <a:pt x="1532" y="102"/>
                  <a:pt x="1236" y="116"/>
                  <a:pt x="1021" y="139"/>
                </a:cubicBezTo>
                <a:cubicBezTo>
                  <a:pt x="806" y="162"/>
                  <a:pt x="605" y="222"/>
                  <a:pt x="454" y="298"/>
                </a:cubicBezTo>
                <a:cubicBezTo>
                  <a:pt x="303" y="374"/>
                  <a:pt x="190" y="480"/>
                  <a:pt x="114" y="593"/>
                </a:cubicBezTo>
                <a:cubicBezTo>
                  <a:pt x="38" y="706"/>
                  <a:pt x="0" y="831"/>
                  <a:pt x="0" y="978"/>
                </a:cubicBezTo>
                <a:cubicBezTo>
                  <a:pt x="0" y="1125"/>
                  <a:pt x="22" y="1266"/>
                  <a:pt x="114" y="1477"/>
                </a:cubicBezTo>
                <a:cubicBezTo>
                  <a:pt x="206" y="1688"/>
                  <a:pt x="374" y="2005"/>
                  <a:pt x="555" y="2247"/>
                </a:cubicBezTo>
                <a:cubicBezTo>
                  <a:pt x="736" y="2489"/>
                  <a:pt x="1003" y="2736"/>
                  <a:pt x="1202" y="2929"/>
                </a:cubicBezTo>
                <a:cubicBezTo>
                  <a:pt x="1401" y="3122"/>
                  <a:pt x="1573" y="3250"/>
                  <a:pt x="1747" y="3405"/>
                </a:cubicBezTo>
                <a:cubicBezTo>
                  <a:pt x="1921" y="3560"/>
                  <a:pt x="2148" y="3783"/>
                  <a:pt x="2246" y="3859"/>
                </a:cubicBezTo>
                <a:cubicBezTo>
                  <a:pt x="2344" y="3935"/>
                  <a:pt x="2168" y="3988"/>
                  <a:pt x="2336" y="3859"/>
                </a:cubicBezTo>
                <a:cubicBezTo>
                  <a:pt x="2504" y="3730"/>
                  <a:pt x="2994" y="3316"/>
                  <a:pt x="3255" y="3087"/>
                </a:cubicBezTo>
                <a:cubicBezTo>
                  <a:pt x="3516" y="2858"/>
                  <a:pt x="3671" y="2729"/>
                  <a:pt x="3903" y="2487"/>
                </a:cubicBezTo>
                <a:cubicBezTo>
                  <a:pt x="4135" y="2245"/>
                  <a:pt x="4499" y="1891"/>
                  <a:pt x="4650" y="1636"/>
                </a:cubicBezTo>
                <a:cubicBezTo>
                  <a:pt x="4801" y="1381"/>
                  <a:pt x="4831" y="1171"/>
                  <a:pt x="4808" y="956"/>
                </a:cubicBezTo>
                <a:cubicBezTo>
                  <a:pt x="4785" y="741"/>
                  <a:pt x="4688" y="494"/>
                  <a:pt x="4514" y="343"/>
                </a:cubicBezTo>
                <a:cubicBezTo>
                  <a:pt x="4340" y="192"/>
                  <a:pt x="4003" y="94"/>
                  <a:pt x="3765" y="49"/>
                </a:cubicBezTo>
                <a:cubicBezTo>
                  <a:pt x="3527" y="4"/>
                  <a:pt x="3329" y="0"/>
                  <a:pt x="3087" y="75"/>
                </a:cubicBezTo>
                <a:cubicBezTo>
                  <a:pt x="2845" y="150"/>
                  <a:pt x="2475" y="413"/>
                  <a:pt x="2314" y="502"/>
                </a:cubicBezTo>
                <a:close/>
              </a:path>
            </a:pathLst>
          </a:custGeom>
          <a:solidFill>
            <a:srgbClr val="e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rcRect l="49006" t="0" r="0" b="0"/>
          <a:stretch/>
        </p:blipFill>
        <p:spPr>
          <a:xfrm>
            <a:off x="6477120" y="3124080"/>
            <a:ext cx="1855800" cy="3143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"/>
          <p:cNvPicPr/>
          <p:nvPr/>
        </p:nvPicPr>
        <p:blipFill>
          <a:blip r:embed="rId2"/>
          <a:srcRect l="0" t="0" r="50005" b="0"/>
          <a:stretch/>
        </p:blipFill>
        <p:spPr>
          <a:xfrm>
            <a:off x="4724280" y="3124080"/>
            <a:ext cx="1819440" cy="31435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2515320" y="476280"/>
            <a:ext cx="2861640" cy="5797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ee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da0000"/>
                </a:solidFill>
                <a:latin typeface="黑体"/>
                <a:ea typeface="黑体"/>
              </a:rPr>
              <a:t>平分生命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104 -0.89769 L -0.05104 -0.89769 E">
                                      <p:cBhvr>
                                        <p:cTn id="164" dur="3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153 -1.01667 L -0.22847 -1.01667 E">
                                      <p:cBhvr>
                                        <p:cTn id="166" dur="3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1752480" y="762120"/>
            <a:ext cx="5257800" cy="5040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6019920" y="2819520"/>
            <a:ext cx="2260440" cy="2065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2"/>
          <a:stretch/>
        </p:blipFill>
        <p:spPr>
          <a:xfrm>
            <a:off x="1143000" y="1905120"/>
            <a:ext cx="5029200" cy="200664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1676520" y="213372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我懂得了平分生命的意思了，男孩真是一个好哥哥</a:t>
            </a:r>
            <a:r>
              <a:rPr b="1" lang="zh-CN" sz="3200" spc="-1" strike="noStrike">
                <a:solidFill>
                  <a:srgbClr val="6600cc"/>
                </a:solidFill>
                <a:latin typeface="宋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WordArt 4"/>
          <p:cNvSpPr txBox="1"/>
          <p:nvPr/>
        </p:nvSpPr>
        <p:spPr>
          <a:xfrm>
            <a:off x="2819520" y="1371600"/>
            <a:ext cx="3924360" cy="247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楷体_GB2312"/>
              </a:rPr>
              <a:t>下课了</a:t>
            </a:r>
            <a:endParaRPr b="0" lang="en-US" sz="5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>
    <p:zoom dir="out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6400800" cy="26352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5715000" y="457200"/>
            <a:ext cx="3075120" cy="2533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2"/>
          <a:stretch/>
        </p:blipFill>
        <p:spPr>
          <a:xfrm>
            <a:off x="6705720" y="3352680"/>
            <a:ext cx="1224000" cy="1700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"/>
          <p:cNvPicPr/>
          <p:nvPr/>
        </p:nvPicPr>
        <p:blipFill>
          <a:blip r:embed="rId3"/>
          <a:stretch/>
        </p:blipFill>
        <p:spPr>
          <a:xfrm>
            <a:off x="1219320" y="1920960"/>
            <a:ext cx="5257800" cy="21096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8"/>
          <p:cNvSpPr/>
          <p:nvPr/>
        </p:nvSpPr>
        <p:spPr>
          <a:xfrm>
            <a:off x="1752480" y="22860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Arial"/>
                <a:ea typeface="楷体_GB2312"/>
              </a:rPr>
              <a:t>父母早逝的男孩和妹妹发生了什么事？读课文说一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5257800" y="3886200"/>
            <a:ext cx="1855800" cy="1695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2"/>
          <a:stretch/>
        </p:blipFill>
        <p:spPr>
          <a:xfrm>
            <a:off x="990720" y="3060720"/>
            <a:ext cx="4038480" cy="24289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1447920" y="3505320"/>
            <a:ext cx="289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Arial"/>
                <a:ea typeface="楷体_GB2312"/>
              </a:rPr>
              <a:t>男孩为什么犹豫，他在思考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"/>
          <p:cNvPicPr/>
          <p:nvPr/>
        </p:nvPicPr>
        <p:blipFill>
          <a:blip r:embed="rId3"/>
          <a:stretch/>
        </p:blipFill>
        <p:spPr>
          <a:xfrm>
            <a:off x="685800" y="380880"/>
            <a:ext cx="7924680" cy="23828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4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1523880" y="243828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手术完毕，男孩停止了微笑，声音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颤抖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地问：“</a:t>
            </a:r>
            <a:r>
              <a:rPr b="1" lang="zh-CN" sz="4000" spc="-1" strike="noStrike">
                <a:solidFill>
                  <a:srgbClr val="ff3399"/>
                </a:solidFill>
                <a:latin typeface="Arial"/>
                <a:ea typeface="楷体_GB2312"/>
              </a:rPr>
              <a:t>医生，我还能活多长时间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？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9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458200" cy="52434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990720" y="3809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一动不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685800" y="12952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十分安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1371600" y="106668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ff"/>
                </a:solidFill>
                <a:latin typeface="Arial"/>
                <a:ea typeface="楷体_GB2312"/>
              </a:rPr>
              <a:t>抽血时，男孩静静地在想什么，他为什么向妹妹微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371600" y="28954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Arial"/>
                <a:ea typeface="楷体_GB2312"/>
              </a:rPr>
              <a:t>抽血后，他躺在床上一动不动，心里在想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2209680" y="1143000"/>
            <a:ext cx="3598920" cy="359892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00174757"/>
          <p:cNvPicPr/>
          <p:nvPr/>
        </p:nvPicPr>
        <p:blipFill>
          <a:blip r:embed="rId1"/>
          <a:srcRect l="0" t="0" r="44646" b="51"/>
          <a:stretch/>
        </p:blipFill>
        <p:spPr>
          <a:xfrm>
            <a:off x="2803680" y="1482840"/>
            <a:ext cx="1296720" cy="280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00174757"/>
          <p:cNvPicPr/>
          <p:nvPr/>
        </p:nvPicPr>
        <p:blipFill>
          <a:blip r:embed="rId2"/>
          <a:srcRect l="0" t="0" r="138" b="51"/>
          <a:stretch/>
        </p:blipFill>
        <p:spPr>
          <a:xfrm>
            <a:off x="2801880" y="1467000"/>
            <a:ext cx="2340000" cy="280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00174757"/>
          <p:cNvPicPr/>
          <p:nvPr/>
        </p:nvPicPr>
        <p:blipFill>
          <a:blip r:embed="rId3"/>
          <a:srcRect l="55369" t="0" r="138" b="51"/>
          <a:stretch/>
        </p:blipFill>
        <p:spPr>
          <a:xfrm>
            <a:off x="4100400" y="1500120"/>
            <a:ext cx="1043280" cy="2808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152 0.00301 L -0.11233 0.00301 E">
                                      <p:cBhvr>
                                        <p:cTn id="117" dur="3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587 0.00047 L -0.03559 0.00047 E">
                                      <p:cBhvr>
                                        <p:cTn id="119" dur="3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2255760" y="1839960"/>
            <a:ext cx="36370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黑体"/>
                <a:ea typeface="黑体"/>
              </a:rPr>
              <a:t>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rcRect l="49006" t="0" r="0" b="0"/>
          <a:stretch/>
        </p:blipFill>
        <p:spPr>
          <a:xfrm>
            <a:off x="4037040" y="1838160"/>
            <a:ext cx="1855800" cy="3143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2"/>
          <a:srcRect l="0" t="0" r="50005" b="0"/>
          <a:stretch/>
        </p:blipFill>
        <p:spPr>
          <a:xfrm>
            <a:off x="2254320" y="1838160"/>
            <a:ext cx="1819080" cy="31435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2016720" y="457200"/>
            <a:ext cx="2861640" cy="57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da0000"/>
                </a:solidFill>
                <a:latin typeface="黑体"/>
                <a:ea typeface="黑体"/>
              </a:rPr>
              <a:t>平分生命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28" dur="3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30" dur="3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11-21T11:19:05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