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E1AA-0DD7-4861-9816-33C77299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721-95AA-40F7-8A57-6CCB2736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7015-048B-4F31-96E2-CC1E4A95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922-7678-456D-9B25-7BD68ECE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CDB4-5E63-483E-B5B0-18012B87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9A6-E308-43F2-8766-39490F99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AA4D-FEF0-4B96-B53F-F80AA086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3C09-3DC3-4D1A-9AEE-560E2CF4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746B-B6BB-4A0B-9298-A85EE145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225F-9F05-418B-92C6-6E789881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0911-34B8-4059-B40B-7072705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46F-5839-4016-AD3D-44B6ECB4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0D7B-BA15-4284-AF52-DDF4B43C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CEC3-C567-4C30-97DD-79C3B36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0462-43DC-499C-B6B6-AB0B9C96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AFDE-C5B9-4779-A712-5DB6A01E8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8E9A-0978-47C0-9960-713FDE49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1742-433C-4BA9-8A10-168B9506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B5070-76A7-4F12-A053-3EFE8F0F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C755-4741-4FA3-A982-B6E270EF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341FA-2147-48EC-BF0D-4B77BA50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B002D-8784-40D1-9608-70241F06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84B-5B76-48CB-B87B-6D9E44A3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2390-D0A3-4AC1-939D-C486B1F5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8AB9D-713F-419F-9B7F-CD4436FE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1AB7-4AE6-4F25-9296-FE1E314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E0AF-9A34-45BC-88E3-4B77D693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A3A29-441B-4AB1-BB87-64F4608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5CCE-F6A2-418A-A7B0-6D1391FC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0528-D106-4C1B-901A-503416B3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10004-B14C-4B80-8F3C-46B7ECFA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495D-9439-4650-AE79-3A4B3920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E4C9D-9228-4E6C-8B04-28F27935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376-ED6F-46C3-AB9E-5C1A99ED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D873-54F0-4D6A-95BB-80C3C365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70DB8-3193-49C2-9502-6790DFEA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8B7B0-098F-4097-88E0-2D800AB6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E1C7-9E68-48BA-893C-2F43FA5A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8493-059B-4139-B793-3D277534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1C732-E3F7-411E-90ED-1F4E6362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27A1-95AC-4214-B86A-C9A20D8D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3B70B-589F-495D-B983-2D68B3EA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3011-48F6-4A56-8687-DE8295EC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EBB8A-3764-435E-9180-1790B9A1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E81-2EAD-49E7-86D6-9293C9CA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AEF37-C267-4182-9357-08117D8D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C6D64-E6C4-4163-8846-B42A3BEA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8D25-A56E-4BBE-993B-A6485EA9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D210A-7144-4BF4-A9D6-39AEDFB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0E889-EBF2-47C1-AF32-6DC0D700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9315-901A-42DB-8632-99100B34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8E616-7E2A-4E63-948A-987CDD45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9DDC-8896-43E3-8921-FEFA484F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D5740-565F-48EA-B403-6A5ADC7B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471EF-2260-4A6F-A133-EC852234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908D-608C-4D9B-9B1D-0AC0CE62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03C8-D6B1-4552-A6E5-54AC14AF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11C-CABA-4DE5-8FDD-F944A238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A40C-7A16-49F7-9DDE-5AADF883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88E-DE04-4F63-813B-1F5F45A9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Administrator\Desktop\图片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Users\Administrator\Desktop\{D6FE14A1-1FA3-4ADF-8E93-36847B0589AD}.png"/>
          <p:cNvPicPr/>
          <p:nvPr/>
        </p:nvPicPr>
        <p:blipFill>
          <a:blip r:embed="rId3"/>
          <a:stretch/>
        </p:blipFill>
        <p:spPr>
          <a:xfrm>
            <a:off x="8028000" y="6237360"/>
            <a:ext cx="936720" cy="56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D7E8-CFF2-4192-9CCC-9FC24A0B79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634-E1DA-49ED-AC06-3852514FE0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Users\Administrator\Desktop\图片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Administrator\Desktop\{D6FE14A1-1FA3-4ADF-8E93-36847B0589AD}.png"/>
          <p:cNvPicPr/>
          <p:nvPr/>
        </p:nvPicPr>
        <p:blipFill>
          <a:blip r:embed="rId3"/>
          <a:stretch/>
        </p:blipFill>
        <p:spPr>
          <a:xfrm>
            <a:off x="8101080" y="6210360"/>
            <a:ext cx="934920" cy="56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BD4D-D15B-4D29-9BA4-B3334DB48C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ED9-DB07-4ECA-8CA3-B27F8987C8E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8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B258-986B-47A2-A851-469D41D7AB0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30033"/>
                </a:solidFill>
                <a:latin typeface="Times New Roman"/>
                <a:ea typeface="隶书"/>
              </a:rPr>
              <a:t>赏花</a:t>
            </a:r>
            <a:endParaRPr b="0" lang="en-US" sz="8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499920" y="335160"/>
            <a:ext cx="44859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读课文，把下面的词语补充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（  ）蹒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（  ）名状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光（  ）（  ）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旷（  ）怡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  ）高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  )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喜气（  ）（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057400" y="183600"/>
            <a:ext cx="7543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下面的句子，并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涂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词语造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怎样才能打破这种沉闷的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气氛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气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淡淡的花香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弥漫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了整个车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弥漫：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400800" y="304920"/>
            <a:ext cx="20574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梅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5638680" y="304920"/>
            <a:ext cx="2438640" cy="990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油菜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6768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943600" y="380880"/>
            <a:ext cx="2438280" cy="7621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紫罗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330033"/>
                </a:solidFill>
                <a:latin typeface="Times New Roman"/>
                <a:ea typeface="隶书"/>
              </a:rPr>
              <a:t>读读下列生字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履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蹒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跚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车厢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掸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岔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口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心旷神怡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弥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990033"/>
                </a:solidFill>
                <a:latin typeface="Times New Roman"/>
                <a:ea typeface="华文中宋"/>
              </a:rPr>
              <a:t>思考！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秀子发现了什么？她为什么吃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027400" y="3397320"/>
            <a:ext cx="8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900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217d2"/>
                </a:solidFill>
                <a:latin typeface="Arial"/>
              </a:rPr>
              <a:t>客车中清一色的全是盲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乘客们都坐好了，气氛怎么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217d2"/>
                </a:solidFill>
                <a:latin typeface="Arial"/>
              </a:rPr>
              <a:t>充满了一种难以名状的沉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496600" y="1676520"/>
            <a:ext cx="6045480" cy="36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秀子是怎样打破这种沉闷的气氛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217d2"/>
                </a:solidFill>
                <a:latin typeface="Arial"/>
              </a:rPr>
              <a:t>他决定为盲人们当一回特别向导，路过的地方都生动的给做介绍</a:t>
            </a:r>
            <a:r>
              <a:rPr b="0" lang="zh-CN" sz="3200" spc="-1" strike="noStrike">
                <a:solidFill>
                  <a:srgbClr val="1217d2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14600" y="9140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Times New Roman"/>
                <a:ea typeface="幼圆"/>
              </a:rPr>
              <a:t>      </a:t>
            </a:r>
            <a:r>
              <a:rPr b="0" lang="zh-CN" sz="4200" spc="-1" strike="noStrike">
                <a:solidFill>
                  <a:srgbClr val="ff0000"/>
                </a:solidFill>
                <a:latin typeface="Times New Roman"/>
                <a:ea typeface="幼圆"/>
              </a:rPr>
              <a:t>学习了这篇课文你有什么感受？我们应该怎么做？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362320" y="26668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32952"/>
                </a:solidFill>
                <a:latin typeface="Arial"/>
                <a:ea typeface="华文新魏"/>
              </a:rPr>
              <a:t>我们要正确地看待残疾人，他们由于身体上的不健全，已经给他们带来了很多的不方便，我们不应该看不起残疾人，而是应该伸出我们的援助之手，让他们感觉到我们的世界是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0-17T11:30:5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