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BFEC-7EBC-4C97-8E91-C07521E65B1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4D58-BF27-4E87-8A81-EE02C1D477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B7A5-BD04-4D63-A94D-67D34E0EF3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1FE-6C28-48C4-89ED-4B24D4A62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0728-B7E1-43A0-8CED-C97F2B74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449-CD76-44B1-AF5B-614A11BD0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62A-2833-492F-8D71-FB1E47AB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CB2C-AC4A-43B5-841E-21C7765D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2E60-8A10-4042-BE0C-C3DED6A1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7769-7120-4828-AF6D-99D52D4E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C7E0-C542-4B31-97DD-1C2E0F0F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642-4B9F-4FB8-B9F0-4A2C51FA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18C2-6DFA-42EE-8CE4-E9E9694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96C6-298F-4A0C-93C3-C6D0B131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BFD-56E5-4E50-879A-561D6148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FF45-CB16-4D51-912D-B9C96173F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news.pub.house365.com/njestate/system/2010/05/17/010110946_02.shtm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514600" y="457200"/>
            <a:ext cx="42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皮    巧   根    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H:\皮巧根桥\图片9--钢架皮巧根桥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图片8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85840" y="5030640"/>
            <a:ext cx="68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人们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不约而同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地管这座桥叫“皮巧根桥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图片3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24000" y="2602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0c2c"/>
                </a:solidFill>
                <a:latin typeface="宋体"/>
              </a:rPr>
              <a:t>木  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51800" y="537516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可这座桥还叫“皮巧根桥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图片4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228600" y="83808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e0c2c"/>
                </a:solidFill>
                <a:latin typeface="宋体"/>
              </a:rPr>
              <a:t>大  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71360" y="4267080"/>
            <a:ext cx="87440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可人们还是喜欢叫它的老名字——“皮巧根桥”，并且谁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没想过，这座桥还可以叫另外的什么名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57160" y="1839600"/>
            <a:ext cx="751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什么后来有了新桥，人们还是照样喜欢叫“皮巧根桥？”小组内交流汇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1063800" y="1066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2411640" y="114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颁奖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978360" y="1981080"/>
            <a:ext cx="320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他用他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的身躯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的双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为人们搭建一座既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又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的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正是他让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的人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的人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的人有了近便的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他因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将永远被人们所铭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42720" y="760320"/>
            <a:ext cx="846900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建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9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周年前夕，中国喜创出世界“最”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世界一次建成线路里程最长、技术标准最高的京沪高铁全线通车；是世界首座六线高速铁路大桥，中国桥梁用钢达到国际一流水平 。全长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9.273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公里、设计时速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公里的南京大胜关长江大桥是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世界上首座六线高速铁路大桥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，同时也是京沪高铁全线技术含量最高的控制性工程。其长度相当于两座南京长江大桥加上一座武汉长江大桥，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体量、荷载、跨度、速度均创造了世界高速铁路桥梁之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800440" y="228600"/>
            <a:ext cx="26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力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16464306023588965921"/>
          <p:cNvPicPr/>
          <p:nvPr/>
        </p:nvPicPr>
        <p:blipFill>
          <a:blip r:embed="rId1"/>
          <a:stretch/>
        </p:blipFill>
        <p:spPr>
          <a:xfrm>
            <a:off x="900000" y="476280"/>
            <a:ext cx="5472360" cy="400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4827809770041030213"/>
          <p:cNvPicPr/>
          <p:nvPr/>
        </p:nvPicPr>
        <p:blipFill>
          <a:blip r:embed="rId2"/>
          <a:stretch/>
        </p:blipFill>
        <p:spPr>
          <a:xfrm>
            <a:off x="611280" y="404640"/>
            <a:ext cx="6840360" cy="4464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684360" y="501336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011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日，首列正式运营的京沪高铁列车从北京南站驶出，开往上海。当日，京沪高铁正式开通运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大胜关长江大桥 京沪高铁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0464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93" name="WordArt 6"/>
          <p:cNvSpPr txBox="1"/>
          <p:nvPr/>
        </p:nvSpPr>
        <p:spPr>
          <a:xfrm>
            <a:off x="3059280" y="333360"/>
            <a:ext cx="5113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+mn-ea"/>
              </a:rPr>
              <a:t>南京大胜关长江大桥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+mn-ea"/>
              <a:ea typeface="+mn-e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11280" y="1482840"/>
            <a:ext cx="7705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195640" y="162720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京沪高铁全线技术含量最高的控制性工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77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0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77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95280" y="1413000"/>
            <a:ext cx="813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要求：画出本课要求认识的生字，注意读准字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考：皮巧根是个怎样的孩子？皮巧根是怎样架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人们有了新桥，还是那样喜欢叫“皮巧根桥”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827280" y="6858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040" y="914400"/>
            <a:ext cx="8496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陡峭     水流湍急   朽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陡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山势高而陡峻，比喻不平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本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指河岸坡度很大，直上直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朽烂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腐烂，腐朽。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906480"/>
            <a:ext cx="763272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声不响：没有一点声音 ，指做事谨慎不张扬，或默默无闻，不为别人知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水流湍急：江河水的流速急，势头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不约而同：事先没有约定而彼此的看法或行动完全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74872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快速默读课文，了解课文内容。想想课文写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感悟：讲了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宋体"/>
              </a:rPr>
              <a:t>（         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了能抄近路去上学，在</a:t>
            </a:r>
            <a:r>
              <a:rPr b="1" lang="zh-CN" sz="3200" spc="-1" strike="noStrike">
                <a:solidFill>
                  <a:srgbClr val="ffc000"/>
                </a:solidFill>
                <a:latin typeface="宋体"/>
              </a:rPr>
              <a:t>（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宋体"/>
              </a:rPr>
              <a:t>爷爷）    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帮助下，在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宋体"/>
              </a:rPr>
              <a:t>（              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河面架了座桥，柳树桥渐渐朽烂，后来逐渐建起了好些点的桥，可人们还是喜欢叫他们的老名字——“</a:t>
            </a:r>
            <a:r>
              <a:rPr b="1" lang="zh-CN" sz="3200" spc="-1" strike="noStrike" u="sng">
                <a:solidFill>
                  <a:srgbClr val="333399"/>
                </a:solidFill>
                <a:uFillTx/>
                <a:latin typeface="宋体"/>
              </a:rPr>
              <a:t>（                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4290120" y="126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皮巧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4436640" y="19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水流湍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309672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皮巧根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28560" y="11080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）朗读感悟，深入了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组内合作学习、讨论交流自学情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、皮巧根为什么要架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图片2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454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324000" y="478800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　</a:t>
            </a:r>
            <a:r>
              <a:rPr b="1" lang="zh-CN" sz="5400" spc="-1" strike="noStrike">
                <a:solidFill>
                  <a:srgbClr val="0033cc"/>
                </a:solidFill>
                <a:latin typeface="Arial"/>
                <a:ea typeface="黑体"/>
              </a:rPr>
              <a:t>　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小河两岸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陡峭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水流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湍急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，要跳过去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很不容易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himes.wav"/>
      </p:stSnd>
    </p:sndAc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面对上学路途艰难的问题，皮巧根是怎么做的？在文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划出相关的句子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磨斧—砍树—把大树架在河—砍光柳枝—加栏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11280" y="170028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要砍倒一棵柳树可真不容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763640" y="40291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323440" y="2708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要把树枝砍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403280" y="213372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   )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374520" y="270828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可真不容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374520" y="364644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可真不容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414440" y="36464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在木头两边加上栏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03120" y="3664080"/>
            <a:ext cx="592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                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538240" y="2421000"/>
            <a:ext cx="213588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Arial"/>
              </a:rPr>
              <a:t>●            ●              ●              ●              ●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395320" y="3355920"/>
            <a:ext cx="213588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Arial"/>
              </a:rPr>
              <a:t>●            ●              ●              ●              ●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5395320" y="4276800"/>
            <a:ext cx="2135880" cy="13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00"/>
                </a:solidFill>
                <a:latin typeface="Arial"/>
              </a:rPr>
              <a:t>●            ●              ●              ●              ●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  <p:sndAc>
      <p:stSnd>
        <p:snd r:embed="rId1" name="type.wav"/>
      </p:stSnd>
    </p:sndAc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20:17Z</dcterms:created>
  <dc:creator>island</dc:creator>
  <dc:description/>
  <dc:language>en-US</dc:language>
  <cp:lastModifiedBy>Administrator</cp:lastModifiedBy>
  <dcterms:modified xsi:type="dcterms:W3CDTF">2015-10-23T01:39:04Z</dcterms:modified>
  <cp:revision>54</cp:revision>
  <dc:subject/>
  <dc:title>幻灯片 1</dc:title>
</cp:coreProperties>
</file>