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5675-879C-4988-B53C-6111CDE5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E8F-2CB7-468B-A9A0-DA37B253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BC8-A6F5-41B0-86A0-8921E326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54FB-6A74-48FD-935F-E65D342D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55C2-72CA-4450-99E2-9497B1AE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EBF1-0E5A-4277-9263-9A20CFCA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7EA6-DE87-40D3-8902-D8238264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9B10-5A27-4B3B-B383-C414F7BB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D411-F085-4AD4-B634-9249A658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E3C-9E5C-4101-9195-57E0AA6D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EC8C-D73D-45CD-A79F-5C49382E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5D69-CB65-461D-99BE-A8A59337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A4E9-9C8C-4159-9118-4ED1C2640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4" descr="未命名.jpg"/>
          <p:cNvPicPr/>
          <p:nvPr/>
        </p:nvPicPr>
        <p:blipFill>
          <a:blip r:embed="rId1"/>
          <a:stretch/>
        </p:blipFill>
        <p:spPr>
          <a:xfrm>
            <a:off x="0" y="838080"/>
            <a:ext cx="8915400" cy="6019920"/>
          </a:xfrm>
          <a:prstGeom prst="rect">
            <a:avLst/>
          </a:prstGeom>
          <a:ln w="0">
            <a:noFill/>
          </a:ln>
        </p:spPr>
      </p:pic>
      <p:sp>
        <p:nvSpPr>
          <p:cNvPr id="44" name="矩形 5"/>
          <p:cNvSpPr/>
          <p:nvPr/>
        </p:nvSpPr>
        <p:spPr>
          <a:xfrm>
            <a:off x="6629400" y="457200"/>
            <a:ext cx="99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特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6629400" y="2666880"/>
            <a:ext cx="99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的作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03)"/>
                                      </p:to>
                                    </p:set>
                                    <p:set>
                                      <p:cBhvr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03)"/>
                                      </p:to>
                                    </p:set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52280" y="175212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默读课文，思考老师布置了这么一个特别的作业，同学们都是怎么完成的呢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1187280" y="1700280"/>
            <a:ext cx="58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嗬，小朋友的课桌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用水碗盛的紫丁香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放在铅笔盒里的杨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插在瓶子里的柳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装在塑料袋里的青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271160" y="3141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271160" y="36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1187280" y="2637000"/>
            <a:ext cx="4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271160" y="220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5293800" y="3645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455480" y="4436280"/>
            <a:ext cx="42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有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......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有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...... 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有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......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有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..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3008160" y="907200"/>
            <a:ext cx="26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个人该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展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己的作业了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1">
            <a:hlinkClick r:id="" action="ppaction://hlinkshowjump?jump=nextslide"/>
          </p:cNvPr>
          <p:cNvSpPr/>
          <p:nvPr/>
        </p:nvSpPr>
        <p:spPr>
          <a:xfrm>
            <a:off x="7596360" y="5877000"/>
            <a:ext cx="1042920" cy="611280"/>
          </a:xfrm>
          <a:custGeom>
            <a:avLst/>
            <a:gdLst>
              <a:gd name="textAreaLeft" fmla="*/ 39600 w 1042920"/>
              <a:gd name="textAreaRight" fmla="*/ 1003320 w 1042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36843" h="21600">
                <a:moveTo>
                  <a:pt x="0" y="0"/>
                </a:moveTo>
                <a:lnTo>
                  <a:pt x="36843" y="0"/>
                </a:lnTo>
                <a:lnTo>
                  <a:pt x="36843" y="21600"/>
                </a:lnTo>
                <a:lnTo>
                  <a:pt x="0" y="21600"/>
                </a:lnTo>
                <a:close/>
              </a:path>
              <a:path fill="lightenLess" w="36843" h="21600">
                <a:moveTo>
                  <a:pt x="0" y="0"/>
                </a:moveTo>
                <a:lnTo>
                  <a:pt x="36843" y="0"/>
                </a:lnTo>
                <a:lnTo>
                  <a:pt x="35443" y="1400"/>
                </a:lnTo>
                <a:lnTo>
                  <a:pt x="1400" y="1400"/>
                </a:lnTo>
                <a:close/>
              </a:path>
              <a:path fill="darken" w="36843" h="21600">
                <a:moveTo>
                  <a:pt x="36843" y="0"/>
                </a:moveTo>
                <a:lnTo>
                  <a:pt x="36843" y="21600"/>
                </a:lnTo>
                <a:lnTo>
                  <a:pt x="35443" y="20200"/>
                </a:lnTo>
                <a:lnTo>
                  <a:pt x="35443" y="1400"/>
                </a:lnTo>
                <a:close/>
              </a:path>
              <a:path fill="darkenLess" w="36843" h="21600">
                <a:moveTo>
                  <a:pt x="36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3" y="20200"/>
                </a:lnTo>
                <a:close/>
              </a:path>
              <a:path fill="lighten" w="36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3" h="21600">
                <a:moveTo>
                  <a:pt x="11415" y="3794"/>
                </a:moveTo>
                <a:lnTo>
                  <a:pt x="25428" y="10800"/>
                </a:lnTo>
                <a:lnTo>
                  <a:pt x="1141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907640" y="5197320"/>
            <a:ext cx="23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……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什么意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228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d8a"/>
                </a:solidFill>
                <a:latin typeface="楷体"/>
                <a:ea typeface="楷体"/>
              </a:rPr>
              <a:t>             </a:t>
            </a:r>
            <a:r>
              <a:rPr b="1" lang="en-US" sz="4800" spc="-1" strike="noStrike">
                <a:solidFill>
                  <a:srgbClr val="2d2d8a"/>
                </a:solidFill>
                <a:latin typeface="楷体"/>
                <a:ea typeface="楷体"/>
              </a:rPr>
              <a:t>   </a:t>
            </a:r>
            <a:r>
              <a:rPr b="1" lang="zh-CN" sz="5400" spc="-1" strike="noStrike">
                <a:solidFill>
                  <a:srgbClr val="2d2d8a"/>
                </a:solidFill>
                <a:latin typeface="楷体"/>
                <a:ea typeface="楷体"/>
              </a:rPr>
              <a:t>嗬，小朋友的课桌上，有用水碗盛的紫丁香，有放在铅笔盒里的扬花，有插在瓶子里的柳枝，有装在塑料袋里的青草</a:t>
            </a:r>
            <a:r>
              <a:rPr b="1" lang="en-US" sz="5400" spc="-1" strike="noStrike">
                <a:solidFill>
                  <a:srgbClr val="2d2d8a"/>
                </a:solidFill>
                <a:latin typeface="楷体"/>
                <a:ea typeface="楷体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2644920" y="4191120"/>
            <a:ext cx="347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宋体"/>
              </a:rPr>
              <a:t>有  </a:t>
            </a:r>
            <a:r>
              <a:rPr b="1" lang="en-US" sz="4800" spc="-1" strike="noStrike">
                <a:solidFill>
                  <a:srgbClr val="c00000"/>
                </a:solidFill>
                <a:latin typeface="宋体"/>
              </a:rPr>
              <a:t>…… </a:t>
            </a:r>
            <a:r>
              <a:rPr b="1" lang="zh-CN" sz="4800" spc="-1" strike="noStrike">
                <a:solidFill>
                  <a:srgbClr val="c00000"/>
                </a:solidFill>
                <a:latin typeface="宋体"/>
              </a:rPr>
              <a:t>有</a:t>
            </a:r>
            <a:r>
              <a:rPr b="1" lang="en-US" sz="4800" spc="-1" strike="noStrike">
                <a:solidFill>
                  <a:srgbClr val="c00000"/>
                </a:solidFill>
                <a:latin typeface="宋体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>
            <a:hlinkClick r:id="" action="ppaction://hlinkshowjump?jump=nextslide"/>
          </p:cNvPr>
          <p:cNvSpPr/>
          <p:nvPr/>
        </p:nvSpPr>
        <p:spPr>
          <a:xfrm>
            <a:off x="914400" y="47242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丽的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495680" y="472428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龙的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>
            <a:hlinkClick r:id="" action="ppaction://hlinkshowjump?jump=nextslide"/>
          </p:cNvPr>
          <p:cNvSpPr/>
          <p:nvPr/>
        </p:nvSpPr>
        <p:spPr>
          <a:xfrm>
            <a:off x="7596360" y="5877000"/>
            <a:ext cx="1042920" cy="611280"/>
          </a:xfrm>
          <a:custGeom>
            <a:avLst/>
            <a:gdLst>
              <a:gd name="textAreaLeft" fmla="*/ 39600 w 1042920"/>
              <a:gd name="textAreaRight" fmla="*/ 1003320 w 1042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36843" h="21600">
                <a:moveTo>
                  <a:pt x="0" y="0"/>
                </a:moveTo>
                <a:lnTo>
                  <a:pt x="36843" y="0"/>
                </a:lnTo>
                <a:lnTo>
                  <a:pt x="36843" y="21600"/>
                </a:lnTo>
                <a:lnTo>
                  <a:pt x="0" y="21600"/>
                </a:lnTo>
                <a:close/>
              </a:path>
              <a:path fill="lightenLess" w="36843" h="21600">
                <a:moveTo>
                  <a:pt x="0" y="0"/>
                </a:moveTo>
                <a:lnTo>
                  <a:pt x="36843" y="0"/>
                </a:lnTo>
                <a:lnTo>
                  <a:pt x="35443" y="1400"/>
                </a:lnTo>
                <a:lnTo>
                  <a:pt x="1400" y="1400"/>
                </a:lnTo>
                <a:close/>
              </a:path>
              <a:path fill="darken" w="36843" h="21600">
                <a:moveTo>
                  <a:pt x="36843" y="0"/>
                </a:moveTo>
                <a:lnTo>
                  <a:pt x="36843" y="21600"/>
                </a:lnTo>
                <a:lnTo>
                  <a:pt x="35443" y="20200"/>
                </a:lnTo>
                <a:lnTo>
                  <a:pt x="35443" y="1400"/>
                </a:lnTo>
                <a:close/>
              </a:path>
              <a:path fill="darkenLess" w="36843" h="21600">
                <a:moveTo>
                  <a:pt x="36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3" y="20200"/>
                </a:lnTo>
                <a:close/>
              </a:path>
              <a:path fill="lighten" w="36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3" h="21600">
                <a:moveTo>
                  <a:pt x="11415" y="3794"/>
                </a:moveTo>
                <a:lnTo>
                  <a:pt x="25428" y="10800"/>
                </a:lnTo>
                <a:lnTo>
                  <a:pt x="1141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33520" y="60948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最喜欢谁的作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她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交了什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请在文中用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____”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画出来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并和你的同桌说一说为什么最喜欢他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她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交的作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有什么特别之处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09480" y="380880"/>
            <a:ext cx="8153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丽的桌子上只有一幅画，画的是一朵盛开的玉兰花。同桌的玲玲问：“小丽，你找到的春天呢？”小丽指指桌子上的画说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就是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周围的同学都奇怪地想：画能代表春天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小丽说：“昨天，我在公园里，看到玉兰花开了，刚想摘一朵，就看到了‘爱护花木’的牌子。我回家画了这朵玉兰花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老师听了，赞许地点了点头，说：“小丽做得对！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>
            <a:hlinkClick r:id="" action="ppaction://hlinkshowjump?jump=previousslide"/>
          </p:cNvPr>
          <p:cNvSpPr/>
          <p:nvPr/>
        </p:nvSpPr>
        <p:spPr>
          <a:xfrm>
            <a:off x="7596360" y="5877000"/>
            <a:ext cx="1042920" cy="611280"/>
          </a:xfrm>
          <a:custGeom>
            <a:avLst/>
            <a:gdLst>
              <a:gd name="textAreaLeft" fmla="*/ 39600 w 1042920"/>
              <a:gd name="textAreaRight" fmla="*/ 1003320 w 1042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36843" h="21600">
                <a:moveTo>
                  <a:pt x="0" y="0"/>
                </a:moveTo>
                <a:lnTo>
                  <a:pt x="36843" y="0"/>
                </a:lnTo>
                <a:lnTo>
                  <a:pt x="36843" y="21600"/>
                </a:lnTo>
                <a:lnTo>
                  <a:pt x="0" y="21600"/>
                </a:lnTo>
                <a:close/>
              </a:path>
              <a:path fill="lightenLess" w="36843" h="21600">
                <a:moveTo>
                  <a:pt x="0" y="0"/>
                </a:moveTo>
                <a:lnTo>
                  <a:pt x="36843" y="0"/>
                </a:lnTo>
                <a:lnTo>
                  <a:pt x="35443" y="1400"/>
                </a:lnTo>
                <a:lnTo>
                  <a:pt x="1400" y="1400"/>
                </a:lnTo>
                <a:close/>
              </a:path>
              <a:path fill="darken" w="36843" h="21600">
                <a:moveTo>
                  <a:pt x="36843" y="0"/>
                </a:moveTo>
                <a:lnTo>
                  <a:pt x="36843" y="21600"/>
                </a:lnTo>
                <a:lnTo>
                  <a:pt x="35443" y="20200"/>
                </a:lnTo>
                <a:lnTo>
                  <a:pt x="35443" y="1400"/>
                </a:lnTo>
                <a:close/>
              </a:path>
              <a:path fill="darkenLess" w="36843" h="21600">
                <a:moveTo>
                  <a:pt x="36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3" y="20200"/>
                </a:lnTo>
                <a:close/>
              </a:path>
              <a:path fill="lighten" w="36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3" h="21600">
                <a:moveTo>
                  <a:pt x="11415" y="3794"/>
                </a:moveTo>
                <a:lnTo>
                  <a:pt x="25428" y="10800"/>
                </a:lnTo>
                <a:lnTo>
                  <a:pt x="1141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762120" y="281952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昨天，我在公园里，看到玉兰花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了，刚想摘一朵，就看到了‘爱护花木’的牌子。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回家画了这朵玉兰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5440" y="4572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周围的同学都奇怪地想：</a:t>
            </a:r>
            <a:r>
              <a:rPr b="1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画，能代表春天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1066680" y="25909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老师听了，赞许地点了点头，说：小丽做得对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pageindex_r_1"/>
          <p:cNvPicPr/>
          <p:nvPr/>
        </p:nvPicPr>
        <p:blipFill>
          <a:blip r:embed="rId1"/>
          <a:stretch/>
        </p:blipFill>
        <p:spPr>
          <a:xfrm>
            <a:off x="539640" y="476280"/>
            <a:ext cx="2376720" cy="100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900000" y="54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332000" y="3817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>
            <a:hlinkClick r:id="" action="ppaction://hlinkshowjump?jump=nextslide"/>
          </p:cNvPr>
          <p:cNvSpPr/>
          <p:nvPr/>
        </p:nvSpPr>
        <p:spPr>
          <a:xfrm>
            <a:off x="7956720" y="5734080"/>
            <a:ext cx="647640" cy="485640"/>
          </a:xfrm>
          <a:prstGeom prst="rightArrow">
            <a:avLst>
              <a:gd name="adj1" fmla="val 50000"/>
              <a:gd name="adj2" fmla="val 333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195640" y="2131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340000" y="1773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qí  guà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奇   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611800" y="3429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周围的同学都奇怪地想：画能代表春天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448640" y="4221000"/>
            <a:ext cx="63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奇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990360" y="-146520"/>
            <a:ext cx="8001000" cy="685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默读课文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4---7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自然段，讨论：听了小丽的话，于老师为什么赞许地点了点头，说小丽做的对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50"/>
                </a:solidFill>
                <a:latin typeface="Arial"/>
              </a:rPr>
              <a:t>小组合作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先各自默读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---10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自然段，然后小组讨论交流自己对小龙的看法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你觉得小龙的作业怎么样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609480" y="152280"/>
            <a:ext cx="82296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龙的桌子上放着一只盒子，透过一层玻璃纸，一只胖乎乎的小蜜蜂在嗡嗡地扇动着翅膀。老师指着盒子问小龙：“这是你找到的春天吗？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小龙回答说：“是的。我想，等展示完了，我就放掉它，让它去采花蜜。”</a:t>
            </a:r>
            <a:br>
              <a:rPr sz="2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956720" y="57340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62005328101555"/>
          <p:cNvPicPr/>
          <p:nvPr/>
        </p:nvPicPr>
        <p:blipFill>
          <a:blip r:embed="rId1"/>
          <a:stretch/>
        </p:blipFill>
        <p:spPr>
          <a:xfrm>
            <a:off x="7467480" y="3352680"/>
            <a:ext cx="152424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04920" y="68580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置 项 嗬 插玻 璃 嗡      翅 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340000" y="4086360"/>
            <a:ext cx="4824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（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昨（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2286000" y="510552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做（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24000" y="2997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比一比，做一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1295280" y="1295280"/>
            <a:ext cx="640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你们的作业都完成得很好，大家都找到了春天。”老师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满意地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笑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7956720" y="57340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62005328101555"/>
          <p:cNvPicPr/>
          <p:nvPr/>
        </p:nvPicPr>
        <p:blipFill>
          <a:blip r:embed="rId1"/>
          <a:stretch/>
        </p:blipFill>
        <p:spPr>
          <a:xfrm>
            <a:off x="7020000" y="1125360"/>
            <a:ext cx="1523880" cy="8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pageindex_r_1"/>
          <p:cNvPicPr/>
          <p:nvPr/>
        </p:nvPicPr>
        <p:blipFill>
          <a:blip r:embed="rId1"/>
          <a:stretch/>
        </p:blipFill>
        <p:spPr>
          <a:xfrm>
            <a:off x="539640" y="476280"/>
            <a:ext cx="2376720" cy="100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900000" y="54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1332000" y="3817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>
            <a:hlinkClick r:id="" action="ppaction://hlinkshowjump?jump=nextslide"/>
          </p:cNvPr>
          <p:cNvSpPr/>
          <p:nvPr/>
        </p:nvSpPr>
        <p:spPr>
          <a:xfrm>
            <a:off x="7956720" y="5734080"/>
            <a:ext cx="647640" cy="485640"/>
          </a:xfrm>
          <a:prstGeom prst="rightArrow">
            <a:avLst>
              <a:gd name="adj1" fmla="val 50000"/>
              <a:gd name="adj2" fmla="val 333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195640" y="2131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2627280" y="1557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mǎn yì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满  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3532680" y="3357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老师满意地笑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448640" y="4221000"/>
            <a:ext cx="63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满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8080" y="914040"/>
            <a:ext cx="74678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楷体"/>
                <a:ea typeface="楷体"/>
              </a:rPr>
              <a:t>   </a:t>
            </a:r>
            <a:r>
              <a:rPr b="1" lang="en-US" sz="4800" spc="-1" strike="noStrike">
                <a:solidFill>
                  <a:srgbClr val="008000"/>
                </a:solidFill>
                <a:latin typeface="楷体"/>
                <a:ea typeface="楷体"/>
              </a:rPr>
              <a:t>    </a:t>
            </a:r>
            <a:r>
              <a:rPr b="1" lang="zh-CN" sz="6000" spc="-1" strike="noStrike">
                <a:solidFill>
                  <a:srgbClr val="008000"/>
                </a:solidFill>
                <a:latin typeface="楷体"/>
                <a:ea typeface="楷体"/>
              </a:rPr>
              <a:t>如果老师也布置这样一个作业</a:t>
            </a:r>
            <a:r>
              <a:rPr b="1" lang="en-US" sz="6000" spc="-1" strike="noStrike">
                <a:solidFill>
                  <a:srgbClr val="008000"/>
                </a:solidFill>
                <a:latin typeface="楷体"/>
                <a:ea typeface="楷体"/>
              </a:rPr>
              <a:t>——</a:t>
            </a:r>
            <a:r>
              <a:rPr b="1" lang="zh-CN" sz="6000" spc="-1" strike="noStrike">
                <a:solidFill>
                  <a:srgbClr val="008000"/>
                </a:solidFill>
                <a:latin typeface="楷体"/>
                <a:ea typeface="楷体"/>
              </a:rPr>
              <a:t>把春天带到学校里来，你会有什么特别的表现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97e1e461c95b989f8fb10d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DSC001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news_20041224105627"/>
          <p:cNvPicPr/>
          <p:nvPr/>
        </p:nvPicPr>
        <p:blipFill>
          <a:blip r:embed="rId1"/>
          <a:stretch/>
        </p:blipFill>
        <p:spPr>
          <a:xfrm>
            <a:off x="-984240" y="0"/>
            <a:ext cx="10128240" cy="73152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-677880" y="1409760"/>
            <a:ext cx="776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37"/>
          <p:cNvPicPr/>
          <p:nvPr/>
        </p:nvPicPr>
        <p:blipFill>
          <a:blip r:embed="rId2"/>
          <a:srcRect l="0" t="0" r="659" b="3799"/>
          <a:stretch/>
        </p:blipFill>
        <p:spPr>
          <a:xfrm>
            <a:off x="-390600" y="260280"/>
            <a:ext cx="9077400" cy="6597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2340000" y="1197000"/>
            <a:ext cx="374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yù  lá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玉  兰  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826920" y="5570640"/>
            <a:ext cx="489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红红的桃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W020110228675987221167"/>
          <p:cNvPicPr/>
          <p:nvPr/>
        </p:nvPicPr>
        <p:blipFill>
          <a:blip r:embed="rId1"/>
          <a:stretch/>
        </p:blipFill>
        <p:spPr>
          <a:xfrm>
            <a:off x="179280" y="26028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da418e1cd32dd2e74bedbc63"/>
          <p:cNvPicPr/>
          <p:nvPr/>
        </p:nvPicPr>
        <p:blipFill>
          <a:blip r:embed="rId2"/>
          <a:stretch/>
        </p:blipFill>
        <p:spPr>
          <a:xfrm>
            <a:off x="755640" y="44136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d9aaba15ae44b82dcb80c462"/>
          <p:cNvPicPr/>
          <p:nvPr/>
        </p:nvPicPr>
        <p:blipFill>
          <a:blip r:embed="rId3"/>
          <a:stretch/>
        </p:blipFill>
        <p:spPr>
          <a:xfrm>
            <a:off x="1258920" y="655560"/>
            <a:ext cx="4464000" cy="3349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a7775e0ce423add3aa645797"/>
          <p:cNvPicPr/>
          <p:nvPr/>
        </p:nvPicPr>
        <p:blipFill>
          <a:blip r:embed="rId4"/>
          <a:stretch/>
        </p:blipFill>
        <p:spPr>
          <a:xfrm>
            <a:off x="1692360" y="836640"/>
            <a:ext cx="5083200" cy="3603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20090323_eabe5f9084a591df8a3f9YYk0nvweA7j"/>
          <p:cNvPicPr/>
          <p:nvPr/>
        </p:nvPicPr>
        <p:blipFill>
          <a:blip r:embed="rId5"/>
          <a:stretch/>
        </p:blipFill>
        <p:spPr>
          <a:xfrm>
            <a:off x="2268360" y="1052640"/>
            <a:ext cx="4824720" cy="3857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78ed1fdea1d7c6d177c63885"/>
          <p:cNvPicPr/>
          <p:nvPr/>
        </p:nvPicPr>
        <p:blipFill>
          <a:blip r:embed="rId6"/>
          <a:stretch/>
        </p:blipFill>
        <p:spPr>
          <a:xfrm>
            <a:off x="0" y="-236520"/>
            <a:ext cx="9468000" cy="709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3034801_160704003179_2"/>
          <p:cNvPicPr/>
          <p:nvPr/>
        </p:nvPicPr>
        <p:blipFill>
          <a:blip r:embed="rId1"/>
          <a:srcRect l="0" t="0" r="1564" b="5557"/>
          <a:stretch/>
        </p:blipFill>
        <p:spPr>
          <a:xfrm>
            <a:off x="-298440" y="0"/>
            <a:ext cx="9594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2143271_122130005_2"/>
          <p:cNvPicPr/>
          <p:nvPr/>
        </p:nvPicPr>
        <p:blipFill>
          <a:blip r:embed="rId1"/>
          <a:srcRect l="0" t="7078" r="0" b="0"/>
          <a:stretch/>
        </p:blipFill>
        <p:spPr>
          <a:xfrm>
            <a:off x="-298440" y="380880"/>
            <a:ext cx="9747360" cy="66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爱护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457200" y="152280"/>
            <a:ext cx="80773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布</a:t>
            </a:r>
            <a:r>
              <a:rPr b="1" lang="zh-CN" sz="72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置</a:t>
            </a:r>
            <a:r>
              <a:rPr b="1" lang="zh-CN" sz="7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一项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插花   玻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嗡嗡  翅膀  展示   摘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爱护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-907920" y="2239920"/>
            <a:ext cx="10432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人人爱好草，空气环境好。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草有生命，脚下多留情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推荐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440" y="1600200"/>
            <a:ext cx="762012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用你喜欢的方式：表达出你对一个小的动物、一个季节、一棵小草，甚至是对爸爸妈妈、同学们的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836000" y="2565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水碗盛的紫丁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pageindex_r_1"/>
          <p:cNvPicPr/>
          <p:nvPr/>
        </p:nvPicPr>
        <p:blipFill>
          <a:blip r:embed="rId1"/>
          <a:stretch/>
        </p:blipFill>
        <p:spPr>
          <a:xfrm>
            <a:off x="539640" y="476280"/>
            <a:ext cx="2376720" cy="100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900000" y="54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258920" y="1773360"/>
            <a:ext cx="18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鲜花盛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640520" y="383868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扇子       电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693080" y="4653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扇动着翅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>
            <a:hlinkClick r:id="" action="ppaction://hlinkshowjump?jump=nextslide"/>
          </p:cNvPr>
          <p:cNvSpPr/>
          <p:nvPr/>
        </p:nvSpPr>
        <p:spPr>
          <a:xfrm>
            <a:off x="7956720" y="5734080"/>
            <a:ext cx="647640" cy="485640"/>
          </a:xfrm>
          <a:prstGeom prst="rightArrow">
            <a:avLst>
              <a:gd name="adj1" fmla="val 50000"/>
              <a:gd name="adj2" fmla="val 333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1910160" y="1433520"/>
            <a:ext cx="11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è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2197440" y="2152800"/>
            <a:ext cx="11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é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1333800" y="344952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2989440" y="344952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1332000" y="4292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2413440" y="2565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2053080" y="1773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3132720" y="3789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1405440" y="4653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1405440" y="3789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688000" cy="4653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3513600" y="602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布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3276720" y="2997360"/>
            <a:ext cx="504720" cy="502920"/>
          </a:xfrm>
          <a:custGeom>
            <a:avLst/>
            <a:gdLst>
              <a:gd name="textAreaLeft" fmla="*/ 208080 w 504720"/>
              <a:gd name="textAreaRight" fmla="*/ 296640 w 504720"/>
              <a:gd name="textAreaTop" fmla="*/ 207360 h 502920"/>
              <a:gd name="textAreaBottom" fmla="*/ 29556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2987640" y="3933720"/>
            <a:ext cx="504720" cy="503280"/>
          </a:xfrm>
          <a:custGeom>
            <a:avLst/>
            <a:gdLst>
              <a:gd name="textAreaLeft" fmla="*/ 208080 w 504720"/>
              <a:gd name="textAreaRight" fmla="*/ 296640 w 50472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5292720" y="3716280"/>
            <a:ext cx="504720" cy="503280"/>
          </a:xfrm>
          <a:custGeom>
            <a:avLst/>
            <a:gdLst>
              <a:gd name="textAreaLeft" fmla="*/ 208080 w 504720"/>
              <a:gd name="textAreaRight" fmla="*/ 296640 w 50472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5292720" y="1268280"/>
            <a:ext cx="504720" cy="503280"/>
          </a:xfrm>
          <a:custGeom>
            <a:avLst/>
            <a:gdLst>
              <a:gd name="textAreaLeft" fmla="*/ 208080 w 504720"/>
              <a:gd name="textAreaRight" fmla="*/ 296640 w 50472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5724360" y="5157720"/>
            <a:ext cx="505080" cy="503280"/>
          </a:xfrm>
          <a:custGeom>
            <a:avLst/>
            <a:gdLst>
              <a:gd name="textAreaLeft" fmla="*/ 208080 w 505080"/>
              <a:gd name="textAreaRight" fmla="*/ 297000 w 50508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4249440" y="3933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项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4305960" y="270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插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3524400" y="4508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嗡嗡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5016240" y="5157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4089960" y="328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扇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2843280" y="1773360"/>
            <a:ext cx="30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水碗盛的紫丁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6">
            <a:hlinkClick r:id="" action="ppaction://hlinkshowjump?jump=nextslide"/>
          </p:cNvPr>
          <p:cNvSpPr/>
          <p:nvPr/>
        </p:nvSpPr>
        <p:spPr>
          <a:xfrm>
            <a:off x="8028000" y="6165720"/>
            <a:ext cx="900000" cy="538200"/>
          </a:xfrm>
          <a:custGeom>
            <a:avLst/>
            <a:gdLst>
              <a:gd name="textAreaLeft" fmla="*/ 34560 w 900000"/>
              <a:gd name="textAreaRight" fmla="*/ 865440 w 900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6111" h="21600">
                <a:moveTo>
                  <a:pt x="0" y="0"/>
                </a:moveTo>
                <a:lnTo>
                  <a:pt x="36111" y="0"/>
                </a:lnTo>
                <a:lnTo>
                  <a:pt x="36111" y="21600"/>
                </a:lnTo>
                <a:lnTo>
                  <a:pt x="0" y="21600"/>
                </a:lnTo>
                <a:close/>
              </a:path>
              <a:path fill="lightenLess" w="36111" h="21600">
                <a:moveTo>
                  <a:pt x="0" y="0"/>
                </a:moveTo>
                <a:lnTo>
                  <a:pt x="36111" y="0"/>
                </a:lnTo>
                <a:lnTo>
                  <a:pt x="34711" y="1400"/>
                </a:lnTo>
                <a:lnTo>
                  <a:pt x="1400" y="1400"/>
                </a:lnTo>
                <a:close/>
              </a:path>
              <a:path fill="darken" w="36111" h="21600">
                <a:moveTo>
                  <a:pt x="36111" y="0"/>
                </a:moveTo>
                <a:lnTo>
                  <a:pt x="36111" y="21600"/>
                </a:lnTo>
                <a:lnTo>
                  <a:pt x="34711" y="20200"/>
                </a:lnTo>
                <a:lnTo>
                  <a:pt x="34711" y="1400"/>
                </a:lnTo>
                <a:close/>
              </a:path>
              <a:path fill="darkenLess" w="36111" h="21600">
                <a:moveTo>
                  <a:pt x="361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711" y="20200"/>
                </a:lnTo>
                <a:close/>
              </a:path>
              <a:path fill="lighten" w="361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111" h="21600">
                <a:moveTo>
                  <a:pt x="11049" y="3794"/>
                </a:moveTo>
                <a:lnTo>
                  <a:pt x="25062" y="10800"/>
                </a:lnTo>
                <a:lnTo>
                  <a:pt x="1104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3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457200" y="137160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留下一项（    ）的作业：（                     ）第二天，大家纷纷交来了（          ），小丽带来的是  （           ），小龙带来的是（          ）受到大家的称赞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990720" y="45720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这篇课文讲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5220000" y="1371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特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/>
          <p:cNvSpPr/>
          <p:nvPr/>
        </p:nvSpPr>
        <p:spPr>
          <a:xfrm>
            <a:off x="2107440" y="20574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宋体"/>
              </a:rPr>
              <a:t>把找到的春天带到教室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9"/>
          <p:cNvSpPr/>
          <p:nvPr/>
        </p:nvSpPr>
        <p:spPr>
          <a:xfrm>
            <a:off x="5499000" y="2590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宋体"/>
              </a:rPr>
              <a:t>自己的作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0"/>
          <p:cNvSpPr/>
          <p:nvPr/>
        </p:nvSpPr>
        <p:spPr>
          <a:xfrm>
            <a:off x="5647680" y="3276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宋体"/>
              </a:rPr>
              <a:t>一幅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1"/>
          <p:cNvSpPr/>
          <p:nvPr/>
        </p:nvSpPr>
        <p:spPr>
          <a:xfrm>
            <a:off x="5118120" y="38862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宋体"/>
              </a:rPr>
              <a:t>一只小蜜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4" descr="图片3.png"/>
          <p:cNvPicPr/>
          <p:nvPr/>
        </p:nvPicPr>
        <p:blipFill>
          <a:blip r:embed="rId1"/>
          <a:stretch/>
        </p:blipFill>
        <p:spPr>
          <a:xfrm>
            <a:off x="1600200" y="1219320"/>
            <a:ext cx="1473120" cy="13716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5" descr="图片3.png"/>
          <p:cNvPicPr/>
          <p:nvPr/>
        </p:nvPicPr>
        <p:blipFill>
          <a:blip r:embed="rId2"/>
          <a:stretch/>
        </p:blipFill>
        <p:spPr>
          <a:xfrm>
            <a:off x="1600200" y="3352680"/>
            <a:ext cx="1473120" cy="1371600"/>
          </a:xfrm>
          <a:prstGeom prst="rect">
            <a:avLst/>
          </a:prstGeom>
          <a:ln w="0">
            <a:noFill/>
          </a:ln>
        </p:spPr>
      </p:pic>
      <p:sp>
        <p:nvSpPr>
          <p:cNvPr id="91" name="矩形 6"/>
          <p:cNvSpPr/>
          <p:nvPr/>
        </p:nvSpPr>
        <p:spPr>
          <a:xfrm>
            <a:off x="1676520" y="1143000"/>
            <a:ext cx="175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置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1833120" y="32004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插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709440" y="260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别的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042920" y="2054160"/>
            <a:ext cx="7489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星期，于老师布置了一项作业：到大自然里去找春天，并把找到的春天带到教室里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今天，每个人该展示自己的作品了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嗬，小朋友的课桌上，有用水碗盛的紫丁香，有放在铅笔盒里的杨花，有插在瓶子里的柳枝，有装在塑料袋里的青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丽的桌子上只有一幅画，画的是一朵盛开的玉兰花。同桌的玲玲问：“小丽，你找到的春天呢？”小丽指指桌子上的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就是！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周围的同学都奇怪地想：画能代表春天吗？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丽说：“昨天，我在公园里，看到玉兰花开了，刚想摘一朵，就看到了‘爱护花木’的牌子。我回家画了这朵玉兰花。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老师听了，赞许地点了点头，说：“小丽做得对！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⑧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龙的桌子上放着一只盒子，透过一层玻璃纸，一只胖乎乎的小蜜蜂在嗡嗡地扇动着翅膀。老师指着盒子问小龙：“这是你找到的春天吗？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龙回答说：“是的。我想，等展示完了，我就放掉它，让它去采花蜜。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你们的作业都完成得很好，大家都找到了春天。”老师满意地笑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>
            <a:hlinkClick r:id="" action="ppaction://hlinkshowjump?jump=nextslide"/>
          </p:cNvPr>
          <p:cNvSpPr/>
          <p:nvPr/>
        </p:nvSpPr>
        <p:spPr>
          <a:xfrm>
            <a:off x="8317080" y="616572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3794"/>
                </a:moveTo>
                <a:lnTo>
                  <a:pt x="23260" y="10800"/>
                </a:lnTo>
                <a:lnTo>
                  <a:pt x="924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685800" y="990720"/>
            <a:ext cx="777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上星期，于老师布置了一项作业：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</a:rPr>
              <a:t>到大自然里去找春天，并把找到的春天带到教室里。</a:t>
            </a:r>
            <a:br>
              <a:rPr sz="36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7667640" y="5661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Bonny</cp:lastModifiedBy>
  <dcterms:modified xsi:type="dcterms:W3CDTF">2015-10-09T17:06:53Z</dcterms:modified>
  <cp:revision>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