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DD9E-2AEA-4DB3-B1AF-59B96E72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9B8-D648-47BB-A049-BAF7EBD0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D229-F5E6-4772-AEC0-78CA8038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9198-F09F-4D59-A1C6-720B388A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D98C-1CED-4C58-B2F6-1FA7FED4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229F-EC68-4A74-BC5C-53CE95D0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1603-74E1-4DDB-9DA3-C19FFE0E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834-58F2-4D19-8465-79653585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4B56-68A6-4091-8AFA-BE241748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4098-77AF-4926-BA81-79D2BC56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2F0-563B-45BE-857A-A367071A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F758-0458-4344-8F57-1BEA688C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1A0A-106F-4E24-A1A4-C5D8947B1F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63640" y="1773360"/>
            <a:ext cx="597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Arial"/>
              </a:rPr>
              <a:t>3</a:t>
            </a:r>
            <a:r>
              <a:rPr b="1" lang="zh-CN" sz="6600" spc="-1" strike="noStrike">
                <a:solidFill>
                  <a:srgbClr val="800080"/>
                </a:solidFill>
                <a:latin typeface="Arial"/>
              </a:rPr>
              <a:t>、父亲的叮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353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看了看我的习作，走到我旁边，俯下身来审视了一下讲台上的杨桃，然后走到教室中央，高举起我的习作，和颜悦色地问：“这幅写生，画得像什么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314172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的神情变得有点儿严肃，半晌，又问道：“画杨桃画成了‘五角星’，好笑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22880" y="177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和颜悦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99800" y="3141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严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5013360"/>
            <a:ext cx="72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老师神情严肃是因为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__________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，还因为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____________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71640" y="549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看着这一切，我的耳边仿佛又想起父亲的叮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4653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无论做人做事都应如此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844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看见对象是怎样的，就得把它画成怎样，不要想当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3213000"/>
            <a:ext cx="76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是的，父亲的教诲使我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一生受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这道理自然不仅在画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37520" y="5373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实事求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1965960"/>
            <a:ext cx="82090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岑桑，生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广东顺德人，我国当代著名作家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毕业于中山大学社会学系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参加工作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当选中国作家协会广东分会副主席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开始发表作品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加入中国作家协会。著有散文集《当你还是一朵花》、《在大海那边》、《岑桑散文选》，诗集《眼睛和橄榄》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余种。评论集《美的追寻》获第二届广东鲁迅文学奖，《岑桑作品选》获首届冰心儿童图书奖等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岑桑说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：“多年来，我一直脚踏实地，实事求是地做人、做事，这是从小老师、父亲对我的教诲。几十年来在文学上我留下的只有几行脚印，那些浅浅的脚印随着时间的流逝，便将不留半点痕迹了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42920" y="1413000"/>
            <a:ext cx="68407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叮嘱：再三嘱咐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面面相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觑：看。你看我，我看你，形容大家因惊惧或无可奈何而互相望着，都不说话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16000" y="321300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捧腹大笑 开怀大笑 傻笑 窃笑 苦笑 眉开眼笑 哄堂大笑 嬉皮笑脸 笑盈盈…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76500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摘录文中描写“笑”的词语。你还能再写几个吗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87040" y="21528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哈哈大笑   嘻嘻哈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0661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折号的作用：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释说明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音延长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转折或递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227664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唯有那几个笑得最厉害的不知好歹，答道：“好——笑——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88000" y="2781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声音延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3784680"/>
            <a:ext cx="77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不要按想像中的去画呢？这时，我想起了父亲的叮嘱——你看见对象是怎样的，就得把它画成怎样，不要想当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7640" y="4653000"/>
            <a:ext cx="191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解释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积累语句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看见对象是怎样的，就得把它画成怎样，不要想当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人做事都要实事求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00000" y="191628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看见对象是怎样的，就得把它画成怎样，不要想当然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400536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实事求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340000" y="515772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组合作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025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学字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棱角    半晌     面面相觑      模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叮嘱    想当然    轮廓    教诲    不知好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一写，记一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棱   觑   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面面相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借助提示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一次图画课上，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同学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老师（先、然后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师的教育让我再次想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那就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549360"/>
            <a:ext cx="763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中几次提到了父亲的叮嘱？父亲的叮嘱分别是在什么情况下出现的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515772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70828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我”害病在家，父亲教我画素描时，总是叮嘱“我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4200" y="378936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画杨桃的时候，“我”想起父亲的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458136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看着老师教育几个同学，“我”又一次想起父亲的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1700280"/>
            <a:ext cx="7920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在画杨桃时心情是非常矛盾的，如实照画吧，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想像中的去画吧，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32360" y="3860640"/>
            <a:ext cx="38098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4360" y="1267200"/>
            <a:ext cx="78483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在写生课上把杨桃画成了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是因为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还因为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284720" y="3429000"/>
            <a:ext cx="38098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836640"/>
            <a:ext cx="83516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嘻嘻，杨桃是这个样子的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倒不如说是五角星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幅写生，画得像什么？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像五角星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画杨桃画成了‘五角星’，好笑吗？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好——笑——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看看杨桃，像你平时想像的模样吗？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不……像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像什么？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像 ……五角星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64360" y="4005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87640" y="4508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620640"/>
            <a:ext cx="835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嘻嘻，杨桃是这个样子的？”一个同学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_____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地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倒不如说是五角星……”另几个同学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_____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地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幅写生，画得像什么？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像五角星！”同学们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________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地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画杨桃画成了‘五角星’，好笑吗？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好——笑——”几个同学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_______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地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看看杨桃，像你平时想像的模样吗？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不……像。”刚才还面面相觑的同学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________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地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像什么？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像 ……五角星。” 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______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地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88000" y="765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哈哈大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27640" y="1268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笑作一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20500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假思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3284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嘲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4720" y="5300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结结巴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6000" y="5805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迟迟疑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4175280" cy="3840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716360" y="4076640"/>
            <a:ext cx="3810240" cy="2629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76360" y="4869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五棱杨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5-08-05T20:06:36Z</dcterms:modified>
  <cp:revision>0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