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A87A5-C51D-435A-BDDC-7D34C65F1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2B742-B388-43A5-AC48-DB3FC16BA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C0B9C-9D26-44B9-9E4C-CF5D89230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A74EE-0059-46EF-BDA8-6EA4DB68C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9BA47-F753-4A88-ABBC-C0ED51B9E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C5441-D308-4AB3-BFDF-8431F20F3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B74EE-837D-480E-A1A1-9DE7A8ADE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073BE-0022-4F84-B4FC-0342E160E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2B108-E9A3-43CD-9CA1-1BD42032C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3DF4D-5F57-402B-BDB4-340D97509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4264C-5AF0-4986-BBD2-90EE97028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4223F-EF6C-4F21-94B9-056E43616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13209-3FCE-4197-8C58-D08FAED912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3716280"/>
            <a:ext cx="91440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700" spc="-1" strike="noStrike">
                <a:solidFill>
                  <a:srgbClr val="ff3300"/>
                </a:solidFill>
                <a:latin typeface="方正少儿_GBK"/>
                <a:ea typeface="方正少儿_GBK"/>
              </a:rPr>
              <a:t>家 乡 的 桥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6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桥7"/>
          <p:cNvPicPr/>
          <p:nvPr/>
        </p:nvPicPr>
        <p:blipFill>
          <a:blip r:embed="rId1"/>
          <a:stretch/>
        </p:blipFill>
        <p:spPr>
          <a:xfrm>
            <a:off x="826920" y="981000"/>
            <a:ext cx="7772400" cy="518472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桥8"/>
          <p:cNvPicPr/>
          <p:nvPr/>
        </p:nvPicPr>
        <p:blipFill>
          <a:blip r:embed="rId1"/>
          <a:stretch/>
        </p:blipFill>
        <p:spPr>
          <a:xfrm>
            <a:off x="0" y="333360"/>
            <a:ext cx="9144000" cy="580860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5720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Arial"/>
              </a:rPr>
              <a:t>          </a:t>
            </a:r>
            <a:r>
              <a:rPr b="1" lang="zh-CN" sz="2000" spc="-1" strike="noStrike">
                <a:solidFill>
                  <a:srgbClr val="00ff00"/>
                </a:solidFill>
                <a:latin typeface="楷体_GB2312"/>
                <a:ea typeface="楷体_GB2312"/>
              </a:rPr>
              <a:t>元宝桥、骆驼桥是人们根据它们不同的形状叫出来的；而震龙桥、娘娘桥就跟民间传说有关系了；至于如意桥，是从唐朝诗人王维的诗句</a:t>
            </a:r>
            <a:r>
              <a:rPr b="1" lang="zh-CN" sz="2000" spc="-1" strike="noStrike">
                <a:solidFill>
                  <a:srgbClr val="f7f35b"/>
                </a:solidFill>
                <a:latin typeface="Arial"/>
                <a:ea typeface="楷体_GB2312"/>
              </a:rPr>
              <a:t>“</a:t>
            </a:r>
            <a:r>
              <a:rPr b="1" lang="zh-CN" sz="2000" spc="-1" strike="noStrike" u="sng">
                <a:solidFill>
                  <a:srgbClr val="f7f35b"/>
                </a:solidFill>
                <a:uFillTx/>
                <a:latin typeface="楷体_GB2312"/>
                <a:ea typeface="楷体_GB2312"/>
              </a:rPr>
              <a:t>流水如有意，暮禽相与还</a:t>
            </a:r>
            <a:r>
              <a:rPr b="1" lang="zh-CN" sz="2000" spc="-1" strike="noStrike">
                <a:solidFill>
                  <a:srgbClr val="f7f35b"/>
                </a:solidFill>
                <a:latin typeface="Arial"/>
                <a:ea typeface="楷体_GB2312"/>
              </a:rPr>
              <a:t>”</a:t>
            </a:r>
            <a:r>
              <a:rPr b="1" lang="zh-CN" sz="2000" spc="-1" strike="noStrike">
                <a:solidFill>
                  <a:srgbClr val="00ff00"/>
                </a:solidFill>
                <a:latin typeface="楷体_GB2312"/>
                <a:ea typeface="楷体_GB2312"/>
              </a:rPr>
              <a:t>中</a:t>
            </a:r>
            <a:r>
              <a:rPr b="1" lang="zh-CN" sz="2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撷取</a:t>
            </a:r>
            <a:r>
              <a:rPr b="1" lang="zh-CN" sz="2000" spc="-1" strike="noStrike">
                <a:solidFill>
                  <a:srgbClr val="00ff00"/>
                </a:solidFill>
                <a:latin typeface="楷体_GB2312"/>
                <a:ea typeface="楷体_GB2312"/>
              </a:rPr>
              <a:t>来的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人们根据桥的不同形状叫出来的是元宝桥、骆驼桥；跟民间传说有关系的是震龙桥、娘娘桥；从唐朝诗人王维的诗句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流水如有意，暮禽相与还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撷取来的是如意桥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1476360" y="1038240"/>
            <a:ext cx="727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Sylfaen"/>
                <a:ea typeface="楷体_GB2312"/>
              </a:rPr>
              <a:t>家乡小桥的</a:t>
            </a:r>
            <a:r>
              <a:rPr b="1" lang="zh-CN" sz="2000" spc="-1" strike="noStrike">
                <a:solidFill>
                  <a:srgbClr val="00ff00"/>
                </a:solidFill>
                <a:latin typeface="Sylfaen"/>
                <a:ea typeface="楷体_GB2312"/>
              </a:rPr>
              <a:t>名称</a:t>
            </a:r>
            <a:r>
              <a:rPr b="1" lang="zh-CN" sz="2000" spc="-1" strike="noStrike">
                <a:solidFill>
                  <a:srgbClr val="000000"/>
                </a:solidFill>
                <a:latin typeface="Sylfaen"/>
                <a:ea typeface="楷体_GB2312"/>
              </a:rPr>
              <a:t>也美极了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6"/>
          <p:cNvSpPr/>
          <p:nvPr/>
        </p:nvSpPr>
        <p:spPr>
          <a:xfrm>
            <a:off x="4648320" y="533520"/>
            <a:ext cx="4103640" cy="1800000"/>
          </a:xfrm>
          <a:prstGeom prst="wedgeEllipseCallout">
            <a:avLst>
              <a:gd name="adj1" fmla="val -132592"/>
              <a:gd name="adj2" fmla="val 9038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流水也好像有情有意的一样，在傍晚的时候和鸟儿一起回来了</a:t>
            </a:r>
            <a:r>
              <a:rPr b="0" lang="zh-CN" sz="1800" spc="-1" strike="noStrike">
                <a:solidFill>
                  <a:srgbClr val="009999"/>
                </a:solidFill>
                <a:latin typeface="Arial"/>
              </a:rPr>
              <a:t>。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5" dur="8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4,-64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6" dur="8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4,-64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" dur="8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0" dur="8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4,-64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1" dur="8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4,-64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" dur="8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2"/>
          <p:cNvSpPr/>
          <p:nvPr/>
        </p:nvSpPr>
        <p:spPr>
          <a:xfrm>
            <a:off x="2231280" y="1066680"/>
            <a:ext cx="1630080" cy="427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归崇山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（王维）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清川带长薄，车马去闲闲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流水如有意，暮禽相与还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荒城临古渡，落日满秋山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iáo dì sōng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迢递嵩高下，归来且闭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2"/>
          <p:cNvSpPr/>
          <p:nvPr/>
        </p:nvSpPr>
        <p:spPr>
          <a:xfrm>
            <a:off x="1974240" y="0"/>
            <a:ext cx="5484240" cy="61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震龙桥”的传说</a:t>
            </a:r>
            <a:br>
              <a:rPr sz="2000"/>
            </a:br>
            <a:br>
              <a:rPr sz="2000"/>
            </a:b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　　从前，有一条金色的游龙，名叫“震”，大家都叫它“震龙”。</a:t>
            </a:r>
            <a:br>
              <a:rPr sz="2000"/>
            </a:b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   　有一天，“震龙”在天上一边游，以便俯视大地。他发现许多人家生活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贫苦，吃不饱，穿不暖，连个吃饭的桌椅都没有。“震龙”心想：唉，玉帝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儿过这么富裕的生活，穿的衣服是用金丝镶成的，吃的菜都是上等菜肴，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的碟子也是金碟子，睡觉的床，坐的椅子更别提了，多是上好的材料打造的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可是，他却不顾老百姓，只顾自己花天酒地，真是不应该。于是，“震龙”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掏出玉帝给他的龙珠，这龙珠可是个无价之宝啊！“震龙”把龙珠分给了贫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的老百姓，老百姓对“震龙”心怀感激。</a:t>
            </a:r>
            <a:br>
              <a:rPr sz="2000"/>
            </a:b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      谁知，玉帝得知“震龙”把龙珠分给老百姓后，脸色大变，大声喝道：“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胆游龙，竟敢无视天规，将仙中之宝分给凡人，该当何罪！”一个嫉妒“震龙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的大臣添油加醋地说：“震龙罪该万死，罪该万死啊！”玉帝一怒之下便将“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龙”斩首。</a:t>
            </a:r>
            <a:br>
              <a:rPr sz="2000"/>
            </a:b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   地上的老百姓听说“震龙”被害，无不伤痛欲绝。决定为纪念“震龙”造一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桥，但苦于没有钱。孙悟空得知后，再次闹上天庭，为“震龙”讨个说法。当初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孙悟空大闹天空，玉帝已领教过孙悟空的厉害，这次见孙悟空再次闹上天庭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立马答应了孙悟空的请求，拨下银两造桥纪念“震龙”。</a:t>
            </a:r>
            <a:br>
              <a:rPr sz="2000"/>
            </a:br>
            <a:br>
              <a:rPr sz="2000"/>
            </a:b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　　从此，就有了“震龙桥”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4" descr="ybq"/>
          <p:cNvPicPr/>
          <p:nvPr/>
        </p:nvPicPr>
        <p:blipFill>
          <a:blip r:embed="rId1"/>
          <a:stretch/>
        </p:blipFill>
        <p:spPr>
          <a:xfrm>
            <a:off x="3924360" y="260280"/>
            <a:ext cx="1511280" cy="25192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5" descr="qsq"/>
          <p:cNvPicPr/>
          <p:nvPr/>
        </p:nvPicPr>
        <p:blipFill>
          <a:blip r:embed="rId2"/>
          <a:stretch/>
        </p:blipFill>
        <p:spPr>
          <a:xfrm>
            <a:off x="6948360" y="3716280"/>
            <a:ext cx="1541520" cy="26640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6" descr="ryq"/>
          <p:cNvPicPr/>
          <p:nvPr/>
        </p:nvPicPr>
        <p:blipFill>
          <a:blip r:embed="rId3"/>
          <a:stretch/>
        </p:blipFill>
        <p:spPr>
          <a:xfrm>
            <a:off x="3844800" y="3645000"/>
            <a:ext cx="1447920" cy="26654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7" descr="zlq"/>
          <p:cNvPicPr/>
          <p:nvPr/>
        </p:nvPicPr>
        <p:blipFill>
          <a:blip r:embed="rId4"/>
          <a:stretch/>
        </p:blipFill>
        <p:spPr>
          <a:xfrm>
            <a:off x="6948360" y="260280"/>
            <a:ext cx="1541520" cy="26640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8" descr="nnq"/>
          <p:cNvPicPr/>
          <p:nvPr/>
        </p:nvPicPr>
        <p:blipFill>
          <a:blip r:embed="rId5"/>
          <a:stretch/>
        </p:blipFill>
        <p:spPr>
          <a:xfrm>
            <a:off x="826920" y="189000"/>
            <a:ext cx="1441440" cy="26636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9" descr="ltq"/>
          <p:cNvPicPr/>
          <p:nvPr/>
        </p:nvPicPr>
        <p:blipFill>
          <a:blip r:embed="rId6"/>
          <a:stretch/>
        </p:blipFill>
        <p:spPr>
          <a:xfrm>
            <a:off x="900000" y="3573360"/>
            <a:ext cx="1463760" cy="2665440"/>
          </a:xfrm>
          <a:prstGeom prst="rect">
            <a:avLst/>
          </a:prstGeom>
          <a:ln w="0">
            <a:noFill/>
          </a:ln>
        </p:spPr>
      </p:pic>
      <p:sp>
        <p:nvSpPr>
          <p:cNvPr id="77" name="Text Box 10"/>
          <p:cNvSpPr/>
          <p:nvPr/>
        </p:nvSpPr>
        <p:spPr>
          <a:xfrm>
            <a:off x="4258800" y="2833560"/>
            <a:ext cx="72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99"/>
                </a:solidFill>
                <a:latin typeface="华文仿宋"/>
                <a:ea typeface="华文仿宋"/>
              </a:rPr>
              <a:t>隶书</a:t>
            </a:r>
            <a:r>
              <a:rPr b="0" lang="zh-CN" sz="1800" spc="-1" strike="noStrike">
                <a:solidFill>
                  <a:srgbClr val="ff3399"/>
                </a:solidFill>
                <a:latin typeface="华文隶书"/>
                <a:ea typeface="华文隶书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1"/>
          <p:cNvSpPr/>
          <p:nvPr/>
        </p:nvSpPr>
        <p:spPr>
          <a:xfrm>
            <a:off x="1042920" y="6162840"/>
            <a:ext cx="105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99"/>
                </a:solidFill>
                <a:latin typeface="Sylfaen"/>
                <a:ea typeface="华文仿宋"/>
              </a:rPr>
              <a:t>草书</a:t>
            </a:r>
            <a:r>
              <a:rPr b="0" lang="zh-CN" sz="1800" spc="-1" strike="noStrike">
                <a:solidFill>
                  <a:srgbClr val="000000"/>
                </a:solidFill>
                <a:latin typeface="Sylfae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4"/>
          <p:cNvSpPr/>
          <p:nvPr/>
        </p:nvSpPr>
        <p:spPr>
          <a:xfrm>
            <a:off x="1205280" y="2852640"/>
            <a:ext cx="77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99"/>
                </a:solidFill>
                <a:latin typeface="Sylfaen"/>
                <a:ea typeface="华文仿宋"/>
              </a:rPr>
              <a:t>篆书</a:t>
            </a:r>
            <a:r>
              <a:rPr b="0" lang="zh-CN" sz="3200" spc="-1" strike="noStrike">
                <a:solidFill>
                  <a:srgbClr val="ff3399"/>
                </a:solidFill>
                <a:latin typeface="Sylfae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5"/>
          <p:cNvSpPr/>
          <p:nvPr/>
        </p:nvSpPr>
        <p:spPr>
          <a:xfrm>
            <a:off x="7308360" y="285264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99"/>
                </a:solidFill>
                <a:latin typeface="华文仿宋"/>
                <a:ea typeface="华文仿宋"/>
              </a:rPr>
              <a:t>楷书</a:t>
            </a:r>
            <a:r>
              <a:rPr b="0" lang="zh-CN" sz="3200" spc="-1" strike="noStrike">
                <a:solidFill>
                  <a:srgbClr val="ff3399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17"/>
          <p:cNvSpPr/>
          <p:nvPr/>
        </p:nvSpPr>
        <p:spPr>
          <a:xfrm>
            <a:off x="2050920" y="3357720"/>
            <a:ext cx="2016360" cy="720720"/>
          </a:xfrm>
          <a:prstGeom prst="wedgeEllipseCallout">
            <a:avLst>
              <a:gd name="adj1" fmla="val -45199"/>
              <a:gd name="adj2" fmla="val 11079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Sylfaen"/>
                <a:ea typeface="隶书"/>
              </a:rPr>
              <a:t>飘逸潇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18"/>
          <p:cNvSpPr/>
          <p:nvPr/>
        </p:nvSpPr>
        <p:spPr>
          <a:xfrm>
            <a:off x="5076720" y="1341360"/>
            <a:ext cx="2016360" cy="719280"/>
          </a:xfrm>
          <a:prstGeom prst="wedgeEllipseCallout">
            <a:avLst>
              <a:gd name="adj1" fmla="val 49370"/>
              <a:gd name="adj2" fmla="val 130574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Sylfaen"/>
                <a:ea typeface="隶书"/>
              </a:rPr>
              <a:t>刚劲雄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WordArt 2"/>
          <p:cNvSpPr txBox="1"/>
          <p:nvPr/>
        </p:nvSpPr>
        <p:spPr>
          <a:xfrm>
            <a:off x="179280" y="476280"/>
            <a:ext cx="3600720" cy="142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自学指导三：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84" name="Text Box 3"/>
          <p:cNvSpPr/>
          <p:nvPr/>
        </p:nvSpPr>
        <p:spPr>
          <a:xfrm>
            <a:off x="324000" y="2492280"/>
            <a:ext cx="78040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自由读最后一节，说说家乡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桥给作者的童年带来哪些了趣？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中你体会到了作者怎样的情感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整个炎热的夏天，</a:t>
            </a:r>
            <a:r>
              <a:rPr b="1" lang="zh-CN" sz="3200" spc="-1" strike="noStrike">
                <a:solidFill>
                  <a:srgbClr val="00ff00"/>
                </a:solidFill>
                <a:latin typeface="Arial"/>
              </a:rPr>
              <a:t>家乡的桥也成了我们的乐园。我们在桥头下棋、猜谜、讲故事，我们在桥边钓鱼、摸螺蛳，碰得巧，还能从桥洞捉到一对毛蟹呢！实在玩累了，荡一条小船进桥洞，舒展四肢平躺着，那凉悠悠的风，轻轻荡漾的波，转眼就把你送入梦乡</a:t>
            </a:r>
            <a:r>
              <a:rPr b="1" lang="en-US" sz="3200" spc="-1" strike="noStrike">
                <a:solidFill>
                  <a:srgbClr val="00ff00"/>
                </a:solidFill>
                <a:latin typeface="Arial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7" dur="8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4,-64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8" dur="8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4,-64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9" dur="8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宋体"/>
              </a:rPr>
              <a:t>家乡的桥的乐趣多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99720" y="1844640"/>
            <a:ext cx="7697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247012"/>
                </a:solidFill>
                <a:latin typeface="楷体_GB2312"/>
                <a:ea typeface="楷体_GB2312"/>
              </a:rPr>
              <a:t>下棋、猜谜、讲故事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247012"/>
                </a:solidFill>
                <a:latin typeface="楷体_GB2312"/>
                <a:ea typeface="楷体_GB2312"/>
              </a:rPr>
              <a:t>钓鱼、摸螺蛳、捉毛蟹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247012"/>
                </a:solidFill>
                <a:latin typeface="楷体_GB2312"/>
                <a:ea typeface="楷体_GB2312"/>
              </a:rPr>
              <a:t>荡舟进桥洞休息 </a:t>
            </a:r>
            <a:r>
              <a:rPr b="1" lang="en-US" sz="4000" spc="-1" strike="noStrike">
                <a:solidFill>
                  <a:srgbClr val="247012"/>
                </a:solidFill>
                <a:latin typeface="宋体"/>
                <a:ea typeface="楷体_GB2312"/>
              </a:rPr>
              <a:t>…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9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2"/>
          <p:cNvSpPr/>
          <p:nvPr/>
        </p:nvSpPr>
        <p:spPr>
          <a:xfrm>
            <a:off x="611280" y="1125360"/>
            <a:ext cx="7705800" cy="29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想象我们在桥这个乐园里还可以玩什么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   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家乡的桥是我们的乐园，可以（               ），可以（              ）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还可以（                    ）。那是多么有意思呀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WordArt 2"/>
          <p:cNvSpPr txBox="1"/>
          <p:nvPr/>
        </p:nvSpPr>
        <p:spPr>
          <a:xfrm>
            <a:off x="324000" y="404640"/>
            <a:ext cx="3671640" cy="1148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学习目标：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43" name="Text Box 3"/>
          <p:cNvSpPr/>
          <p:nvPr/>
        </p:nvSpPr>
        <p:spPr>
          <a:xfrm>
            <a:off x="250920" y="1844640"/>
            <a:ext cx="84596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理解课文内容，把握课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结构，了解家乡小桥的特点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有感情的朗读课文，感受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南水乡的优美景致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品读课文语言，体会作者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桥、思乡之情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2"/>
          <p:cNvSpPr/>
          <p:nvPr/>
        </p:nvSpPr>
        <p:spPr>
          <a:xfrm>
            <a:off x="1631520" y="1700280"/>
            <a:ext cx="55630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我的故乡在江南，弯弯绕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绕的小河，像一条条血脉，网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布在大地母亲身上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WordArt 2"/>
          <p:cNvSpPr txBox="1"/>
          <p:nvPr/>
        </p:nvSpPr>
        <p:spPr>
          <a:xfrm>
            <a:off x="324000" y="476280"/>
            <a:ext cx="298764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作业超市：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91" name="Text Box 3"/>
          <p:cNvSpPr/>
          <p:nvPr/>
        </p:nvSpPr>
        <p:spPr>
          <a:xfrm>
            <a:off x="468360" y="2349360"/>
            <a:ext cx="79930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积累好词佳句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搜集桥名的传说，想象石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　　的故事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仿照课文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——5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段总分的方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　　写一段话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　　　　　　　　　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任选一题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WordArt 2"/>
          <p:cNvSpPr txBox="1"/>
          <p:nvPr/>
        </p:nvSpPr>
        <p:spPr>
          <a:xfrm>
            <a:off x="324000" y="404640"/>
            <a:ext cx="3671640" cy="1148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自学指导一：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250920" y="1773360"/>
            <a:ext cx="8893080" cy="38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选用自己喜欢的方式读课文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把课文读正确，读流利，遇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不好读的多读几遍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讨论：这篇文章的结构是怎样的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课文从几个方面介绍了家乡的桥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分钟后我最棒！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WordArt 2"/>
          <p:cNvSpPr txBox="1"/>
          <p:nvPr/>
        </p:nvSpPr>
        <p:spPr>
          <a:xfrm>
            <a:off x="395280" y="404640"/>
            <a:ext cx="3745080" cy="12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自学指导二：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47" name="Text Box 3"/>
          <p:cNvSpPr/>
          <p:nvPr/>
        </p:nvSpPr>
        <p:spPr>
          <a:xfrm>
            <a:off x="1455840" y="20667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4"/>
          <p:cNvSpPr/>
          <p:nvPr/>
        </p:nvSpPr>
        <p:spPr>
          <a:xfrm>
            <a:off x="1187280" y="19162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1801800" y="2492280"/>
            <a:ext cx="5130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你对家乡桥的哪个方面最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　兴趣？小组内品读并在旁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　批注你的感受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有感情的朗读你喜欢的段落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1631520" y="1700280"/>
            <a:ext cx="55630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我的故乡在江南，弯弯绕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绕的小河，像一条条血脉，网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布在大地母亲身上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AutoShape 5"/>
          <p:cNvSpPr/>
          <p:nvPr/>
        </p:nvSpPr>
        <p:spPr>
          <a:xfrm flipH="1" flipV="1">
            <a:off x="683280" y="3788640"/>
            <a:ext cx="3384360" cy="2087640"/>
          </a:xfrm>
          <a:prstGeom prst="cloudCallout">
            <a:avLst>
              <a:gd name="adj1" fmla="val -68578"/>
              <a:gd name="adj2" fmla="val 9220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409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小河长，小桥多。桥连接着一户人家与另一户人家。如果提个篮子赶集去，那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不经过八座十座小桥才怪呢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99640" y="4365720"/>
            <a:ext cx="302436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2332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说明家乡的小桥多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" dur="2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过户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003640" y="1773000"/>
            <a:ext cx="3168720" cy="31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最简单的是过户桥，一块长石板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搁（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gē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）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两端，便把两户人家连起来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图片 9" descr="过户桥.jpg"/>
          <p:cNvPicPr/>
          <p:nvPr/>
        </p:nvPicPr>
        <p:blipFill>
          <a:blip r:embed="rId1"/>
          <a:stretch/>
        </p:blipFill>
        <p:spPr>
          <a:xfrm>
            <a:off x="684360" y="1628640"/>
            <a:ext cx="4114800" cy="27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单拱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"/>
          <p:cNvSpPr/>
          <p:nvPr/>
        </p:nvSpPr>
        <p:spPr>
          <a:xfrm>
            <a:off x="4643280" y="1557360"/>
            <a:ext cx="3745080" cy="32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最漂亮最有气派的数圆形单拱桥，桥洞像个大大的圆饼，两边的几十级石阶形成个大“八”字，一对对石狮子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雄赳赳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地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屹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在石柱上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cc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395280" y="5013360"/>
            <a:ext cx="820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ff00"/>
                </a:solidFill>
                <a:latin typeface="Sylfaen"/>
              </a:rPr>
              <a:t>夜里，你撑条小船穿过去，那光景，会使你怀疑是不是进了月亮婆婆的家呢</a:t>
            </a:r>
            <a:r>
              <a:rPr b="1" lang="en-US" sz="2800" spc="-1" strike="noStrike">
                <a:solidFill>
                  <a:srgbClr val="00ff00"/>
                </a:solidFill>
                <a:latin typeface="Sylfaen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8" descr="图片1"/>
          <p:cNvPicPr/>
          <p:nvPr/>
        </p:nvPicPr>
        <p:blipFill>
          <a:blip r:embed="rId1"/>
          <a:stretch/>
        </p:blipFill>
        <p:spPr>
          <a:xfrm>
            <a:off x="324000" y="1268280"/>
            <a:ext cx="4224240" cy="34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5243 -0.32346 C -0.15052 -0.31837 -0.14774 -0.31398 -0.146 -0.30866 C -0.14062 -0.29224 -0.13958 -0.27398 -0.12534 -0.26427 C -0.11336 -0.25594 -0.11927 -0.25941 -0.10798 -0.25363 C -0.096 -0.22751 -0.08975 -0.24045 -0.06823 -0.22612 C -0.05277 -0.21594 -0.03437 -0.21803 -0.01753 -0.21548 C 0.00625 -0.21201 0.03004 -0.20808 0.054 -0.20508 C 0.0592 -0.20369 0.06441 -0.20161 0.06979 -0.20092 C 0.07552 -0.19953 0.0816 -0.20022 0.08733 -0.1986 C 0.09167 -0.19768 0.09549 -0.19329 0.1 -0.19236 C 0.1125 -0.18982 0.12535 -0.18982 0.13802 -0.18797 C 0.14445 -0.18704 0.1507 -0.18542 0.15712 -0.18381 C 0.19844 -0.18589 0.23976 -0.18681 0.28091 -0.19051 C 0.2875 -0.19097 0.29358 -0.19467 0.3 -0.19652 C 0.30886 -0.19883 0.31806 -0.20022 0.32691 -0.203 C 0.33334 -0.20461 0.33959 -0.20739 0.34601 -0.20924 C 0.35382 -0.21155 0.36979 -0.21548 0.36979 -0.21548 C 0.37813 -0.22034 0.40643 -0.23421 0.41111 -0.23883 C 0.4132 -0.24092 0.41493 -0.24415 0.41736 -0.24508 C 0.42674 -0.24855 0.43664 -0.24855 0.44601 -0.25155 C 0.47084 -0.25016 0.49584 -0.2497 0.52066 -0.24716 C 0.53507 -0.24577 0.54688 -0.23213 0.56025 -0.22612 C 0.5691 -0.20993 0.57049 -0.20369 0.58091 -0.19444 C 0.58733 -0.18057 0.59497 -0.16785 0.60157 -0.15421 C 0.60469 -0.14751 0.60643 -0.13987 0.60955 -0.13317 C 0.61181 -0.12068 0.61302 -0.11097 0.61736 -0.09918 C 0.62327 -0.06473 0.61615 -0.09479 0.63021 -0.06334 C 0.63698 -0.04878 0.63368 -0.04831 0.63802 -0.03167 C 0.65157 0.01874 0.63438 -0.05941 0.64601 -0.00415 C 0.64705 0.00718 0.64931 0.01828 0.64914 0.02937 C 0.64879 0.06498 0.64723 0.10013 0.64445 0.13527 C 0.64375 0.14475 0.63473 0.16232 0.63177 0.17134 C 0.62414 0.19354 0.62327 0.20325 0.61111 0.22382 C 0.59757 0.24718 0.61441 0.23284 0.6 0.24325 C 0.5941 0.2555 0.58664 0.26591 0.57934 0.27677 C 0.57466 0.28417 0.57188 0.29365 0.56667 0.30036 C 0.56129 0.30706 0.55539 0.31354 0.5507 0.32117 C 0.55052 0.32163 0.54271 0.3355 0.53959 0.33828 C 0.53403 0.34313 0.52743 0.34544 0.52223 0.35099 C 0.51025 0.36278 0.52205 0.3577 0.50799 0.36163 C 0.49184 0.38221 0.46632 0.39122 0.44601 0.40163 C 0.43438 0.40764 0.41962 0.41088 0.40955 0.42082 C 0.40747 0.4229 0.40556 0.42567 0.40313 0.42706 C 0.39861 0.42937 0.39358 0.42937 0.38889 0.43122 C 0.38264 0.43354 0.37761 0.44001 0.37136 0.44186 C 0.36702 0.44302 0.31754 0.45018 0.3158 0.45018 C 0.2632 0.46752 0.24705 0.46128 0.17934 0.45666 C 0.16927 0.45434 0.15903 0.45342 0.14914 0.45018 C 0.11285 0.43839 0.13334 0.44117 0.10799 0.42891 C 0.10226 0.42637 0.09618 0.42544 0.09045 0.4229 C 0.08334 0.4081 0.06893 0.38891 0.05868 0.37828 C 0.05486 0.3651 0.05434 0.3577 0.04445 0.35099 C 0.0415 0.34059 0.0375 0.33735 0.0349 0.32764 C 0.03195 0.31654 0.03177 0.3096 0.02691 0.30036 C 0.02917 0.28163 0.03056 0.25735 0.04132 0.24325 C 0.04323 0.2407 0.05278 0.2266 0.05712 0.22382 C 0.06111 0.22174 0.06979 0.21966 0.06979 0.21966 C 0.08299 0.20718 0.09827 0.20001 0.11424 0.19677 C 0.12622 0.18845 0.13976 0.18614 0.15243 0.17966 C 0.15973 0.17596 0.17327 0.16325 0.18091 0.16278 C 0.23264 0.15885 0.28455 0.15839 0.33646 0.15654 C 0.35851 0.14359 0.38299 0.13989 0.40625 0.13111 C 0.42066 0.11723 0.4132 0.12278 0.42848 0.11423 C 0.4342 0.10683 0.42952 0.11192 0.43959 0.10567 C 0.44983 0.0992 0.45938 0.09226 0.46979 0.08671 C 0.4783 0.07307 0.4875 0.05874 0.49688 0.04648 C 0.49775 0.04325 0.50139 0.03053 0.50313 0.02729 C 0.50591 0.02197 0.50973 0.01781 0.51268 0.01249 C 0.51407 0.00163 0.51702 -0.00623 0.5191 -0.01687 C 0.51806 -0.02612 0.51823 -0.0356 0.5158 -0.04461 C 0.51389 -0.05109 0.50052 -0.05779 0.49688 -0.05941 C 0.4757 -0.05779 0.45452 -0.05733 0.43334 -0.05479 C 0.41493 -0.05294 0.39653 -0.04184 0.37778 -0.03814 C 0.3191 -0.02612 0.26094 -0.01363 0.20157 -0.00831 C 0.13802 0.0155 0.05625 5.54913E-006 -2.5E-006 5.54913E-006 E">
                                      <p:cBhvr>
                                        <p:cTn id="34" dur="30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图片 3" descr="桥1.png"/>
          <p:cNvPicPr/>
          <p:nvPr/>
        </p:nvPicPr>
        <p:blipFill>
          <a:blip r:embed="rId1"/>
          <a:stretch/>
        </p:blipFill>
        <p:spPr>
          <a:xfrm>
            <a:off x="0" y="763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857240" y="356760"/>
            <a:ext cx="3214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ff3300"/>
                </a:solidFill>
                <a:latin typeface="Arial"/>
              </a:rPr>
              <a:t>想象说话：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643280" y="214200"/>
            <a:ext cx="450072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夜里，你撑条小船穿梭其间，你会听见 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或看见）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———————————————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啊！这情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景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会使你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—————————————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 </dc:creator>
  <dc:description/>
  <cp:keywords/>
  <dc:language>en-US</dc:language>
  <cp:lastModifiedBy>Bonny</cp:lastModifiedBy>
  <dcterms:modified xsi:type="dcterms:W3CDTF">2015-10-16T18:05:07Z</dcterms:modified>
  <cp:revision>3</cp:revision>
  <dc:subject/>
  <dc:title> 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