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DD2-0FD3-4809-A672-D64F4DAE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90F-7122-40C1-B341-40D5BA7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F4B-74D1-4B0F-AB93-47032064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2C4-F1AC-44F6-B769-E58B136F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AAD-D490-4D08-934F-5C262B5F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8F5-2E12-4A34-A460-CFADC665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D96-A957-4B5A-A652-067E3A09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1B5-597F-4CA6-B7A2-C4B163E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1E2-3887-4AB5-BDBF-4DB6863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4F3-B6F0-49D0-98DF-C652F70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9A5-4430-44F3-AF5D-780A154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5BB-0203-479F-B3AF-16BEE994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B7C7-2415-427A-B428-D08D078D7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3" descr=""/>
          <p:cNvPicPr/>
          <p:nvPr/>
        </p:nvPicPr>
        <p:blipFill>
          <a:blip r:embed="rId1"/>
          <a:stretch/>
        </p:blipFill>
        <p:spPr>
          <a:xfrm>
            <a:off x="128520" y="1762200"/>
            <a:ext cx="7624800" cy="227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933480"/>
            <a:ext cx="8280360" cy="36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尽管人不可能永远留住太阳，但人可以比太阳走得快一步，甚至两步、三步。这几步看起来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微不足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但作用却非常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1042920" y="692280"/>
            <a:ext cx="741672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珍惜时间的格言警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、时间就像海绵里的水，只要愿挤，总还是有的。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美黑简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、花有重开日，人无再少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、抛弃时间的人，时间也抛弃他。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美黑简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了今天的课文，你打算怎样留住今天的太阳呢？想一想，自己制定一份小计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写一篇小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684520" y="11430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学要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80440" y="2205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998000" y="2209680"/>
            <a:ext cx="422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由朗读课文，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主要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“留住今天的太阳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为什么要留住今天的太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447920" y="1523880"/>
            <a:ext cx="65516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伫立    山坳    焦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央求    悲戚    慈祥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照例    笑吟吟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旭日东升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方正美黑简体"/>
                <a:ea typeface="方正美黑简体"/>
              </a:rPr>
              <a:t>微不足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63640" y="9079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572000" y="83664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39640" y="1155600"/>
            <a:ext cx="7993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积累表示“直立”的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伫立：长时间地站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矗立：高耸地立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屹立：像山峰一样高耸而稳固地立着，常用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比喻坚定不可动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挺立：直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耸立：高高地直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</a:rPr>
              <a:t>概括课文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课文叙述了一个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的孩子萌生了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的念头。最后在外婆的提示下，他用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这个实际行动留住了今天的太阳，这个方法使他懂得了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的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知道太阳落上并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不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累了，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而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过完了。尽管明天还会旭日东升，但永远不会是今天的太阳。于是，我产生了一个奇怪的念头：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留住今天的太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612720" y="117360"/>
            <a:ext cx="25909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我”想留住太阳的原因</a:t>
            </a:r>
            <a:endParaRPr b="0" lang="en-US" sz="1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埋头做起作业来。当我再一次抬起头来，夕阳还离山峰一张多高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眨巴着眼睛看着外婆，尽管一时还不太明白她的话，但我知道，自己今天的确留住了太阳，因为往日每次做完作业，太阳都下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179280" y="262080"/>
            <a:ext cx="2808360" cy="120168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欣喜和欢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天，我照例对着窗户，边做作业，边望着太阳一步步往山坳里走，心里不只是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焦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还带着几分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悲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541440" y="477720"/>
            <a:ext cx="2303280" cy="129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着急和不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乏了，到山那边去睡觉哩。”外婆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笑吟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将我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搂在怀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说“好孩子，等你长大了，就知道怎样留住太阳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婆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肯定地点点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婆仍是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一脸慈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指指太阳：“你不是已经把它留住了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99320" y="324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神态和动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1T18:10:44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