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C7B-6E02-4B7A-A634-DC9D08B1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928-063B-46C5-96B7-2FF67030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7D7-AEAD-4ADB-8472-AD73A93A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240-2ADD-4A4D-B7D5-602DBF6E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0D3-0BDD-49FF-B5F7-54665E3A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362-969B-4C9C-80AF-9646792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DFD-BB39-48D4-929D-57B0E5F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A24-D15F-45BE-8510-931D883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64E-54E1-40C8-ABD2-587AC52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00D-59F9-4FB5-9833-4CBC857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14C-CA77-4C53-949B-C702563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2BC-6262-4905-B8D5-489588E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31E-13E2-4887-B8C2-46B3B6D2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r>
              <a:rPr b="1" lang="en-US" sz="8800" spc="-1" strike="noStrike">
                <a:solidFill>
                  <a:srgbClr val="9900cc"/>
                </a:solidFill>
                <a:latin typeface="黑体"/>
                <a:ea typeface="黑体"/>
              </a:rPr>
              <a:t>25</a:t>
            </a:r>
            <a:r>
              <a:rPr b="1" lang="zh-CN" sz="8800" spc="-1" strike="noStrike">
                <a:solidFill>
                  <a:srgbClr val="9900cc"/>
                </a:solidFill>
                <a:latin typeface="黑体"/>
                <a:ea typeface="黑体"/>
              </a:rPr>
              <a:t>、律师林肯</a:t>
            </a:r>
            <a:br>
              <a:rPr sz="7200"/>
            </a:br>
            <a:br>
              <a:rPr sz="72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4199040" y="86184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到了农历初八左右，这时的月亮叫</a:t>
            </a:r>
            <a:r>
              <a:rPr b="0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上弦月</a:t>
            </a:r>
            <a:r>
              <a:rPr b="0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，出现在傍晚和前半夜的西边天空，上弦月只能在前半夜看到，半夜时分消失在西方。</a:t>
            </a:r>
            <a:r>
              <a:rPr b="0" lang="zh-CN" sz="4000" spc="-1" strike="noStrike">
                <a:solidFill>
                  <a:srgbClr val="0000cc"/>
                </a:solidFill>
                <a:latin typeface="宋体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8601120" y="765000"/>
            <a:ext cx="5540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010104moon1"/>
          <p:cNvPicPr/>
          <p:nvPr/>
        </p:nvPicPr>
        <p:blipFill>
          <a:blip r:embed="rId1"/>
          <a:stretch/>
        </p:blipFill>
        <p:spPr>
          <a:xfrm>
            <a:off x="468360" y="476280"/>
            <a:ext cx="3313080" cy="5905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2266920" y="40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755640" y="1365120"/>
            <a:ext cx="79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人发誓赌咒，说他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上在月光下看清了阿姆斯特朗的脸。可是，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应是上弦月，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时月亮已经落下去了，哪里还有什么月光？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9"/>
          <p:cNvSpPr/>
          <p:nvPr/>
        </p:nvSpPr>
        <p:spPr>
          <a:xfrm>
            <a:off x="4067280" y="3141720"/>
            <a:ext cx="100800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08360" y="1773000"/>
            <a:ext cx="921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发誓说在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8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日的月光下，看清的是阿姆斯特朗而不是别人？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的，我敢发誓。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尔逊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26920" y="47628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1159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证人说的可信吗？你从哪儿看出他开始露出马脚了？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38120" y="429264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林肯听了，心想： 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1"/>
          <p:cNvSpPr txBox="1"/>
          <p:nvPr/>
        </p:nvSpPr>
        <p:spPr>
          <a:xfrm>
            <a:off x="2700360" y="836640"/>
            <a:ext cx="331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一问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108000" y="1773000"/>
            <a:ext cx="92520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又问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在草垛后面，阿姆斯特朗在大树下，两处相隔二三十米，你能认清吗？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尔逊肯定地说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看得很清楚。因为月光很亮，正照在他脸上，我看清了他的脸。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证人说的可信吗？你从哪儿看出了？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484360" y="836640"/>
            <a:ext cx="30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二问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6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再退一步说，月亮还没有落下去，还在西天，月亮也应该从西往东照。而遮挡着福尔逊的草垛在东边，下面站着阿姆斯特朗的大树在西边，如果阿姆斯特朗面向东边的草垛，脸上是不可能有月光的；如果不面向草垛，证人又怎么能从二三十米外的草垛那里看清被告人的脸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0" y="1628640"/>
          <a:ext cx="21956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219564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4"/>
          <p:cNvGraphicFramePr/>
          <p:nvPr/>
        </p:nvGraphicFramePr>
        <p:xfrm>
          <a:off x="6804000" y="262080"/>
          <a:ext cx="180360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262080"/>
                    <a:ext cx="18036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6084720" y="2421000"/>
          <a:ext cx="2819520" cy="23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2421000"/>
                    <a:ext cx="281952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7"/>
          <p:cNvGraphicFramePr/>
          <p:nvPr/>
        </p:nvGraphicFramePr>
        <p:xfrm>
          <a:off x="2700360" y="2492280"/>
          <a:ext cx="1057320" cy="212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2492280"/>
                    <a:ext cx="105732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Line 15"/>
          <p:cNvSpPr/>
          <p:nvPr/>
        </p:nvSpPr>
        <p:spPr>
          <a:xfrm>
            <a:off x="1544760" y="620640"/>
            <a:ext cx="1155600" cy="1727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7"/>
          <p:cNvSpPr/>
          <p:nvPr/>
        </p:nvSpPr>
        <p:spPr>
          <a:xfrm rot="12253800">
            <a:off x="1113840" y="189000"/>
            <a:ext cx="42228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179280" y="5319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如果阿姆斯特朗面向东边的草垛，脸上是不可能有月光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0" y="1628640"/>
          <a:ext cx="21956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219564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"/>
          <p:cNvGraphicFramePr/>
          <p:nvPr/>
        </p:nvGraphicFramePr>
        <p:xfrm>
          <a:off x="6804000" y="262080"/>
          <a:ext cx="180360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262080"/>
                    <a:ext cx="18036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5"/>
          <p:cNvGraphicFramePr/>
          <p:nvPr/>
        </p:nvGraphicFramePr>
        <p:xfrm>
          <a:off x="6084720" y="2421000"/>
          <a:ext cx="2819520" cy="23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2421000"/>
                    <a:ext cx="281952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6"/>
          <p:cNvGraphicFramePr/>
          <p:nvPr/>
        </p:nvGraphicFramePr>
        <p:xfrm>
          <a:off x="2577960" y="2492280"/>
          <a:ext cx="1057320" cy="227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7960" y="2492280"/>
                    <a:ext cx="10573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Line 15"/>
          <p:cNvSpPr/>
          <p:nvPr/>
        </p:nvSpPr>
        <p:spPr>
          <a:xfrm>
            <a:off x="1544760" y="620640"/>
            <a:ext cx="1155600" cy="1727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 rot="12253800">
            <a:off x="1113840" y="189000"/>
            <a:ext cx="42228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179280" y="531972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不面向草垛，证人又怎么能从二三十米外的草垛那里看清被告人的脸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7"/>
          <p:cNvSpPr/>
          <p:nvPr/>
        </p:nvSpPr>
        <p:spPr>
          <a:xfrm>
            <a:off x="2700360" y="3573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181080" y="1628640"/>
            <a:ext cx="92520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又问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在草垛后面，阿姆斯特朗在大树下，两处相隔二三十米，你能认清吗？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尔逊肯定地说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看得很清楚。因为月光很亮，正照在他脸上，我看清了他的脸。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证人说的可信吗？你从哪儿看出了？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2484360" y="836640"/>
            <a:ext cx="30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二问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6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再退一步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月亮还没有落下去，还在西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月亮也应该从西往东照。而遮挡着福尔逊的草垛在东边，下面站着阿姆斯特朗的大树在西边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阿姆斯特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面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东边的草垛，脸上是不可能有月光的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果不面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草垛，证人又怎么能从二三十米外的草垛那里看清被告人的脸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6084720" y="4508640"/>
            <a:ext cx="215928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920" y="2536560"/>
            <a:ext cx="885672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又问：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能肯定时间是在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点吗？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肯定。因为我回屋里看了时钟，是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点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刻。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尔逊说得毫不含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6994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证人说的可信吗？你从哪儿看出了？</a:t>
            </a:r>
            <a:r>
              <a:rPr b="0" lang="zh-CN" sz="32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556000" y="90972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三问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692600" y="25254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是美国历史上的一位总统，他早年当过律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z-22-4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" y="274680"/>
            <a:ext cx="8686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到这里，林肯面向大家，郑重宣布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证人福尔逊是个彻头彻尾的骗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419640" y="952560"/>
            <a:ext cx="5416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证人发誓赌咒，说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上在月光下看清了阿姆斯特朗的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退一步说，月亮还没有落下去，还在西天，月亮也应该从西往东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23720" y="981000"/>
            <a:ext cx="2952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月十八日晚上十一点，月光很亮。我在草垛后面清楚地看到阿姆斯特朗在大树下面开枪杀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419640" y="1413000"/>
            <a:ext cx="5273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应是上弦月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时月亮已经落下去了，哪里还有什么月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456000" y="3330720"/>
            <a:ext cx="523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遮挡着福尔逊的草垛在东边，下面站着阿姆斯特朗的大树在西边，如果阿姆斯特朗面向东边的草垛，脸上是不可能有月光的；如果不面向草垛，证人又怎么能从二三十米外的草垛那里看清被告人的脸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348000" y="477720"/>
            <a:ext cx="0" cy="5904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55760" y="620640"/>
            <a:ext cx="25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702"/>
                </a:solidFill>
                <a:latin typeface="Tahoma"/>
                <a:ea typeface="楷体_GB2312"/>
              </a:rPr>
              <a:t>福尔逊的证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419640" y="62064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702"/>
                </a:solidFill>
                <a:latin typeface="Tahoma"/>
                <a:ea typeface="楷体_GB2312"/>
              </a:rPr>
              <a:t>林肯的辩护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33440" y="2814480"/>
            <a:ext cx="280980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我和他相隔二三十米，但因为月光正照在他脸上，所以我看清了他的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法庭内一片静寂，接着便骚动起来，终于爆发出雷鸣般的掌声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46040" y="1600200"/>
            <a:ext cx="8229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法庭内一片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静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接着便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骚动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，终于爆发出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雷鸣般的掌声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90520" y="14158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扎实的天文知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穿了证人的谎言。阿姆斯特朗被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宣告无罪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林肯成了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时美国最有名的律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4692600" y="25254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是美国历史上的一位总统，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过律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z-22-4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2180520" y="1143000"/>
            <a:ext cx="47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诬告      质问      骚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口难辩     蒙冤受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彻头彻尾     发誓赌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004120" y="1197000"/>
            <a:ext cx="47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诬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告      质问      骚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口难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蒙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受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彻头彻尾     发誓赌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71280" y="96840"/>
            <a:ext cx="889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，一个叫阿姆斯特朗的青年人被人诬告，说他图财害命。阿姆斯特朗有口难辩，被判定有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姆斯特朗是林肯的一个已经死去的朋友的儿子。林肯知道阿姆斯特朗为人老实忠厚，不会干出行凶杀人的事来，便主动担任了他的辩护律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查阅案卷，到现场调查，掌握了全部事实。他断定被告阿姆斯特朗蒙冤受屈，要求法庭重新审理这个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心里清楚，这个案子的关键就在诬告人收买的证人福尔逊身上，因为他一口咬定，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的月光下，他在一个草垛后面，清楚地看到阿姆斯特朗开枪把人打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决定在福尔逊身上打开缺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71280" y="96840"/>
            <a:ext cx="8893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，一个叫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阿姆斯特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青年人被人诬告，说他图财害命。阿姆斯特朗有口难辩，被判定有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姆斯特朗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个已经死去的朋友的儿子。林肯知道阿姆斯特朗为人老实忠厚，不会干出行凶杀人的事来，便主动担任了他的辩护律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查阅案卷，到现场调查，掌握了全部事实。他断定被告阿姆斯特朗蒙冤受屈，要求法庭重新审理这个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心里清楚，这个案子的关键就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诬告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买的证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福尔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上，因为他一口咬定，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的月光下，他在一个草垛后面，清楚地看到阿姆斯特朗开枪把人打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决定在福尔逊身上打开缺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"/>
          <p:cNvSpPr/>
          <p:nvPr/>
        </p:nvSpPr>
        <p:spPr>
          <a:xfrm>
            <a:off x="71280" y="96840"/>
            <a:ext cx="8893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，一个叫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阿姆斯特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青年人被人诬告，说他图财害命。阿姆斯特朗有口难辩，被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判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姆斯特朗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个已经死去的朋友的儿子。林肯知道阿姆斯特朗为人老实忠厚，不会干出行凶杀人的事来，便主动担任了他的辩护律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查阅案卷，到现场调查，掌握了全部事实。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断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告阿姆斯特朗蒙冤受屈，要求法庭重新审理这个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心里清楚，这个案子的关键就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诬告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买的证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福尔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上，因为他一口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咬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的月光下，他在一个草垛后面，清楚地看到阿姆斯特朗开枪把人打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决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福尔逊身上打开缺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108360" y="1773000"/>
            <a:ext cx="921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发誓说在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8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日的月光下，看清的是阿姆斯特朗而不是别人？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的，我敢发誓。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尔逊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26920" y="47628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24000" y="1159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证人说的可信吗？你从哪儿看出他开始露出马脚了？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2700360" y="836640"/>
            <a:ext cx="331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一问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4T15:22:59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