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1.png" ContentType="image/png"/>
  <Override PartName="/ppt/media/camera.wav" ContentType="audio/x-wav"/>
  <Override PartName="/ppt/media/image3.jpeg" ContentType="image/jpeg"/>
  <Override PartName="/ppt/media/image2.png" ContentType="image/png"/>
  <Override PartName="/ppt/media/image4.jpeg" ContentType="image/jpeg"/>
  <Override PartName="/ppt/media/cashreg.wav" ContentType="audio/x-wav"/>
  <Override PartName="/ppt/media/chimes.wav" ContentType="audio/x-wav"/>
  <Override PartName="/ppt/media/image6.gif" ContentType="image/gif"/>
  <Override PartName="/ppt/media/image8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9A64-873C-4257-B589-093B355B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8EB6-1F0B-42ED-A96C-1FE18258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E622-9A8B-4ACD-B0D9-79DB6948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B12B-66AE-4FF0-BBF5-CF00548DF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801A-E6D3-48EC-80FF-6E86D4B6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5FFD-C71F-4C71-BD54-E02AC076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2A0B-D508-4E7F-995B-D7F7FF5D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80A9-6EBF-458E-8DCB-297BCF9B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D9BB-13BB-4087-AEAA-C6488F34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FEC1-5147-41F6-8E1C-C6F5EABA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7126-E71E-40F3-8F42-C9DE5E58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C8F4-58EE-4004-B093-1688E633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B04B-76CF-4A72-A73B-D6C9384E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0839-65B6-4C66-8C7B-1B4A02A1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4BA9-CF7D-40DB-81A2-8D5B6A7E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CD33-1FB6-4528-95DF-8EC643D9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F845-5B30-428D-8224-035CED59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335E-5B4D-4DF5-B689-7F8848A0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3FF1-3FB2-4917-9758-1418DBDB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6563-1751-4162-9D56-7DE356A1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FD43-9D7F-47F6-BC74-F7FB7DE6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76C6-3260-4483-BC1C-68E26374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73EB-407A-40E5-8E6B-BFB19075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4798-D9AB-40C6-A165-083292B4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9B77-FDAC-4A90-B1F8-2183A87F1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小学资源网官方logo"/>
          <p:cNvPicPr/>
          <p:nvPr/>
        </p:nvPicPr>
        <p:blipFill>
          <a:blip r:embed="rId3"/>
          <a:stretch/>
        </p:blipFill>
        <p:spPr>
          <a:xfrm>
            <a:off x="0" y="6080040"/>
            <a:ext cx="1619280" cy="77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小学资源网官方logo"/>
          <p:cNvPicPr/>
          <p:nvPr/>
        </p:nvPicPr>
        <p:blipFill>
          <a:blip r:embed="rId3"/>
          <a:stretch/>
        </p:blipFill>
        <p:spPr>
          <a:xfrm>
            <a:off x="0" y="6080040"/>
            <a:ext cx="1619280" cy="777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677A-388D-4D32-80E5-130E7E58398C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5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P0000008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900360" y="187920"/>
            <a:ext cx="31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ff"/>
                </a:solidFill>
                <a:latin typeface="Arial"/>
              </a:rPr>
              <a:t>语文</a:t>
            </a: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99ff"/>
                </a:solidFill>
                <a:latin typeface="Arial"/>
              </a:rPr>
              <a:t>版小学四年级上册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620720" y="2106720"/>
            <a:ext cx="57596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7a77"/>
                </a:solidFill>
                <a:latin typeface="Arial"/>
                <a:ea typeface="华文行楷"/>
              </a:rPr>
              <a:t>   </a:t>
            </a:r>
            <a:r>
              <a:rPr b="0" lang="zh-CN" sz="9600" spc="-1" strike="noStrike">
                <a:solidFill>
                  <a:srgbClr val="0066ff"/>
                </a:solidFill>
                <a:latin typeface="Arial"/>
              </a:rPr>
              <a:t>暮江吟</a:t>
            </a:r>
            <a:endParaRPr b="0" lang="en-US" sz="9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华文行楷"/>
              </a:rPr>
              <a:t>           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华文行楷"/>
              </a:rPr>
              <a:t>－白居易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755640" y="12682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白居易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72~84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，字乐天，号香山居士，今陕西渭南人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暮江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一首写景佳作。约长庆二年（公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2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）赴杭州刺史任途中所作。当时已是晚唐，朝政昏暗，党派相争，诗人尝尽了朝官的滋味，主动请求调出京城。这首诗也从侧面反映了诗人离开京城朝廷后的轻松愉快心情。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116000" y="11592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白居易写这首诗的背景资料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PSD_cd0095_001090"/>
          <p:cNvPicPr/>
          <p:nvPr/>
        </p:nvPicPr>
        <p:blipFill>
          <a:blip r:embed="rId1"/>
          <a:stretch/>
        </p:blipFill>
        <p:spPr>
          <a:xfrm>
            <a:off x="250920" y="549360"/>
            <a:ext cx="1728720" cy="5616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8"/>
          <p:cNvSpPr/>
          <p:nvPr/>
        </p:nvSpPr>
        <p:spPr>
          <a:xfrm>
            <a:off x="150120" y="1557360"/>
            <a:ext cx="13993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学习古诗的方法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2214720" y="1844640"/>
            <a:ext cx="12776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正确朗读背诵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3414960" y="1844640"/>
            <a:ext cx="12776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理解诗句意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4567680" y="1844640"/>
            <a:ext cx="12776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感受意境情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5670720" y="1844640"/>
            <a:ext cx="12776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欣赏作品语言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500"/>
                            </p:stCondLst>
                            <p:childTnLst>
                              <p:par>
                                <p:cTn id="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200605032042548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PSD_cd0095_001090"/>
          <p:cNvPicPr/>
          <p:nvPr/>
        </p:nvPicPr>
        <p:blipFill>
          <a:blip r:embed="rId2"/>
          <a:stretch/>
        </p:blipFill>
        <p:spPr>
          <a:xfrm>
            <a:off x="611280" y="1268280"/>
            <a:ext cx="1728720" cy="3924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2411280" y="1197000"/>
            <a:ext cx="4608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正确朗读古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弄懂字、词的意思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不懂的地方做上记号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试着用自己的话说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每一句诗的意思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提出自己不能解决的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问题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08680" y="2133720"/>
            <a:ext cx="13993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自主学习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PSD_cd0095_001090"/>
          <p:cNvPicPr/>
          <p:nvPr/>
        </p:nvPicPr>
        <p:blipFill>
          <a:blip r:embed="rId1"/>
          <a:stretch/>
        </p:blipFill>
        <p:spPr>
          <a:xfrm>
            <a:off x="0" y="189000"/>
            <a:ext cx="7020000" cy="17287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>
            <a:hlinkClick r:id="" action="ppaction://hlinkshowjump?jump=nextslide"/>
          </p:cNvPr>
          <p:cNvSpPr/>
          <p:nvPr/>
        </p:nvSpPr>
        <p:spPr>
          <a:xfrm>
            <a:off x="611280" y="1758960"/>
            <a:ext cx="799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每人读一次古诗，评评谁读得最好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组长提问，组员回答，解决重点字词的意思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交流自己不懂的问题，小组内解决，还有不懂的问题等会在班级讨论时提出来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403280" y="71136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四人一组合作学习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PSD_cd0095_001090"/>
          <p:cNvPicPr/>
          <p:nvPr/>
        </p:nvPicPr>
        <p:blipFill>
          <a:blip r:embed="rId1"/>
          <a:stretch/>
        </p:blipFill>
        <p:spPr>
          <a:xfrm>
            <a:off x="0" y="260280"/>
            <a:ext cx="4140360" cy="1728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755640" y="2421000"/>
            <a:ext cx="799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推选一名代表朗读古诗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组长考考组员掌握字词意思的情况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请每一个人说一句古诗的意思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900000" y="765000"/>
            <a:ext cx="31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小组汇报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4" descr="d35ffb0bf2daa76b6a60fb2f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900000" y="446040"/>
            <a:ext cx="456264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暮 江  吟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白居易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114560" y="2289240"/>
            <a:ext cx="49701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道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残阳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铺水中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江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瑟瑟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江红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可怜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九月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初三夜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露似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真珠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月似弓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2" descr="200605032037524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2266920" y="981000"/>
            <a:ext cx="4897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解释词语意思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吟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——     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残阳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—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可怜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——   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真珠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—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2.“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可怜九月初三夜，露似真珠月似弓。”诗人把（  ）比作（   ）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把（   ）比作（   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你还知道白居易写的文章吗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0" name="Picture 13" descr="PSD_cd0095_001090"/>
          <p:cNvPicPr/>
          <p:nvPr/>
        </p:nvPicPr>
        <p:blipFill>
          <a:blip r:embed="rId2"/>
          <a:stretch/>
        </p:blipFill>
        <p:spPr>
          <a:xfrm>
            <a:off x="468360" y="1700280"/>
            <a:ext cx="1728720" cy="3384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4"/>
          <p:cNvSpPr/>
          <p:nvPr/>
        </p:nvSpPr>
        <p:spPr>
          <a:xfrm>
            <a:off x="975600" y="2492280"/>
            <a:ext cx="7898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检测题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7" descr="4 拷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WordArt 21" descr=""/>
          <p:cNvPicPr/>
          <p:nvPr/>
        </p:nvPicPr>
        <p:blipFill>
          <a:blip r:embed="rId2"/>
          <a:stretch/>
        </p:blipFill>
        <p:spPr>
          <a:xfrm>
            <a:off x="2401920" y="2335320"/>
            <a:ext cx="4078080" cy="1992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dc:language>en-US</dc:language>
  <cp:lastModifiedBy>Administrator</cp:lastModifiedBy>
  <dcterms:modified xsi:type="dcterms:W3CDTF">2015-11-25T09:19:28Z</dcterms:modified>
  <cp:revision>12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206000000000001024120</vt:lpwstr>
  </property>
</Properties>
</file>