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projctor.wav" ContentType="audio/x-wav"/>
  <Override PartName="/ppt/media/image6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AF2-8651-491A-B550-C3E15F0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53D-5EAC-4FC1-8CC7-B18B1ED0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B256F-ADC4-497B-8B6A-7276DC7E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A1FCE-8517-43C3-AC83-029C0AFB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E6672-CF1D-4275-9615-45669866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7A25C-6A26-47F8-800D-43FB354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5284D-DD13-4856-A741-C70021C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1FC9-771D-46C5-8834-D81B1E3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F8C08-10CC-4CC0-B107-9C2F0571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A53DD-2D24-483F-9EDA-A56FEBEB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85C07-22ED-4EB4-933C-45EDC465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322B8-072A-4E1F-8C4D-5AFD239C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A2D-5C36-48F4-B06D-20A364F4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3864D-CB26-4BE2-BDE6-8B63A3A8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487DE-66BA-42A4-8FD2-21470EC1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36F23-8696-4AFA-8ED5-77BFA718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AFE25-7DF5-4A4F-BF9F-695014CC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E0BB4-107B-4505-AE9C-9D665C29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D16DE-C197-428F-961E-0D6C2548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FA60B-C13E-4554-AFBF-546836D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0F8F0-FFAB-46F7-8F7B-FA226DE7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C0F84-2258-410F-84CA-2EE8F019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6792C-335D-495E-9CB6-B221434E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322-760C-43AB-9284-70E256A6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0A586-CF15-4AEE-9A37-8104A38E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8DE7D-37F9-4432-8216-A838E51F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4DCCF-1931-423D-8AD0-AE8AA45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90F40-09A1-4787-AA05-92FE6A2C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BCEA6-57D3-4709-9F85-9B4DA0B4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0E267-0EE1-4731-9EF1-2EDF3955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37B5C-E4A5-46A1-84BE-8170F9B8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F4D3B-E3CE-4B5E-9C29-E3BCA1A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CF59B-F396-4A50-A2DA-253CA123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D6D2E-C757-4143-9283-56E31C5D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4581-C5DD-494D-8A20-C47B9A3B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3C0FC-8CC0-48D6-AED8-E86C85AE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9C876-C404-4418-A1B6-72E314C0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ACA1E-B105-45F8-A8AC-72561EEA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7C63D-E761-4D5F-95CB-5108B543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10F2F-55CE-4855-A6B5-ED61B9B8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F4856-FCB4-4845-9BA7-5761D9A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C7033-A973-407C-993A-BB476EC3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DA457-467F-4EC9-BDF1-6527480E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3386F-E40A-4436-8CEA-FB504150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E003D-1C98-4E0B-BC2C-01DE103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42A1-2B74-4676-B5C7-76E060ED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49DF5-C7EC-46D3-9B5E-48EDE69D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8E286-3EE0-4F88-BE04-9D8546A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A0B6E-3C7B-45E1-8E60-2D0B03DA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8BD90-AE14-4A5F-9D00-33FD869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C0FC5-B474-48FE-89D2-48C67831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9DA79-C741-40B1-B36B-811482AA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35094-2D2E-448F-9B9A-D24BC47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31165-5BF3-4353-A124-CBCABD14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E903B-D634-4F17-B741-E9D44003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777ED-12BF-456F-8485-1D32C91F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9E4A-D061-470A-A96F-628240E8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90CA1-20D1-43AD-936A-CD1B4465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6BC28-2E06-4268-8811-D61DCCBC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C9193-A4D3-46FE-ABD4-6442FB2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C8EE4-5984-45EB-A334-32F75CD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14052-8EE0-4315-A239-E58951A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D72E2-29E5-4A34-B3F3-23CB6367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39676-DE76-4636-90D3-830E08BC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174-D633-4D98-9F1B-1717776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5091-F0C9-4185-9F24-04F9D95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D2C5-BAA5-464D-B755-0798AD42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ABE6-F17D-4676-90FD-1EA5CCB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889-212B-4FEC-8DEB-9FE0D5B6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F682-C951-4BC4-88D1-312DA6A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028A-B002-4DC5-B884-904E5F4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7C0-EBFF-4E01-B69D-94B83674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4A8-F30B-4FFE-956A-8CBC9FC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E961-FA7A-453D-9D44-54A23A90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FEE7-F891-4AF0-865A-A4886915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4EED-E1D8-417C-A074-FDF67FF3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C417-8BF9-482E-A61C-523FD433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294A-73D4-4004-B97A-F8C854EE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CAD0-4CD4-42B4-8E8F-CB60B1D0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492-9FDC-411B-936A-68AB2E6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78B2-9766-4025-8550-D0F90C0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9A2A-EF25-4DBC-9CE3-BA44F89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40B2-1881-4CB4-842B-3CA1999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628F-0B79-42FB-979A-4C3B297A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1D5D-0AFD-4140-97A9-DFFD668B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08EE-8F61-4A4F-A65E-7D9223DF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3FE9-1D26-48CC-986E-216A05C1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CDDD-C48D-4D95-B23C-258B5CAD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5BA51-3825-4AC8-A3FC-05ACDE02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90E9-12B1-4D7E-BDB7-C2D65FEC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CB0-8F2B-4D54-AC3F-F4D96B33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E89E9-B03E-460F-8AC8-5609602E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654B-887F-4781-B6E4-8EA39764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8132-5B56-4423-8B7C-63C9FF65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4614-B476-4967-B3DF-97F5B87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91F9-8A30-45B8-A77A-626A6BC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2979-540F-4A3D-BFC6-B6B57AFF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1014-99B6-450A-AFDB-DEDB5AEC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42F6-7381-45FE-8AFE-0D4EE457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DBC4-78D2-4CC6-8711-B30E42AB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D643A-F43C-4710-B917-96FBB1C0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7B4-36DA-4D67-84BD-A15406D9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3DF0-0EFD-41CF-B27F-59A3D7AD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393A-A94D-40C6-9863-86C90BCB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6EBB-B06D-4949-80CB-0CA325F1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4FA66-5E89-4CCF-85FE-6179C14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938B-6414-414D-8A9C-5C3EC6CF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8A2B-6D77-46BD-AABD-8209E8B6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82E4-DD85-42A8-94D1-D65A502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479DB-479D-4752-8A58-A3C88D82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0C9A-B44A-4D33-A212-FB2DD9F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FF53-1089-4833-B954-3EC8429B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66E-4B4E-47E2-A390-986D207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CC54-6DF7-45D3-877C-7177162D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64A5-C1CC-493F-A5ED-B6353C10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6D4E-1A9B-4BAE-B879-B79FBA8A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68ADB-E3F9-444A-9664-642A517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D64A-061E-4671-BF52-AF2DEE32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7B71-4EF2-4ACE-A028-D36D41C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5939-4A15-4340-83D5-FEED158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8F3D6-7EA6-4F20-90BB-D4232D38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B838-E2F1-415B-8CA6-31D7FA08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20B02-9505-4D29-801C-CA7FACE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F74-4F3C-4060-ABB1-1F6E172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91EAC-E109-4013-BB52-B82182B0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2D66-4A5D-44E2-8447-B4DF5790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D9AF-5BD1-424B-9B0B-ABAF744A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5FBB-4924-495E-8753-EF610F9C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4242-3FA5-43BD-B7C3-348D03B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4C053-FFAD-40FB-A698-65E42DB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E9DF-C56B-4E37-BAD1-53263FC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ECDC8-A477-4330-8DAB-603DD88D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C059-C82F-49D6-A9D0-A988EF8F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5E54-B984-41F3-AE7D-54B9E37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63E-9690-474E-9AFA-651590D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F9E6-EFD7-4C82-9086-B3694AF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0A3F8-DDE1-414E-AE44-D9AF869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AE0E-932E-4EFF-8672-B14D2F5F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E5CC-5905-4DB2-AB14-14768EDF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59F4E-70DB-4EE9-8CF7-54DAAA40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F26A3-FC8F-4DD2-926F-4E4BCA8C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3A974-B64B-4D7E-AAF7-EF159B6B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275F-A602-4604-8960-19EE81C4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9CBC4-FBC6-4DE1-AC9A-578BC34C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C8E6-4A53-4B6A-895C-6F2E7A57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B9B-40BF-46C9-8990-BB16C8C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09FCF-0EE6-419C-B41A-910A1962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99B48-36F9-446A-8601-E98A6D50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F381-F0D6-43A3-AB65-72310A5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972D5-917A-44A8-A25E-CED28FB7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9841C-351E-457D-9421-56584AE6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2603B-78FB-43F8-B841-D4537AD9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F060E-A313-4D43-BA0C-72851E04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9A0C5-2527-44BB-BF74-5D7067ED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9A461-FCB0-4B99-A04A-1853BEE0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E7D5-E5AB-4A78-A6C1-048EA70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0D38-B851-43BF-BF58-9079E1BA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BBEA-6ACD-417F-8284-7E4C01862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D0A9-41E3-4E03-97AA-DF7A43096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D3D8-16CF-4F58-B014-C063AC85B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884D-2E3E-4328-9FDE-626CEA35B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7C53-466D-4B2F-ABD1-9F6F1337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F660-1E55-40E4-8BDC-209A456D9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9AA-62BE-45ED-95D8-AB5580EC2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A0B6-66C7-4956-BF74-8D320C20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22CC-F31D-4004-BE01-CE841C18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8074-B0DC-4626-AE08-A5887A705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0383-2740-4088-AABA-7A0A47A4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C8B5-FEDB-4DA7-B2C1-E52EA1CAC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4045_a7ed1653879a7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994600" cy="30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缩写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飞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夺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泸定桥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8153280" y="228600"/>
            <a:ext cx="4572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7848720" y="3049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8001000" y="914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304920" y="228600"/>
            <a:ext cx="5943600" cy="762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66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   章   结   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3962520" y="1143000"/>
            <a:ext cx="20574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北上抗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3962520" y="5791320"/>
            <a:ext cx="20574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奔赴前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00200" y="2666880"/>
            <a:ext cx="457200" cy="15721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228600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251460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4"/>
          <p:cNvGrpSpPr/>
          <p:nvPr/>
        </p:nvGrpSpPr>
        <p:grpSpPr>
          <a:xfrm>
            <a:off x="2133360" y="2361960"/>
            <a:ext cx="533520" cy="2210040"/>
            <a:chOff x="2133360" y="2361960"/>
            <a:chExt cx="533520" cy="2210040"/>
          </a:xfrm>
        </p:grpSpPr>
        <p:grpSp>
          <p:nvGrpSpPr>
            <p:cNvPr id="573" name="Group 15"/>
            <p:cNvGrpSpPr/>
            <p:nvPr/>
          </p:nvGrpSpPr>
          <p:grpSpPr>
            <a:xfrm>
              <a:off x="2133360" y="2361960"/>
              <a:ext cx="152640" cy="2210040"/>
              <a:chOff x="2133360" y="2361960"/>
              <a:chExt cx="152640" cy="2210040"/>
            </a:xfrm>
          </p:grpSpPr>
          <p:sp>
            <p:nvSpPr>
              <p:cNvPr id="574" name="Line 16"/>
              <p:cNvSpPr/>
              <p:nvPr/>
            </p:nvSpPr>
            <p:spPr>
              <a:xfrm flipH="1" flipV="1">
                <a:off x="2133360" y="236196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7"/>
              <p:cNvSpPr/>
              <p:nvPr/>
            </p:nvSpPr>
            <p:spPr>
              <a:xfrm flipH="1">
                <a:off x="2209680" y="44197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18"/>
            <p:cNvSpPr/>
            <p:nvPr/>
          </p:nvSpPr>
          <p:spPr>
            <a:xfrm flipV="1">
              <a:off x="2514600" y="23619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9"/>
            <p:cNvSpPr/>
            <p:nvPr/>
          </p:nvSpPr>
          <p:spPr>
            <a:xfrm>
              <a:off x="2514600" y="4343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20"/>
          <p:cNvSpPr/>
          <p:nvPr/>
        </p:nvSpPr>
        <p:spPr>
          <a:xfrm>
            <a:off x="265500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65500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3962520" y="175248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99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没顾吃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3"/>
          <p:cNvSpPr/>
          <p:nvPr/>
        </p:nvSpPr>
        <p:spPr>
          <a:xfrm>
            <a:off x="3962520" y="236232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99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冒雨前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4"/>
          <p:cNvSpPr/>
          <p:nvPr/>
        </p:nvSpPr>
        <p:spPr>
          <a:xfrm>
            <a:off x="3962520" y="297180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99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火赛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5"/>
          <p:cNvSpPr/>
          <p:nvPr/>
        </p:nvSpPr>
        <p:spPr>
          <a:xfrm>
            <a:off x="3505320" y="1905120"/>
            <a:ext cx="0" cy="129528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6"/>
          <p:cNvSpPr/>
          <p:nvPr/>
        </p:nvSpPr>
        <p:spPr>
          <a:xfrm>
            <a:off x="3505320" y="1905120"/>
            <a:ext cx="3045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7"/>
          <p:cNvSpPr/>
          <p:nvPr/>
        </p:nvSpPr>
        <p:spPr>
          <a:xfrm>
            <a:off x="3505320" y="2590920"/>
            <a:ext cx="3045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8"/>
          <p:cNvSpPr/>
          <p:nvPr/>
        </p:nvSpPr>
        <p:spPr>
          <a:xfrm>
            <a:off x="3505320" y="3200400"/>
            <a:ext cx="3045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9"/>
          <p:cNvSpPr/>
          <p:nvPr/>
        </p:nvSpPr>
        <p:spPr>
          <a:xfrm flipH="1">
            <a:off x="3048120" y="2590920"/>
            <a:ext cx="45720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3962520" y="350532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99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桥        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1"/>
          <p:cNvSpPr/>
          <p:nvPr/>
        </p:nvSpPr>
        <p:spPr>
          <a:xfrm>
            <a:off x="3962520" y="403848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99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水        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3962520" y="457200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99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敌        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3962520" y="510552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99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士        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4"/>
          <p:cNvSpPr/>
          <p:nvPr/>
        </p:nvSpPr>
        <p:spPr>
          <a:xfrm>
            <a:off x="3505320" y="3733920"/>
            <a:ext cx="0" cy="160020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5"/>
          <p:cNvSpPr/>
          <p:nvPr/>
        </p:nvSpPr>
        <p:spPr>
          <a:xfrm>
            <a:off x="3505320" y="3733920"/>
            <a:ext cx="3045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6"/>
          <p:cNvSpPr/>
          <p:nvPr/>
        </p:nvSpPr>
        <p:spPr>
          <a:xfrm>
            <a:off x="3505320" y="4267080"/>
            <a:ext cx="3045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7"/>
          <p:cNvSpPr/>
          <p:nvPr/>
        </p:nvSpPr>
        <p:spPr>
          <a:xfrm>
            <a:off x="3505320" y="4800600"/>
            <a:ext cx="3045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8"/>
          <p:cNvSpPr/>
          <p:nvPr/>
        </p:nvSpPr>
        <p:spPr>
          <a:xfrm>
            <a:off x="3505320" y="5334120"/>
            <a:ext cx="3045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9"/>
          <p:cNvSpPr/>
          <p:nvPr/>
        </p:nvSpPr>
        <p:spPr>
          <a:xfrm flipH="1">
            <a:off x="3048120" y="4495680"/>
            <a:ext cx="45720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0"/>
          <p:cNvSpPr/>
          <p:nvPr/>
        </p:nvSpPr>
        <p:spPr>
          <a:xfrm>
            <a:off x="7162920" y="990720"/>
            <a:ext cx="457200" cy="703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起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1"/>
          <p:cNvSpPr/>
          <p:nvPr/>
        </p:nvSpPr>
        <p:spPr>
          <a:xfrm>
            <a:off x="7162920" y="2819520"/>
            <a:ext cx="457200" cy="1326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2"/>
          <p:cNvSpPr/>
          <p:nvPr/>
        </p:nvSpPr>
        <p:spPr>
          <a:xfrm>
            <a:off x="7238880" y="5562720"/>
            <a:ext cx="457200" cy="703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3"/>
          <p:cNvSpPr/>
          <p:nvPr/>
        </p:nvSpPr>
        <p:spPr>
          <a:xfrm>
            <a:off x="6553080" y="1828800"/>
            <a:ext cx="0" cy="350532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4"/>
          <p:cNvSpPr/>
          <p:nvPr/>
        </p:nvSpPr>
        <p:spPr>
          <a:xfrm>
            <a:off x="6172200" y="1828800"/>
            <a:ext cx="38088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5"/>
          <p:cNvSpPr/>
          <p:nvPr/>
        </p:nvSpPr>
        <p:spPr>
          <a:xfrm>
            <a:off x="6172200" y="2514600"/>
            <a:ext cx="38088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46"/>
          <p:cNvSpPr/>
          <p:nvPr/>
        </p:nvSpPr>
        <p:spPr>
          <a:xfrm>
            <a:off x="6172200" y="3124080"/>
            <a:ext cx="38088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7"/>
          <p:cNvSpPr/>
          <p:nvPr/>
        </p:nvSpPr>
        <p:spPr>
          <a:xfrm>
            <a:off x="6172200" y="3657600"/>
            <a:ext cx="38088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8"/>
          <p:cNvSpPr/>
          <p:nvPr/>
        </p:nvSpPr>
        <p:spPr>
          <a:xfrm>
            <a:off x="6172200" y="4267080"/>
            <a:ext cx="38088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9"/>
          <p:cNvSpPr/>
          <p:nvPr/>
        </p:nvSpPr>
        <p:spPr>
          <a:xfrm>
            <a:off x="6172200" y="4800600"/>
            <a:ext cx="38088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50"/>
          <p:cNvSpPr/>
          <p:nvPr/>
        </p:nvSpPr>
        <p:spPr>
          <a:xfrm>
            <a:off x="6172200" y="5334120"/>
            <a:ext cx="38088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51"/>
          <p:cNvSpPr/>
          <p:nvPr/>
        </p:nvSpPr>
        <p:spPr>
          <a:xfrm>
            <a:off x="6172200" y="1371600"/>
            <a:ext cx="99072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2"/>
          <p:cNvSpPr/>
          <p:nvPr/>
        </p:nvSpPr>
        <p:spPr>
          <a:xfrm>
            <a:off x="6553080" y="3352680"/>
            <a:ext cx="60984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3"/>
          <p:cNvSpPr/>
          <p:nvPr/>
        </p:nvSpPr>
        <p:spPr>
          <a:xfrm>
            <a:off x="6248520" y="6019920"/>
            <a:ext cx="990360" cy="0"/>
          </a:xfrm>
          <a:prstGeom prst="line">
            <a:avLst/>
          </a:prstGeom>
          <a:ln w="381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54"/>
          <p:cNvSpPr/>
          <p:nvPr/>
        </p:nvSpPr>
        <p:spPr>
          <a:xfrm>
            <a:off x="7391520" y="1676520"/>
            <a:ext cx="0" cy="1066680"/>
          </a:xfrm>
          <a:prstGeom prst="line">
            <a:avLst/>
          </a:prstGeom>
          <a:ln w="381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55"/>
          <p:cNvSpPr/>
          <p:nvPr/>
        </p:nvSpPr>
        <p:spPr>
          <a:xfrm>
            <a:off x="7391520" y="4267080"/>
            <a:ext cx="0" cy="1067040"/>
          </a:xfrm>
          <a:prstGeom prst="line">
            <a:avLst/>
          </a:prstGeom>
          <a:ln w="381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56" descr="BD05219_"/>
          <p:cNvPicPr/>
          <p:nvPr/>
        </p:nvPicPr>
        <p:blipFill>
          <a:blip r:embed="rId1"/>
          <a:stretch/>
        </p:blipFill>
        <p:spPr>
          <a:xfrm>
            <a:off x="0" y="4930920"/>
            <a:ext cx="205740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2" name="projctor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1476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月，北上抗日的红军向天险大渡河挺进。大渡河水流湍急，两岸都是高山峻岭，只有一座铁 索桥可以通过。这座铁索桥，就是红军北上必须夺取的泸定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5"/>
          <p:cNvSpPr/>
          <p:nvPr/>
        </p:nvSpPr>
        <p:spPr>
          <a:xfrm>
            <a:off x="2195640" y="1557360"/>
            <a:ext cx="1942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619280" y="2133720"/>
            <a:ext cx="1942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 flipV="1">
            <a:off x="4500720" y="1557000"/>
            <a:ext cx="403380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1187280" y="4076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楷体"/>
              </a:rPr>
              <a:t>     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楷体"/>
              </a:rPr>
              <a:t>1935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"/>
              </a:rPr>
              <a:t>年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楷体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"/>
              </a:rPr>
              <a:t>月，红军北上抗日要度过大渡河，就必须夺取唯一通道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"/>
              </a:rPr>
              <a:t>泸定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V="1">
            <a:off x="3059280" y="3715920"/>
            <a:ext cx="4033800" cy="7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5"/>
          <p:cNvSpPr/>
          <p:nvPr/>
        </p:nvSpPr>
        <p:spPr>
          <a:xfrm>
            <a:off x="2195640" y="155736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国民党反动派早就派了两个团防守泸定桥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阻拦红军北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；后来又调了两个旅赶去增援，妄想把我 红军消灭在桥头上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我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早就看穿了敌人的诡计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"/>
              </a:rPr>
              <a:t>2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日早上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红四团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接到上级命令：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"/>
              </a:rPr>
              <a:t>29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日早晨夺下泸 定桥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4"/>
          <p:cNvSpPr/>
          <p:nvPr/>
        </p:nvSpPr>
        <p:spPr>
          <a:xfrm>
            <a:off x="468360" y="328464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时间只剩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多个小时了，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"/>
              </a:rPr>
              <a:t>红四团离泸定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还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2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里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敌人的两个旅援兵正在对岸向泸定桥行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。 抢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敌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前头，是我军战胜敌人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4"/>
          <p:cNvSpPr/>
          <p:nvPr/>
        </p:nvSpPr>
        <p:spPr>
          <a:xfrm>
            <a:off x="1116000" y="907920"/>
            <a:ext cx="6985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红四团翻山越岭，沿路击溃了好几股阻击的敌人，到晚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钟，离泸定桥还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里。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"/>
              </a:rPr>
              <a:t>战士们一整 天没顾得上吃饭。天又下起雨来，把他们都淋透了。战胜敌人的决心使他们忘记了饥饿和疲劳。在漆黑的夜里，他们冒着雨，踩着泥水继续前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忽然对岸出现了无数火把，像一条长蛇向泸定桥的方向奔去， 分明是敌人的增援部队。红四团的战士索性也点起火把，照亮了道路跟对岸的敌人赛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 rot="10540800">
            <a:off x="4641840" y="5140080"/>
            <a:ext cx="2665440" cy="1224000"/>
          </a:xfrm>
          <a:prstGeom prst="wedgeEllipseCallout">
            <a:avLst>
              <a:gd name="adj1" fmla="val -31518"/>
              <a:gd name="adj2" fmla="val 72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非关键情节，并且是渲染性的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6"/>
          <p:cNvSpPr/>
          <p:nvPr/>
        </p:nvSpPr>
        <p:spPr>
          <a:xfrm>
            <a:off x="2484360" y="2276640"/>
            <a:ext cx="115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2700360" y="314172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908000" y="3573360"/>
            <a:ext cx="18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5148360" y="3500280"/>
            <a:ext cx="20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"/>
          <p:cNvSpPr/>
          <p:nvPr/>
        </p:nvSpPr>
        <p:spPr>
          <a:xfrm>
            <a:off x="4356000" y="436572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1"/>
          <p:cNvSpPr/>
          <p:nvPr/>
        </p:nvSpPr>
        <p:spPr>
          <a:xfrm>
            <a:off x="1042920" y="522936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4"/>
          <p:cNvSpPr/>
          <p:nvPr/>
        </p:nvSpPr>
        <p:spPr>
          <a:xfrm>
            <a:off x="900000" y="549360"/>
            <a:ext cx="7559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敌人看到了这边的火把，扯着嗓子喊：“你们是哪个部分的？”我们的战士高声答话：“是碰上红军撤下来的。”对岸的敌人并不疑心。两支军队像两条火龙，隔着大渡河走了二三十里。雨越下越猛， 像瓢泼一样，把两岸的火把都浇灭了。对岸的敌人不能再走，只好停下来宿营。红四团仍旧摸黑冒雨前进，终于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日清晨赶到了泸定桥，把增援的两个旅的敌人抛在后面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547640" y="5229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人物对话等可以引用改为转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1619280" y="105264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7"/>
          <p:cNvSpPr/>
          <p:nvPr/>
        </p:nvSpPr>
        <p:spPr>
          <a:xfrm>
            <a:off x="1187280" y="141300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8"/>
          <p:cNvSpPr/>
          <p:nvPr/>
        </p:nvSpPr>
        <p:spPr>
          <a:xfrm>
            <a:off x="3924360" y="141300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9"/>
          <p:cNvSpPr/>
          <p:nvPr/>
        </p:nvSpPr>
        <p:spPr>
          <a:xfrm>
            <a:off x="1042920" y="1916280"/>
            <a:ext cx="288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4284720" y="2349360"/>
            <a:ext cx="38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1"/>
          <p:cNvSpPr/>
          <p:nvPr/>
        </p:nvSpPr>
        <p:spPr>
          <a:xfrm>
            <a:off x="755640" y="2637000"/>
            <a:ext cx="2016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5580000" y="278136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5796000" y="314172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5"/>
          <p:cNvSpPr/>
          <p:nvPr/>
        </p:nvSpPr>
        <p:spPr>
          <a:xfrm>
            <a:off x="900000" y="3573360"/>
            <a:ext cx="40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6"/>
          <p:cNvSpPr/>
          <p:nvPr/>
        </p:nvSpPr>
        <p:spPr>
          <a:xfrm>
            <a:off x="3492360" y="4076640"/>
            <a:ext cx="40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4"/>
          <p:cNvSpPr/>
          <p:nvPr/>
        </p:nvSpPr>
        <p:spPr>
          <a:xfrm>
            <a:off x="1763640" y="1916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258920" y="11253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泸定桥离水面有十多米高，是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根铁链组成的：两边各有两根，算是桥栏；底下并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根，铺上木 板，就是桥面。人走在桥上摇摇晃晃，就像荡秋千似的。现在连木板也被敌人抽掉了，只剩下铁链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向 桥下一看，真叫人心惊胆寒，红褐色的河水像瀑布一样，从上游的山峡里直泻下来，撞击在岩石上，溅 起一丈多高的浪花，涛声震耳欲聋。桥对岸的泸定桥背靠着山，西门正对着桥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。守城的两个团的敌人 早已在城墙和山坡上筑好工事，凭着天险，疯狂地向红军喊叫：“来吧，看你们飞过来吧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468360" y="119700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四团马上发起总攻。团长和政委亲自站在桥头上指挥战斗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号手们吹起冲锋号，所有武器一齐开 火，枪炮声，喊杀声，霎时间震动山谷。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"/>
              </a:rPr>
              <a:t>二连担任突击队，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"/>
              </a:rPr>
              <a:t>22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"/>
              </a:rPr>
              <a:t>位英雄拿着短枪，背着马刀，带着手榴弹， 冒着敌人密集的枪弹，攀着铁链向对岸冲去。跟在他们后面的是三连，战士们除了武器，每人带一块木板，一边前进一边铺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403280" y="119700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突击队刚刚冲到对岸，敌人就放起火来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桥头立刻被大火包围了。在这千钧一发的时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，传来了团 长和政委的喊声：“同志们！为了党的事业，为了最后的胜利，冲呀！”英雄们听到党的号召，更加奋不顾身，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"/>
              </a:rPr>
              <a:t>都箭一般地穿过熊熊大火，冲进城去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和城里的敌人展开了激烈的搏斗。激战了两个小时，守城的敌人被消灭了大半，其余的都狼狈地逃跑了。红四团英勇地夺下了泸定桥，取得了长征中的又一次决定性的胜利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1763640" y="2565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红军的主力渡过了天险大渡河，浩浩荡荡地奔赴抗日的最前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971280" y="2349360"/>
            <a:ext cx="54831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"/>
              </a:rPr>
              <a:t>缩写是把内容复杂、篇幅较长的文章压缩，而能保留其主要内容，使人一目了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缩写的一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微软简隶书"/>
                <a:ea typeface="微软简隶书"/>
              </a:rPr>
              <a:t>第三步：缩写后要对照检查。</a:t>
            </a:r>
            <a:r>
              <a:rPr b="0" lang="zh-CN" sz="3200" spc="-1" strike="noStrike">
                <a:solidFill>
                  <a:srgbClr val="000000"/>
                </a:solidFill>
                <a:latin typeface="微软简隶书"/>
                <a:ea typeface="微软简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缩写以后和原文对照一下，看看主要内容是否保留下来，意思是否准确、完整，语句是否通顺，语气和语义是否贯通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900000" y="47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保证写后的文章要做到结构完整，中心明确，语言流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习作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5"/>
          <p:cNvSpPr/>
          <p:nvPr/>
        </p:nvSpPr>
        <p:spPr>
          <a:xfrm>
            <a:off x="2484360" y="2205000"/>
            <a:ext cx="216000" cy="374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3132000" y="1916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容完整，重点突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3059280" y="3645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语言简练，删减枝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3059280" y="5516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留原意，叙述在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1403280" y="33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缩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泸定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0" descr="06f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562800" y="2970360"/>
            <a:ext cx="2581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写作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微软简隶书"/>
              </a:rPr>
              <a:t>：即删掉一些与中心无关或关系不大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微软简隶书"/>
              </a:rPr>
              <a:t>：即原文中的主要内容，重要情节或关键词句留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缩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微软简隶书"/>
              </a:rPr>
              <a:t>：指原文中不必要的修饰词，限制词删掉，把句子缩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微软简隶书"/>
              </a:rPr>
              <a:t>：即把原文中有关的语段进行合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改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微软简隶书"/>
              </a:rPr>
              <a:t>：把原文中不是重要内容的地方用概括的语言写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-19810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习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缩写</a:t>
            </a: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飞夺泸定桥</a:t>
            </a: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不超过</a:t>
            </a: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400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缩写后和原文比较一下，看看是否保留了主要内容，意思是否比较准确、完整，语句是留通顺连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20098182124645415"/>
          <p:cNvPicPr/>
          <p:nvPr/>
        </p:nvPicPr>
        <p:blipFill>
          <a:blip r:embed="rId1"/>
          <a:srcRect l="0" t="0" r="0" b="48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726480" y="1916280"/>
            <a:ext cx="13993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缩                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2340000" y="1341360"/>
            <a:ext cx="73080" cy="4248360"/>
          </a:xfrm>
          <a:custGeom>
            <a:avLst/>
            <a:gdLst>
              <a:gd name="textAreaLeft" fmla="*/ 46800 w 73080"/>
              <a:gd name="textAreaRight" fmla="*/ 73440 w 7308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2771640" y="13971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保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556000" y="4292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删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"/>
          <p:cNvSpPr/>
          <p:nvPr/>
        </p:nvSpPr>
        <p:spPr>
          <a:xfrm flipV="1">
            <a:off x="378000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3780000" y="4581360"/>
            <a:ext cx="79200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859280" y="3357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删去次要事件，次要人物以及渲染性的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5003640" y="5157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概括人物对话，长句变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3924360" y="1125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要内容，发展过程，人物的表现，和关键的心理活动，留下精彩的词句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1260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缩写的基本要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缩写时要按原文顺序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缩写时要有详有略，重点的部分要详写，次要的部分要略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缩写要保持文章的完整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缩写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缩写之前，要把文章多读几遍，读懂内容，抓住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根据文章的主要内容，想清楚哪些内容必须保留，哪些内容可以删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对需要保留的内容进行简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读一读缩后的文章，考虑怎样连缀成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、缩写以后，再和原文比较一下，看看是否保留了主要内容，意思是否比较准确、完整，语句是否通顺连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缩写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《</a:t>
            </a: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飞夺泸定桥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4360" y="342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思考：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《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飞夺泸定桥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》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微软简隶书"/>
              </a:rPr>
              <a:t>的主要内容、段意和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826920" y="1989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步骤</a:t>
            </a:r>
            <a:r>
              <a:rPr b="1" lang="en-US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：缩写之前，要把文章多读几遍，读懂内容，抓住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Q_013"/>
          <p:cNvPicPr/>
          <p:nvPr/>
        </p:nvPicPr>
        <p:blipFill>
          <a:blip r:embed="rId1"/>
          <a:stretch/>
        </p:blipFill>
        <p:spPr>
          <a:xfrm>
            <a:off x="250920" y="5227560"/>
            <a:ext cx="27432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5"/>
          <p:cNvSpPr/>
          <p:nvPr/>
        </p:nvSpPr>
        <p:spPr>
          <a:xfrm>
            <a:off x="1116000" y="1700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飞夺泸定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记叙了红军北上抗日途中飞夺泸定桥，强渡大渡河的壮举，表现了红军战士英勇战斗，不怕牺牲的革命英雄气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457200" y="304920"/>
            <a:ext cx="7931160" cy="7034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方正琥珀简体"/>
              </a:rPr>
              <a:t>按事情发展的顺序，分段如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1187280" y="155736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段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红军北上抗日，必须夺下泸定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段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红四团接到夺下泸定桥的命令，形势   紧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1187280" y="2924280"/>
            <a:ext cx="66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段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—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讲红军跟敌人的援兵抢时间，赶在前边到达泸定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126600" y="4005360"/>
            <a:ext cx="18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四段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—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讲红军英勇夺下泸定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2176560" y="4869000"/>
            <a:ext cx="479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五段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讲红军主力顺利渡过大渡河，奔赴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日前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微软简隶书"/>
              </a:rPr>
              <a:t>缩写的一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微软简隶书"/>
                <a:ea typeface="微软简隶书"/>
              </a:rPr>
              <a:t>第二步：缩写时要注意取材及连缀。</a:t>
            </a:r>
            <a:r>
              <a:rPr b="0" lang="zh-CN" sz="3200" spc="-1" strike="noStrike">
                <a:solidFill>
                  <a:srgbClr val="000000"/>
                </a:solidFill>
                <a:latin typeface="微软简隶书"/>
                <a:ea typeface="微软简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简隶书"/>
                <a:ea typeface="微软简隶书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微软简隶书"/>
                <a:ea typeface="微软简隶书"/>
              </a:rPr>
              <a:t>根据文章所要表现的中心思想，确定哪些内容保留，哪些内容归并和删减。因为删减之后有些地方直接连不起来了，这就需要重新考虑前后句段的衔接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900000" y="4653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思考：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飞夺泸定桥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中哪些内容要保留？哪些内容要归并？哪些内容要删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6:06:40Z</dcterms:created>
  <dc:creator>微软用户</dc:creator>
  <dc:description/>
  <dc:language>en-US</dc:language>
  <cp:lastModifiedBy>Windows 用户</cp:lastModifiedBy>
  <dcterms:modified xsi:type="dcterms:W3CDTF">2015-04-29T00:47:44Z</dcterms:modified>
  <cp:revision>38</cp:revision>
  <dc:subject/>
  <dc:title>缩  写</dc:title>
</cp:coreProperties>
</file>