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3F18-C615-4A73-A2B0-64398114A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843588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1160" y="3896280"/>
            <a:ext cx="843588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99BB-47EA-4892-8F54-020A971CD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116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404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C6B2-D89E-468D-B60C-967A260E0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3440" y="11206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11206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1160" y="38962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3440" y="38962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38962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83FF-F703-486B-B57E-45BCC492D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B5BF0-5ECA-4C24-9CC8-31AF9879E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71160" y="1120680"/>
            <a:ext cx="8435880" cy="531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66428-9024-439F-B28C-984418333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843588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AD518-927A-4E88-9592-3FF2A07C1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F626D-1DAF-4BBC-9D00-A233FA310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1F3C5-6643-41E7-A73A-5E835DAAD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71160" y="166680"/>
            <a:ext cx="843588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8EC46-04CD-494D-BA55-A403D6058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7116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75027-ED4F-41DA-9AF7-4432DA18B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1160" y="1120680"/>
            <a:ext cx="8435880" cy="531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DC7A-4F3B-4365-887B-3B0AD373D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9404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52766-8486-49D1-B584-B6A69957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71160" y="3896280"/>
            <a:ext cx="843588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04816-5373-4F30-ABD1-B2F57137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843588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71160" y="3896280"/>
            <a:ext cx="843588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88850-2CA2-423E-A00D-1C22FFB90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7116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9404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8097E-B95B-460C-8D23-0595EC683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3440" y="11206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080" y="11206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71160" y="38962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3440" y="38962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080" y="38962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085B1-AFD0-4BB9-B533-57AAD6D5F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9FB58-60EB-4DE6-A74B-20C48D665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71160" y="1120680"/>
            <a:ext cx="8435880" cy="531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AC09C-CF46-4E37-AAD0-4CE4F08C1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843588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7CE16-3BD6-4CE9-84F1-0862379E4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B5B33-5666-49D3-BAB9-A913CC2AA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BA434-D99C-40E1-96DA-6AD7112AF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843588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D95B-D55F-4361-A9D4-B9DC24EE8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371160" y="166680"/>
            <a:ext cx="843588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5FF26-D67A-4B14-BCBC-F67518B5B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7116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1BBE5-0944-4444-AFBF-4DFC4756F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9404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18EA3-EA13-4BCE-9FA1-9C7B8F05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71160" y="3896280"/>
            <a:ext cx="843588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E0A2F-D802-4BD1-B8D4-F56BE4CEE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843588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71160" y="3896280"/>
            <a:ext cx="843588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3BD4B-766B-460F-8479-495669B63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7116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9404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F102F-C56B-41EA-B8C0-FC8029834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23440" y="11206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76080" y="11206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371160" y="38962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23440" y="38962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76080" y="38962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EFA7D-2F36-47B2-9D1C-2C6E2693E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5B0AD-7BD1-421C-B87D-05D624C45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371160" y="1120680"/>
            <a:ext cx="8435880" cy="531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F5CF4-5C70-43ED-BE22-B0E82E2ED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843588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04D61-17C3-482E-81DB-45AFD0F1D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4B6D-3191-4EDF-8DF7-19A0DF2C6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0B2BB-B9B2-4162-A30D-C413CA580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FDF73-CE75-4F80-954B-9FDF0BCB3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371160" y="166680"/>
            <a:ext cx="843588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0B10B-4DBA-4957-931A-D8AE31981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37116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986E4-B6F4-4481-A977-8287B3C7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9404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96A8F-86FC-4644-B1E2-49EC82525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71160" y="3896280"/>
            <a:ext cx="843588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3779F-D456-462E-B16B-3D7F4358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843588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71160" y="3896280"/>
            <a:ext cx="843588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7624E-D823-446C-8891-A072AF528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7116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9404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72BBB-B102-421E-A0AD-9018219D3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23440" y="11206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76080" y="11206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371160" y="38962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23440" y="38962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76080" y="38962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4D459-3D33-4496-A106-366D917ED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C8D8-96D3-412A-945A-F6B36BF2B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1160" y="166680"/>
            <a:ext cx="843588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E58F-2217-4EEB-891C-A8CB8B7AA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116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7A16-2D39-4C4C-99B8-E1E015149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404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6B99-47A2-4130-A7A0-AD9AAA00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1160" y="3896280"/>
            <a:ext cx="843588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86B4-1704-4287-B14D-65BF0A73A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D9588-3F25-4AF7-B1BC-026BDEC3DE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AF747-F9AD-4C87-8761-C94C855FE5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组合 6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83" name="矩形 7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" name="组合 9"/>
            <p:cNvGrpSpPr/>
            <p:nvPr/>
          </p:nvGrpSpPr>
          <p:grpSpPr>
            <a:xfrm>
              <a:off x="0" y="6676920"/>
              <a:ext cx="9144000" cy="193680"/>
              <a:chOff x="0" y="6676920"/>
              <a:chExt cx="9144000" cy="193680"/>
            </a:xfrm>
          </p:grpSpPr>
          <p:sp>
            <p:nvSpPr>
              <p:cNvPr id="85" name="矩形 10"/>
              <p:cNvSpPr/>
              <p:nvPr/>
            </p:nvSpPr>
            <p:spPr>
              <a:xfrm>
                <a:off x="0" y="6676920"/>
                <a:ext cx="2297160" cy="193680"/>
              </a:xfrm>
              <a:prstGeom prst="rect">
                <a:avLst/>
              </a:prstGeom>
              <a:solidFill>
                <a:srgbClr val="adb6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矩形 11"/>
              <p:cNvSpPr/>
              <p:nvPr/>
            </p:nvSpPr>
            <p:spPr>
              <a:xfrm>
                <a:off x="2288160" y="6676920"/>
                <a:ext cx="2279160" cy="193680"/>
              </a:xfrm>
              <a:prstGeom prst="rect">
                <a:avLst/>
              </a:prstGeom>
              <a:solidFill>
                <a:srgbClr val="087a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矩形 12"/>
              <p:cNvSpPr/>
              <p:nvPr/>
            </p:nvSpPr>
            <p:spPr>
              <a:xfrm>
                <a:off x="4558680" y="6676920"/>
                <a:ext cx="2297160" cy="193680"/>
              </a:xfrm>
              <a:prstGeom prst="rect">
                <a:avLst/>
              </a:prstGeom>
              <a:solidFill>
                <a:srgbClr val="cbd1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矩形 13"/>
              <p:cNvSpPr/>
              <p:nvPr/>
            </p:nvSpPr>
            <p:spPr>
              <a:xfrm>
                <a:off x="6846840" y="6676920"/>
                <a:ext cx="2297160" cy="193680"/>
              </a:xfrm>
              <a:prstGeom prst="rect">
                <a:avLst/>
              </a:prstGeom>
              <a:solidFill>
                <a:srgbClr val="2a32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9" name="PlaceHolder 1"/>
          <p:cNvSpPr>
            <a:spLocks noGrp="1"/>
          </p:cNvSpPr>
          <p:nvPr>
            <p:ph type="dt" idx="7"/>
          </p:nvPr>
        </p:nvSpPr>
        <p:spPr>
          <a:xfrm>
            <a:off x="628200" y="6451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d3f4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3f4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ftr" idx="8"/>
          </p:nvPr>
        </p:nvSpPr>
        <p:spPr>
          <a:xfrm>
            <a:off x="3029040" y="646740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3d3f4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d3f41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9"/>
          </p:nvPr>
        </p:nvSpPr>
        <p:spPr>
          <a:xfrm>
            <a:off x="6457680" y="6451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d3f4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4EC6B-4D6E-4E91-A39B-6369EC15368A}" type="slidenum">
              <a:rPr b="0" lang="en-US" sz="1200" spc="-1" strike="noStrike">
                <a:solidFill>
                  <a:srgbClr val="3d3f4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371160" y="1120680"/>
            <a:ext cx="843588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0070c0"/>
              </a:buClr>
              <a:buSzPct val="6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幼圆"/>
              </a:rPr>
              <a:t>Click to edit the outline text format</a:t>
            </a: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a6a1e0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幼圆"/>
              </a:rPr>
              <a:t>Second Outline Level</a:t>
            </a: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1199"/>
              </a:spcBef>
              <a:buClr>
                <a:srgbClr val="3d3f4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幼圆"/>
              </a:rPr>
              <a:t>Third Outline Level</a:t>
            </a: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1199"/>
              </a:spcBef>
              <a:buClr>
                <a:srgbClr val="3d3f4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幼圆"/>
              </a:rPr>
              <a:t>Fourth Outline Level</a:t>
            </a: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1199"/>
              </a:spcBef>
              <a:buClr>
                <a:srgbClr val="3d3f4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幼圆"/>
              </a:rPr>
              <a:t>Fifth Outline Level</a:t>
            </a: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1199"/>
              </a:spcBef>
              <a:buClr>
                <a:srgbClr val="3d3f4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幼圆"/>
              </a:rPr>
              <a:t>Sixth Outline Level</a:t>
            </a: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1199"/>
              </a:spcBef>
              <a:buClr>
                <a:srgbClr val="3d3f4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幼圆"/>
              </a:rPr>
              <a:t>Seventh Outline Level</a:t>
            </a: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矩形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组合 15"/>
          <p:cNvGrpSpPr/>
          <p:nvPr/>
        </p:nvGrpSpPr>
        <p:grpSpPr>
          <a:xfrm>
            <a:off x="3203640" y="-12600"/>
            <a:ext cx="2606760" cy="1428480"/>
            <a:chOff x="3203640" y="-12600"/>
            <a:chExt cx="2606760" cy="1428480"/>
          </a:xfrm>
        </p:grpSpPr>
        <p:sp>
          <p:nvSpPr>
            <p:cNvPr id="132" name="椭圆 16"/>
            <p:cNvSpPr/>
            <p:nvPr/>
          </p:nvSpPr>
          <p:spPr>
            <a:xfrm>
              <a:off x="3203640" y="764640"/>
              <a:ext cx="651600" cy="651240"/>
            </a:xfrm>
            <a:prstGeom prst="ellipse">
              <a:avLst/>
            </a:prstGeom>
            <a:solidFill>
              <a:srgbClr val="adb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矩形 17"/>
            <p:cNvSpPr/>
            <p:nvPr/>
          </p:nvSpPr>
          <p:spPr>
            <a:xfrm>
              <a:off x="3203640" y="-12600"/>
              <a:ext cx="651600" cy="1103040"/>
            </a:xfrm>
            <a:prstGeom prst="rect">
              <a:avLst/>
            </a:prstGeom>
            <a:solidFill>
              <a:srgbClr val="adb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椭圆 18"/>
            <p:cNvSpPr/>
            <p:nvPr/>
          </p:nvSpPr>
          <p:spPr>
            <a:xfrm>
              <a:off x="3855240" y="764640"/>
              <a:ext cx="651600" cy="651240"/>
            </a:xfrm>
            <a:prstGeom prst="ellipse">
              <a:avLst/>
            </a:prstGeom>
            <a:solidFill>
              <a:srgbClr val="097f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矩形 19"/>
            <p:cNvSpPr/>
            <p:nvPr/>
          </p:nvSpPr>
          <p:spPr>
            <a:xfrm>
              <a:off x="3855240" y="-12600"/>
              <a:ext cx="651600" cy="1103040"/>
            </a:xfrm>
            <a:prstGeom prst="rect">
              <a:avLst/>
            </a:prstGeom>
            <a:solidFill>
              <a:srgbClr val="097f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椭圆 20"/>
            <p:cNvSpPr/>
            <p:nvPr/>
          </p:nvSpPr>
          <p:spPr>
            <a:xfrm>
              <a:off x="4507200" y="764640"/>
              <a:ext cx="651600" cy="651240"/>
            </a:xfrm>
            <a:prstGeom prst="ellipse">
              <a:avLst/>
            </a:prstGeom>
            <a:solidFill>
              <a:srgbClr val="cbd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矩形 21"/>
            <p:cNvSpPr/>
            <p:nvPr/>
          </p:nvSpPr>
          <p:spPr>
            <a:xfrm>
              <a:off x="4507200" y="-12600"/>
              <a:ext cx="651600" cy="1103040"/>
            </a:xfrm>
            <a:prstGeom prst="rect">
              <a:avLst/>
            </a:prstGeom>
            <a:solidFill>
              <a:srgbClr val="cbd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椭圆 22"/>
            <p:cNvSpPr/>
            <p:nvPr/>
          </p:nvSpPr>
          <p:spPr>
            <a:xfrm>
              <a:off x="5158800" y="764640"/>
              <a:ext cx="651600" cy="651240"/>
            </a:xfrm>
            <a:prstGeom prst="ellipse">
              <a:avLst/>
            </a:prstGeom>
            <a:solidFill>
              <a:srgbClr val="1a1d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矩形 23"/>
            <p:cNvSpPr/>
            <p:nvPr/>
          </p:nvSpPr>
          <p:spPr>
            <a:xfrm>
              <a:off x="5158800" y="-12600"/>
              <a:ext cx="651600" cy="1103040"/>
            </a:xfrm>
            <a:prstGeom prst="rect">
              <a:avLst/>
            </a:prstGeom>
            <a:solidFill>
              <a:srgbClr val="1a1d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组合 24"/>
          <p:cNvGrpSpPr/>
          <p:nvPr/>
        </p:nvGrpSpPr>
        <p:grpSpPr>
          <a:xfrm>
            <a:off x="0" y="6676920"/>
            <a:ext cx="9144000" cy="193680"/>
            <a:chOff x="0" y="6676920"/>
            <a:chExt cx="9144000" cy="193680"/>
          </a:xfrm>
        </p:grpSpPr>
        <p:sp>
          <p:nvSpPr>
            <p:cNvPr id="141" name="矩形 25"/>
            <p:cNvSpPr/>
            <p:nvPr/>
          </p:nvSpPr>
          <p:spPr>
            <a:xfrm>
              <a:off x="0" y="6676920"/>
              <a:ext cx="2297160" cy="193680"/>
            </a:xfrm>
            <a:prstGeom prst="rect">
              <a:avLst/>
            </a:prstGeom>
            <a:solidFill>
              <a:srgbClr val="adb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矩形 26"/>
            <p:cNvSpPr/>
            <p:nvPr/>
          </p:nvSpPr>
          <p:spPr>
            <a:xfrm>
              <a:off x="2288160" y="6676920"/>
              <a:ext cx="2279160" cy="193680"/>
            </a:xfrm>
            <a:prstGeom prst="rect">
              <a:avLst/>
            </a:prstGeom>
            <a:solidFill>
              <a:srgbClr val="087a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矩形 27"/>
            <p:cNvSpPr/>
            <p:nvPr/>
          </p:nvSpPr>
          <p:spPr>
            <a:xfrm>
              <a:off x="4558680" y="6676920"/>
              <a:ext cx="2297160" cy="193680"/>
            </a:xfrm>
            <a:prstGeom prst="rect">
              <a:avLst/>
            </a:prstGeom>
            <a:solidFill>
              <a:srgbClr val="cbd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矩形 28"/>
            <p:cNvSpPr/>
            <p:nvPr/>
          </p:nvSpPr>
          <p:spPr>
            <a:xfrm>
              <a:off x="6846840" y="6676920"/>
              <a:ext cx="2297160" cy="193680"/>
            </a:xfrm>
            <a:prstGeom prst="rect">
              <a:avLst/>
            </a:prstGeom>
            <a:solidFill>
              <a:srgbClr val="2a32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PlaceHolder 1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d3f4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3f4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ftr" idx="11"/>
          </p:nvPr>
        </p:nvSpPr>
        <p:spPr>
          <a:xfrm>
            <a:off x="3124080" y="62416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3d3f4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d3f41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d3f4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89EA1-7F1A-46E4-A891-59192A55AEE5}" type="slidenum">
              <a:rPr b="0" lang="en-US" sz="1200" spc="-1" strike="noStrike">
                <a:solidFill>
                  <a:srgbClr val="3d3f4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title"/>
          </p:nvPr>
        </p:nvSpPr>
        <p:spPr>
          <a:xfrm>
            <a:off x="1130040" y="2282760"/>
            <a:ext cx="701028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微软雅黑"/>
              </a:rPr>
              <a:t>Click to edit the title text format</a:t>
            </a:r>
            <a:endParaRPr b="1" lang="en-US" sz="36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49" name="副标题 6"/>
          <p:cNvSpPr/>
          <p:nvPr/>
        </p:nvSpPr>
        <p:spPr>
          <a:xfrm>
            <a:off x="2287440" y="3282840"/>
            <a:ext cx="4581720" cy="384120"/>
          </a:xfrm>
          <a:prstGeom prst="roundRect">
            <a:avLst>
              <a:gd name="adj" fmla="val 50000"/>
            </a:avLst>
          </a:prstGeom>
          <a:solidFill>
            <a:srgbClr val="adb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幼圆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幼圆"/>
            </a:endParaRPr>
          </a:p>
          <a:p>
            <a:pPr lvl="1" indent="0" algn="ctr">
              <a:lnSpc>
                <a:spcPct val="120000"/>
              </a:lnSpc>
              <a:spcAft>
                <a:spcPts val="1199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3d3f41"/>
                </a:solidFill>
                <a:latin typeface="幼圆"/>
              </a:rPr>
              <a:t>Second Outline Level</a:t>
            </a:r>
            <a:endParaRPr b="0" lang="en-US" sz="1600" spc="-1" strike="noStrike">
              <a:solidFill>
                <a:srgbClr val="3d3f41"/>
              </a:solidFill>
              <a:latin typeface="幼圆"/>
            </a:endParaRPr>
          </a:p>
          <a:p>
            <a:pPr lvl="2" marL="685800" algn="ctr">
              <a:lnSpc>
                <a:spcPct val="90000"/>
              </a:lnSpc>
              <a:spcBef>
                <a:spcPts val="374"/>
              </a:spcBef>
              <a:buClr>
                <a:srgbClr val="3d3f41"/>
              </a:buClr>
              <a:buFont typeface="Arial"/>
              <a:buChar char="•"/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3d3f41"/>
                </a:solidFill>
                <a:latin typeface="Calibri"/>
              </a:rPr>
              <a:t>Third Outline Level</a:t>
            </a:r>
            <a:endParaRPr b="0" lang="en-US" sz="1500" spc="-1" strike="noStrike">
              <a:solidFill>
                <a:srgbClr val="3d3f41"/>
              </a:solidFill>
              <a:latin typeface="Calibri"/>
            </a:endParaRPr>
          </a:p>
          <a:p>
            <a:pPr lvl="3" marL="1028880" algn="ctr">
              <a:lnSpc>
                <a:spcPct val="90000"/>
              </a:lnSpc>
              <a:spcBef>
                <a:spcPts val="374"/>
              </a:spcBef>
              <a:buClr>
                <a:srgbClr val="3d3f41"/>
              </a:buClr>
              <a:buFont typeface="Arial"/>
              <a:buChar char="•"/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3d3f41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3d3f41"/>
              </a:solidFill>
              <a:latin typeface="Calibri"/>
            </a:endParaRPr>
          </a:p>
          <a:p>
            <a:pPr lvl="4" marL="1371600" algn="ctr">
              <a:lnSpc>
                <a:spcPct val="90000"/>
              </a:lnSpc>
              <a:spcBef>
                <a:spcPts val="374"/>
              </a:spcBef>
              <a:buClr>
                <a:srgbClr val="3d3f41"/>
              </a:buClr>
              <a:buFont typeface="Arial"/>
              <a:buChar char="•"/>
              <a:tabLst>
                <a:tab algn="l" pos="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3d3f41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3d3f41"/>
              </a:solidFill>
              <a:latin typeface="Calibri"/>
            </a:endParaRPr>
          </a:p>
          <a:p>
            <a:pPr lvl="5" marL="1371600">
              <a:spcBef>
                <a:spcPts val="326"/>
              </a:spcBef>
              <a:buClr>
                <a:srgbClr val="3d3f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d3f41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3d3f41"/>
              </a:solidFill>
              <a:latin typeface="Calibri"/>
            </a:endParaRPr>
          </a:p>
          <a:p>
            <a:pPr lvl="6" marL="1371600">
              <a:spcBef>
                <a:spcPts val="326"/>
              </a:spcBef>
              <a:buClr>
                <a:srgbClr val="3d3f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d3f41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3d3f4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 rot="5400000">
            <a:off x="2266920" y="2205000"/>
            <a:ext cx="4105440" cy="1943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77000"/>
                    </a:srgbClr>
                  </a:outerShdw>
                </a:effectLst>
                <a:latin typeface="宋体"/>
              </a:rPr>
              <a:t>乌塔</a:t>
            </a:r>
            <a:endParaRPr b="0" i="1" lang="en-US" sz="1800" spc="-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黑体"/>
              </a:rPr>
              <a:t>乌塔是这样的一个孩子</a:t>
            </a:r>
            <a:endParaRPr b="1" lang="en-US" sz="36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620640"/>
            <a:ext cx="69138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600" spc="-1" strike="noStrike">
              <a:solidFill>
                <a:srgbClr val="0070c0"/>
              </a:solidFill>
              <a:latin typeface="幼圆"/>
            </a:endParaRPr>
          </a:p>
          <a:p>
            <a:pPr marL="36180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600" spc="-1" strike="noStrike">
              <a:solidFill>
                <a:srgbClr val="0070c0"/>
              </a:solidFill>
              <a:latin typeface="幼圆"/>
            </a:endParaRPr>
          </a:p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0070c0"/>
              </a:buClr>
              <a:buSzPct val="6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ccff"/>
                </a:solidFill>
                <a:latin typeface="幼圆"/>
              </a:rPr>
              <a:t>⑹</a:t>
            </a:r>
            <a:r>
              <a:rPr b="1" lang="zh-CN" sz="3600" spc="-1" strike="noStrike">
                <a:solidFill>
                  <a:srgbClr val="00ccff"/>
                </a:solidFill>
                <a:latin typeface="幼圆"/>
              </a:rPr>
              <a:t>做事有恒心、有毅力。</a:t>
            </a:r>
            <a:endParaRPr b="1" lang="en-US" sz="36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755640" y="3213000"/>
            <a:ext cx="7416720" cy="59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0070c0"/>
              </a:buClr>
              <a:buSzPct val="6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幼圆"/>
              </a:rPr>
              <a:t>如：为这次旅行他准备了整整</a:t>
            </a:r>
            <a:r>
              <a:rPr b="1" lang="zh-CN" sz="3200" spc="-1" strike="noStrike">
                <a:solidFill>
                  <a:srgbClr val="0070c0"/>
                </a:solidFill>
                <a:latin typeface="幼圆"/>
              </a:rPr>
              <a:t>3</a:t>
            </a:r>
            <a:r>
              <a:rPr b="1" lang="zh-CN" sz="3200" spc="-1" strike="noStrike">
                <a:solidFill>
                  <a:srgbClr val="0070c0"/>
                </a:solidFill>
                <a:latin typeface="幼圆"/>
              </a:rPr>
              <a:t>年，阅读了很多有关这些国家的书籍。……</a:t>
            </a:r>
            <a:br>
              <a:rPr sz="3200"/>
            </a:br>
            <a:r>
              <a:rPr b="1" lang="zh-CN" sz="3200" spc="-1" strike="noStrike">
                <a:solidFill>
                  <a:srgbClr val="0070c0"/>
                </a:solidFill>
                <a:latin typeface="幼圆"/>
              </a:rPr>
              <a:t> </a:t>
            </a:r>
            <a:endParaRPr b="1" lang="en-US" sz="3200" spc="-1" strike="noStrike">
              <a:solidFill>
                <a:srgbClr val="0070c0"/>
              </a:solidFill>
              <a:latin typeface="幼圆"/>
            </a:endParaRPr>
          </a:p>
          <a:p>
            <a:pPr marL="36180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826920" y="981000"/>
            <a:ext cx="74901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黑体"/>
                <a:ea typeface="黑体"/>
              </a:rPr>
              <a:t>        </a:t>
            </a:r>
            <a:endParaRPr b="1" lang="en-US" sz="3600" spc="-1" strike="noStrike">
              <a:solidFill>
                <a:srgbClr val="0070c0"/>
              </a:solidFill>
              <a:latin typeface="幼圆"/>
            </a:endParaRPr>
          </a:p>
          <a:p>
            <a:pPr marL="361800"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黑体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6a63cb"/>
                </a:solidFill>
                <a:latin typeface="黑体"/>
                <a:ea typeface="黑体"/>
              </a:rPr>
              <a:t>⑴</a:t>
            </a:r>
            <a:r>
              <a:rPr b="1" lang="zh-CN" sz="3600" spc="-1" strike="noStrike">
                <a:solidFill>
                  <a:srgbClr val="6a63cb"/>
                </a:solidFill>
                <a:latin typeface="黑体"/>
                <a:ea typeface="黑体"/>
              </a:rPr>
              <a:t>经验丰富、从容不迫。 </a:t>
            </a:r>
            <a:endParaRPr b="1" lang="en-US" sz="3600" spc="-1" strike="noStrike">
              <a:solidFill>
                <a:srgbClr val="0070c0"/>
              </a:solidFill>
              <a:latin typeface="幼圆"/>
            </a:endParaRPr>
          </a:p>
          <a:p>
            <a:pPr marL="361800"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6a63cb"/>
                </a:solidFill>
                <a:latin typeface="黑体"/>
                <a:ea typeface="黑体"/>
              </a:rPr>
              <a:t>　　　　⑵赋有生活激情。</a:t>
            </a:r>
            <a:endParaRPr b="1" lang="en-US" sz="3600" spc="-1" strike="noStrike">
              <a:solidFill>
                <a:srgbClr val="0070c0"/>
              </a:solidFill>
              <a:latin typeface="幼圆"/>
            </a:endParaRPr>
          </a:p>
          <a:p>
            <a:pPr marL="361800"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6a63cb"/>
                </a:solidFill>
                <a:latin typeface="黑体"/>
                <a:ea typeface="黑体"/>
              </a:rPr>
              <a:t>　　　　⑶热情、活泼。 </a:t>
            </a:r>
            <a:endParaRPr b="1" lang="en-US" sz="3600" spc="-1" strike="noStrike">
              <a:solidFill>
                <a:srgbClr val="0070c0"/>
              </a:solidFill>
              <a:latin typeface="幼圆"/>
            </a:endParaRPr>
          </a:p>
          <a:p>
            <a:pPr marL="361800"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6a63cb"/>
                </a:solidFill>
                <a:latin typeface="黑体"/>
                <a:ea typeface="黑体"/>
              </a:rPr>
              <a:t>　　　　⑷</a:t>
            </a:r>
            <a:r>
              <a:rPr b="1" lang="zh-CN" sz="3600" spc="-1" strike="noStrike">
                <a:solidFill>
                  <a:srgbClr val="6a63cb"/>
                </a:solidFill>
                <a:latin typeface="幼圆"/>
              </a:rPr>
              <a:t>安排周密、 计划性强</a:t>
            </a:r>
            <a:r>
              <a:rPr b="1" lang="zh-CN" sz="3600" spc="-1" strike="noStrike">
                <a:solidFill>
                  <a:srgbClr val="6a63cb"/>
                </a:solidFill>
                <a:latin typeface="黑体"/>
                <a:ea typeface="黑体"/>
              </a:rPr>
              <a:t>。 </a:t>
            </a:r>
            <a:endParaRPr b="1" lang="en-US" sz="3600" spc="-1" strike="noStrike">
              <a:solidFill>
                <a:srgbClr val="0070c0"/>
              </a:solidFill>
              <a:latin typeface="幼圆"/>
            </a:endParaRPr>
          </a:p>
          <a:p>
            <a:pPr marL="361800"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6a63cb"/>
                </a:solidFill>
                <a:latin typeface="黑体"/>
                <a:ea typeface="黑体"/>
              </a:rPr>
              <a:t>　　　　⑸</a:t>
            </a:r>
            <a:r>
              <a:rPr b="1" lang="zh-CN" sz="3600" spc="-1" strike="noStrike">
                <a:solidFill>
                  <a:srgbClr val="6a63cb"/>
                </a:solidFill>
                <a:latin typeface="幼圆"/>
              </a:rPr>
              <a:t>自力更生</a:t>
            </a:r>
            <a:r>
              <a:rPr b="1" lang="zh-CN" sz="3600" spc="-1" strike="noStrike">
                <a:solidFill>
                  <a:srgbClr val="6a63cb"/>
                </a:solidFill>
                <a:latin typeface="黑体"/>
                <a:ea typeface="黑体"/>
              </a:rPr>
              <a:t>。 </a:t>
            </a:r>
            <a:endParaRPr b="1" lang="en-US" sz="3600" spc="-1" strike="noStrike">
              <a:solidFill>
                <a:srgbClr val="0070c0"/>
              </a:solidFill>
              <a:latin typeface="幼圆"/>
            </a:endParaRPr>
          </a:p>
          <a:p>
            <a:pPr marL="361800"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6a63cb"/>
                </a:solidFill>
                <a:latin typeface="黑体"/>
                <a:ea typeface="黑体"/>
              </a:rPr>
              <a:t>　　　　⑹</a:t>
            </a:r>
            <a:r>
              <a:rPr b="1" lang="zh-CN" sz="3600" spc="-1" strike="noStrike">
                <a:solidFill>
                  <a:srgbClr val="6a63cb"/>
                </a:solidFill>
                <a:latin typeface="幼圆"/>
              </a:rPr>
              <a:t>做事有恒心、有毅力</a:t>
            </a:r>
            <a:r>
              <a:rPr b="1" lang="zh-CN" sz="3600" spc="-1" strike="noStrike">
                <a:solidFill>
                  <a:srgbClr val="6a63cb"/>
                </a:solidFill>
                <a:latin typeface="黑体"/>
                <a:ea typeface="黑体"/>
              </a:rPr>
              <a:t>。</a:t>
            </a:r>
            <a:endParaRPr b="1" lang="en-US" sz="3600" spc="-1" strike="noStrike">
              <a:solidFill>
                <a:srgbClr val="0070c0"/>
              </a:solidFill>
              <a:latin typeface="幼圆"/>
            </a:endParaRPr>
          </a:p>
          <a:p>
            <a:pPr marL="361800"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6a63cb"/>
                </a:solidFill>
                <a:latin typeface="黑体"/>
                <a:ea typeface="黑体"/>
              </a:rPr>
              <a:t>      </a:t>
            </a:r>
            <a:endParaRPr b="1" lang="en-US" sz="3600" spc="-1" strike="noStrike">
              <a:solidFill>
                <a:srgbClr val="0070c0"/>
              </a:solidFill>
              <a:latin typeface="幼圆"/>
            </a:endParaRPr>
          </a:p>
          <a:p>
            <a:pPr marL="361800"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6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黑体"/>
              </a:rPr>
              <a:t>乌塔是这样的一个孩子</a:t>
            </a:r>
            <a:endParaRPr b="1" lang="en-US" sz="3600" spc="-1" strike="noStrike">
              <a:solidFill>
                <a:srgbClr val="0070c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55400" y="1407600"/>
            <a:ext cx="7234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57200" indent="0">
              <a:lnSpc>
                <a:spcPct val="80000"/>
              </a:lnSpc>
              <a:spcBef>
                <a:spcPts val="2001"/>
              </a:spcBef>
              <a:spcAft>
                <a:spcPts val="1199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3d3f41"/>
                </a:solidFill>
                <a:latin typeface="幼圆"/>
              </a:rPr>
              <a:t>1</a:t>
            </a:r>
            <a:r>
              <a:rPr b="1" lang="zh-CN" sz="3200" spc="-1" strike="noStrike">
                <a:solidFill>
                  <a:srgbClr val="3d3f41"/>
                </a:solidFill>
                <a:latin typeface="幼圆"/>
              </a:rPr>
              <a:t>、读课文的七、八、九自然段，找一下乌塔和中国小孩有什么不同？用曲线画下来。</a:t>
            </a:r>
            <a:endParaRPr b="0" lang="en-US" sz="3200" spc="-1" strike="noStrike">
              <a:solidFill>
                <a:srgbClr val="3d3f41"/>
              </a:solidFill>
              <a:latin typeface="幼圆"/>
            </a:endParaRPr>
          </a:p>
        </p:txBody>
      </p:sp>
      <p:sp>
        <p:nvSpPr>
          <p:cNvPr id="234" name=""/>
          <p:cNvSpPr/>
          <p:nvPr/>
        </p:nvSpPr>
        <p:spPr>
          <a:xfrm>
            <a:off x="1044720" y="2921040"/>
            <a:ext cx="763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3f41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042920" y="3429000"/>
            <a:ext cx="61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3f41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3d3f41"/>
                </a:solidFill>
                <a:latin typeface="Arial"/>
              </a:rPr>
              <a:t>、从乌塔的身上，你得到了什么启发，受到了什么启示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971640" y="1341360"/>
            <a:ext cx="9396360" cy="21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正方：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d3f41"/>
                </a:solidFill>
                <a:latin typeface="Times New Roman"/>
              </a:rPr>
              <a:t>—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</a:rPr>
              <a:t>乌塔一人游欧洲，很好 </a:t>
            </a:r>
            <a:r>
              <a:rPr b="1" lang="en-US" sz="4000" spc="-1" strike="noStrike">
                <a:solidFill>
                  <a:srgbClr val="6600ff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352680" y="0"/>
            <a:ext cx="336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Times New Roman"/>
                <a:ea typeface="华文琥珀"/>
              </a:rPr>
              <a:t>辩论</a:t>
            </a:r>
            <a:r>
              <a:rPr b="1" lang="zh-CN" sz="8800" spc="-1" strike="noStrike">
                <a:solidFill>
                  <a:srgbClr val="ff0000"/>
                </a:solidFill>
                <a:latin typeface="Times New Roman"/>
                <a:ea typeface="华文琥珀"/>
              </a:rPr>
              <a:t>：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042920" y="3645000"/>
            <a:ext cx="9648720" cy="21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反方：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d3f41"/>
                </a:solidFill>
                <a:latin typeface="Times New Roman"/>
              </a:rPr>
              <a:t>—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</a:rPr>
              <a:t>乌塔一人游欧洲，不好</a:t>
            </a:r>
            <a:r>
              <a:rPr b="1" lang="en-US" sz="4000" spc="-1" strike="noStrike">
                <a:solidFill>
                  <a:srgbClr val="6600ff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微软雅黑"/>
              </a:rPr>
              <a:t>美丽的欧洲国家</a:t>
            </a: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pic>
        <p:nvPicPr>
          <p:cNvPr id="240" name="KSO_BC1" descr=""/>
          <p:cNvPicPr/>
          <p:nvPr/>
        </p:nvPicPr>
        <p:blipFill>
          <a:blip r:embed="rId1"/>
          <a:srcRect l="0" t="0" r="0" b="33782"/>
          <a:stretch/>
        </p:blipFill>
        <p:spPr>
          <a:xfrm>
            <a:off x="539640" y="1123920"/>
            <a:ext cx="8229600" cy="46101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7380360" y="5877000"/>
            <a:ext cx="360360" cy="288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微软雅黑"/>
              </a:rPr>
              <a:t>法国风光</a:t>
            </a: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pic>
        <p:nvPicPr>
          <p:cNvPr id="243" name="KSO_BC1" descr=""/>
          <p:cNvPicPr/>
          <p:nvPr/>
        </p:nvPicPr>
        <p:blipFill>
          <a:blip r:embed="rId1"/>
          <a:srcRect l="0" t="0" r="4629" b="6646"/>
          <a:stretch/>
        </p:blipFill>
        <p:spPr>
          <a:xfrm>
            <a:off x="684360" y="981000"/>
            <a:ext cx="8045280" cy="49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微软雅黑"/>
              </a:rPr>
              <a:t>米兰风光</a:t>
            </a: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pic>
        <p:nvPicPr>
          <p:cNvPr id="245" name="KSO_BC1" descr=""/>
          <p:cNvPicPr/>
          <p:nvPr/>
        </p:nvPicPr>
        <p:blipFill>
          <a:blip r:embed="rId1"/>
          <a:srcRect l="2829" t="3205" r="13167" b="4803"/>
          <a:stretch/>
        </p:blipFill>
        <p:spPr>
          <a:xfrm>
            <a:off x="1066680" y="1366920"/>
            <a:ext cx="7086600" cy="48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微软雅黑"/>
              </a:rPr>
              <a:t>希腊风光</a:t>
            </a: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pic>
        <p:nvPicPr>
          <p:cNvPr id="247" name="KSO_BC1" descr=""/>
          <p:cNvPicPr/>
          <p:nvPr/>
        </p:nvPicPr>
        <p:blipFill>
          <a:blip r:embed="rId1"/>
          <a:stretch/>
        </p:blipFill>
        <p:spPr>
          <a:xfrm>
            <a:off x="371520" y="1120680"/>
            <a:ext cx="8435880" cy="531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微软雅黑"/>
              </a:rPr>
              <a:t>瑞士风光（一）</a:t>
            </a: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pic>
        <p:nvPicPr>
          <p:cNvPr id="249" name="KSO_BC1" descr=""/>
          <p:cNvPicPr/>
          <p:nvPr/>
        </p:nvPicPr>
        <p:blipFill>
          <a:blip r:embed="rId1"/>
          <a:stretch/>
        </p:blipFill>
        <p:spPr>
          <a:xfrm>
            <a:off x="371520" y="1120680"/>
            <a:ext cx="8435880" cy="531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微软雅黑"/>
              </a:rPr>
              <a:t>瑞士风光（二）</a:t>
            </a: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pic>
        <p:nvPicPr>
          <p:cNvPr id="251" name="KSO_BC1" descr=""/>
          <p:cNvPicPr/>
          <p:nvPr/>
        </p:nvPicPr>
        <p:blipFill>
          <a:blip r:embed="rId1"/>
          <a:stretch/>
        </p:blipFill>
        <p:spPr>
          <a:xfrm>
            <a:off x="371520" y="1120680"/>
            <a:ext cx="8435880" cy="531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84360" y="549360"/>
            <a:ext cx="4608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微软雅黑"/>
              </a:rPr>
              <a:t>自读课文的要求：</a:t>
            </a: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50560" y="1989000"/>
            <a:ext cx="799308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lvl="1" marL="217080" indent="0">
              <a:lnSpc>
                <a:spcPct val="120000"/>
              </a:lnSpc>
              <a:spcAft>
                <a:spcPts val="1199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400" spc="-1" strike="noStrike">
                <a:solidFill>
                  <a:srgbClr val="3d3f41"/>
                </a:solidFill>
                <a:latin typeface="幼圆"/>
              </a:rPr>
              <a:t>1</a:t>
            </a:r>
            <a:r>
              <a:rPr b="1" lang="zh-CN" sz="4400" spc="-1" strike="noStrike">
                <a:solidFill>
                  <a:srgbClr val="3d3f41"/>
                </a:solidFill>
                <a:latin typeface="幼圆"/>
              </a:rPr>
              <a:t>、文中有几个人物？</a:t>
            </a:r>
            <a:endParaRPr b="0" lang="en-US" sz="4400" spc="-1" strike="noStrike">
              <a:solidFill>
                <a:srgbClr val="3d3f41"/>
              </a:solidFill>
              <a:latin typeface="幼圆"/>
            </a:endParaRPr>
          </a:p>
          <a:p>
            <a:pPr lvl="1" marL="217080" indent="0">
              <a:lnSpc>
                <a:spcPct val="120000"/>
              </a:lnSpc>
              <a:spcAft>
                <a:spcPts val="1199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400" spc="-1" strike="noStrike">
                <a:solidFill>
                  <a:srgbClr val="3d3f41"/>
                </a:solidFill>
                <a:latin typeface="幼圆"/>
              </a:rPr>
              <a:t>2</a:t>
            </a:r>
            <a:r>
              <a:rPr b="1" lang="zh-CN" sz="4400" spc="-1" strike="noStrike">
                <a:solidFill>
                  <a:srgbClr val="3d3f41"/>
                </a:solidFill>
                <a:latin typeface="幼圆"/>
              </a:rPr>
              <a:t>、主人公是谁？</a:t>
            </a:r>
            <a:endParaRPr b="0" lang="en-US" sz="4400" spc="-1" strike="noStrike">
              <a:solidFill>
                <a:srgbClr val="3d3f41"/>
              </a:solidFill>
              <a:latin typeface="幼圆"/>
            </a:endParaRPr>
          </a:p>
          <a:p>
            <a:pPr lvl="1" marL="217080" indent="0">
              <a:lnSpc>
                <a:spcPct val="120000"/>
              </a:lnSpc>
              <a:spcAft>
                <a:spcPts val="1199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400" spc="-1" strike="noStrike">
                <a:solidFill>
                  <a:srgbClr val="3d3f41"/>
                </a:solidFill>
                <a:latin typeface="幼圆"/>
              </a:rPr>
              <a:t>3</a:t>
            </a:r>
            <a:r>
              <a:rPr b="1" lang="zh-CN" sz="4400" spc="-1" strike="noStrike">
                <a:solidFill>
                  <a:srgbClr val="3d3f41"/>
                </a:solidFill>
                <a:latin typeface="幼圆"/>
              </a:rPr>
              <a:t>、本文讲了一件什么事情？</a:t>
            </a:r>
            <a:endParaRPr b="0" lang="en-US" sz="4400" spc="-1" strike="noStrike">
              <a:solidFill>
                <a:srgbClr val="3d3f41"/>
              </a:solidFill>
              <a:latin typeface="幼圆"/>
            </a:endParaRPr>
          </a:p>
        </p:txBody>
      </p:sp>
      <p:sp>
        <p:nvSpPr>
          <p:cNvPr id="190" name=""/>
          <p:cNvSpPr/>
          <p:nvPr/>
        </p:nvSpPr>
        <p:spPr>
          <a:xfrm>
            <a:off x="1187280" y="4005360"/>
            <a:ext cx="6913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微软雅黑"/>
              </a:rPr>
              <a:t>维也纳风光</a:t>
            </a: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pic>
        <p:nvPicPr>
          <p:cNvPr id="253" name="KSO_BC1" descr=""/>
          <p:cNvPicPr/>
          <p:nvPr/>
        </p:nvPicPr>
        <p:blipFill>
          <a:blip r:embed="rId1"/>
          <a:stretch/>
        </p:blipFill>
        <p:spPr>
          <a:xfrm>
            <a:off x="371520" y="1120680"/>
            <a:ext cx="8435880" cy="531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微软雅黑"/>
              </a:rPr>
              <a:t>美丽的欧洲国家</a:t>
            </a: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255" name=""/>
          <p:cNvSpPr/>
          <p:nvPr/>
        </p:nvSpPr>
        <p:spPr>
          <a:xfrm>
            <a:off x="7380360" y="5877000"/>
            <a:ext cx="360360" cy="288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826920" y="1270080"/>
            <a:ext cx="7632720" cy="4392000"/>
            <a:chOff x="826920" y="1270080"/>
            <a:chExt cx="7632720" cy="4392000"/>
          </a:xfrm>
        </p:grpSpPr>
        <p:pic>
          <p:nvPicPr>
            <p:cNvPr id="257" name="" descr=""/>
            <p:cNvPicPr/>
            <p:nvPr/>
          </p:nvPicPr>
          <p:blipFill>
            <a:blip r:embed="rId1"/>
            <a:srcRect l="0" t="0" r="0" b="10603"/>
            <a:stretch/>
          </p:blipFill>
          <p:spPr>
            <a:xfrm>
              <a:off x="826920" y="3491640"/>
              <a:ext cx="7632720" cy="217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" descr=""/>
            <p:cNvPicPr/>
            <p:nvPr/>
          </p:nvPicPr>
          <p:blipFill>
            <a:blip r:embed="rId2"/>
            <a:srcRect l="0" t="65628" r="0" b="0"/>
            <a:stretch/>
          </p:blipFill>
          <p:spPr>
            <a:xfrm>
              <a:off x="826920" y="1270080"/>
              <a:ext cx="7597080" cy="2279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微软雅黑"/>
              </a:rPr>
              <a:t>意大利风光</a:t>
            </a:r>
            <a:r>
              <a:rPr b="1" lang="zh-CN" sz="3200" spc="-1" strike="noStrike">
                <a:solidFill>
                  <a:srgbClr val="0070c0"/>
                </a:solidFill>
                <a:latin typeface="微软雅黑"/>
              </a:rPr>
              <a:t>01</a:t>
            </a: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pic>
        <p:nvPicPr>
          <p:cNvPr id="260" name="KSO_BC1" descr=""/>
          <p:cNvPicPr/>
          <p:nvPr/>
        </p:nvPicPr>
        <p:blipFill>
          <a:blip r:embed="rId1"/>
          <a:stretch/>
        </p:blipFill>
        <p:spPr>
          <a:xfrm>
            <a:off x="371520" y="1120680"/>
            <a:ext cx="8435880" cy="53136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8388360" y="5877000"/>
            <a:ext cx="360360" cy="288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微软雅黑"/>
              </a:rPr>
              <a:t>意大利风光</a:t>
            </a:r>
            <a:r>
              <a:rPr b="1" lang="zh-CN" sz="3200" spc="-1" strike="noStrike">
                <a:solidFill>
                  <a:srgbClr val="0070c0"/>
                </a:solidFill>
                <a:latin typeface="微软雅黑"/>
              </a:rPr>
              <a:t>02</a:t>
            </a: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pic>
        <p:nvPicPr>
          <p:cNvPr id="263" name="KSO_BC1" descr=""/>
          <p:cNvPicPr/>
          <p:nvPr/>
        </p:nvPicPr>
        <p:blipFill>
          <a:blip r:embed="rId1"/>
          <a:stretch/>
        </p:blipFill>
        <p:spPr>
          <a:xfrm>
            <a:off x="371520" y="1120680"/>
            <a:ext cx="8435880" cy="53136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8388360" y="5877000"/>
            <a:ext cx="360360" cy="288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微软雅黑"/>
              </a:rPr>
              <a:t>意大利风光</a:t>
            </a:r>
            <a:r>
              <a:rPr b="1" lang="zh-CN" sz="3200" spc="-1" strike="noStrike">
                <a:solidFill>
                  <a:srgbClr val="0070c0"/>
                </a:solidFill>
                <a:latin typeface="微软雅黑"/>
              </a:rPr>
              <a:t>03</a:t>
            </a: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pic>
        <p:nvPicPr>
          <p:cNvPr id="266" name="KSO_BC1" descr=""/>
          <p:cNvPicPr/>
          <p:nvPr/>
        </p:nvPicPr>
        <p:blipFill>
          <a:blip r:embed="rId1"/>
          <a:stretch/>
        </p:blipFill>
        <p:spPr>
          <a:xfrm>
            <a:off x="371520" y="1120680"/>
            <a:ext cx="8435880" cy="53136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8388360" y="5877000"/>
            <a:ext cx="360360" cy="288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微软雅黑"/>
              </a:rPr>
              <a:t>威尼斯风光</a:t>
            </a: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pic>
        <p:nvPicPr>
          <p:cNvPr id="269" name="KSO_BC1" descr=""/>
          <p:cNvPicPr/>
          <p:nvPr/>
        </p:nvPicPr>
        <p:blipFill>
          <a:blip r:embed="rId1"/>
          <a:stretch/>
        </p:blipFill>
        <p:spPr>
          <a:xfrm>
            <a:off x="371520" y="1120680"/>
            <a:ext cx="8435880" cy="531360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8388360" y="5877000"/>
            <a:ext cx="360360" cy="288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微软雅黑"/>
              </a:rPr>
              <a:t>佛罗伦萨风光</a:t>
            </a: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pic>
        <p:nvPicPr>
          <p:cNvPr id="272" name="KSO_BC1" descr=""/>
          <p:cNvPicPr/>
          <p:nvPr/>
        </p:nvPicPr>
        <p:blipFill>
          <a:blip r:embed="rId1"/>
          <a:stretch/>
        </p:blipFill>
        <p:spPr>
          <a:xfrm>
            <a:off x="371520" y="1120680"/>
            <a:ext cx="8435880" cy="53136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8317080" y="5877000"/>
            <a:ext cx="360360" cy="288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微软雅黑"/>
              </a:rPr>
              <a:t>奥地利乡村风光</a:t>
            </a: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pic>
        <p:nvPicPr>
          <p:cNvPr id="275" name="KSO_BC1" descr=""/>
          <p:cNvPicPr/>
          <p:nvPr/>
        </p:nvPicPr>
        <p:blipFill>
          <a:blip r:embed="rId1"/>
          <a:stretch/>
        </p:blipFill>
        <p:spPr>
          <a:xfrm>
            <a:off x="371520" y="1120680"/>
            <a:ext cx="8435880" cy="531360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8388360" y="5877000"/>
            <a:ext cx="360360" cy="288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042920" y="1052640"/>
            <a:ext cx="533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fb2b4"/>
                </a:solidFill>
                <a:latin typeface="Times New Roman"/>
                <a:ea typeface="楷体_GB2312"/>
              </a:rPr>
              <a:t>你会读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042920" y="206064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Times New Roman"/>
                <a:ea typeface="楷体_GB2312"/>
              </a:rPr>
              <a:t>洗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219640" y="436572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惬</a:t>
            </a:r>
            <a:r>
              <a:rPr b="1" lang="en-US" sz="4000" spc="-1" strike="noStrike">
                <a:solidFill>
                  <a:srgbClr val="00b0f0"/>
                </a:solidFill>
                <a:latin typeface="Times New Roman"/>
                <a:ea typeface="楷体_GB2312"/>
              </a:rPr>
              <a:t> 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148360" y="2060640"/>
            <a:ext cx="350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Times New Roman"/>
                <a:ea typeface="楷体_GB2312"/>
              </a:rPr>
              <a:t>蒙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26920" y="486900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f0"/>
                </a:solidFill>
                <a:latin typeface="Times New Roman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987640" y="206064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Times New Roman"/>
                <a:ea typeface="楷体_GB2312"/>
              </a:rPr>
              <a:t>疲  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26920" y="328464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f0"/>
                </a:solidFill>
                <a:latin typeface="Times New Roman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b0f0"/>
                </a:solidFill>
                <a:latin typeface="Times New Roman"/>
                <a:ea typeface="楷体_GB2312"/>
              </a:rPr>
              <a:t>号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76720" y="328464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Times New Roman"/>
                <a:ea typeface="楷体_GB2312"/>
              </a:rPr>
              <a:t>书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43280" y="4437000"/>
            <a:ext cx="25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Times New Roman"/>
                <a:ea typeface="楷体_GB2312"/>
              </a:rPr>
              <a:t>语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00000" y="443700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Times New Roman"/>
                <a:ea typeface="楷体_GB2312"/>
              </a:rPr>
              <a:t>反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916360" y="3357720"/>
            <a:ext cx="30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逻  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547640" y="162864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Arial"/>
              </a:rPr>
              <a:t>sh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547640" y="278136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Arial"/>
              </a:rPr>
              <a:t>m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476360" y="39337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Arial"/>
              </a:rPr>
              <a:t>b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916360" y="278136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Arial"/>
              </a:rPr>
              <a:t>luó  jí</a:t>
            </a: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4000" y="393372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Arial"/>
              </a:rPr>
              <a:t>s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292720" y="378936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Arial"/>
              </a:rPr>
              <a:t>qi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798160" y="2708280"/>
            <a:ext cx="4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Arial"/>
              </a:rPr>
              <a:t>j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651640" y="162864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Arial"/>
              </a:rPr>
              <a:t>ló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155736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Arial"/>
              </a:rPr>
              <a:t>pí    juà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02920" y="1125000"/>
            <a:ext cx="66978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黑体"/>
              </a:rPr>
              <a:t>用自己喜欢的方式读课文，结合课文相关的句子思考乌塔是一个什么样的女孩？并动笔标注下来。</a:t>
            </a:r>
            <a:endParaRPr b="1" lang="en-US" sz="36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000" y="980640"/>
            <a:ext cx="771516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幼圆"/>
              </a:rPr>
              <a:t>　　　　　　　　　　　　　　　　　　　　</a:t>
            </a: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黑体"/>
              </a:rPr>
              <a:t>乌塔是这样的一个孩子</a:t>
            </a:r>
            <a:endParaRPr b="1" lang="en-US" sz="36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74760" y="1123920"/>
            <a:ext cx="687384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ccff"/>
                </a:solidFill>
                <a:latin typeface="幼圆"/>
              </a:rPr>
              <a:t>　</a:t>
            </a:r>
            <a:r>
              <a:rPr b="1" lang="zh-CN" sz="4000" spc="-1" strike="noStrike">
                <a:solidFill>
                  <a:srgbClr val="00ccff"/>
                </a:solidFill>
                <a:latin typeface="幼圆"/>
              </a:rPr>
              <a:t>⑴自立能力强、从容不迫。</a:t>
            </a:r>
            <a:endParaRPr b="1" lang="en-US" sz="40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84000" y="2332080"/>
            <a:ext cx="813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0070c0"/>
              </a:buClr>
              <a:buSzPct val="6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幼圆"/>
              </a:rPr>
              <a:t>如：当我（）暑气赶到旅馆时，一个小姑娘躺在席梦思床上（  ）</a:t>
            </a:r>
            <a:endParaRPr b="1" lang="en-US" sz="3600" spc="-1" strike="noStrike">
              <a:solidFill>
                <a:srgbClr val="0070c0"/>
              </a:solidFill>
              <a:latin typeface="幼圆"/>
            </a:endParaRPr>
          </a:p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0070c0"/>
              </a:buClr>
              <a:buSzPct val="6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幼圆"/>
              </a:rPr>
              <a:t>当我（    ）时，小姑娘已经起身，正在收拾东西，准备外出了。</a:t>
            </a:r>
            <a:br>
              <a:rPr sz="3600"/>
            </a:br>
            <a:r>
              <a:rPr b="1" lang="zh-CN" sz="3600" spc="-1" strike="noStrike">
                <a:solidFill>
                  <a:srgbClr val="0070c0"/>
                </a:solidFill>
                <a:latin typeface="幼圆"/>
              </a:rPr>
              <a:t> </a:t>
            </a:r>
            <a:endParaRPr b="1" lang="en-US" sz="3600" spc="-1" strike="noStrike">
              <a:solidFill>
                <a:srgbClr val="0070c0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黑体"/>
              </a:rPr>
              <a:t>乌塔是这样的一个孩子</a:t>
            </a:r>
            <a:endParaRPr b="1" lang="en-US" sz="36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0070c0"/>
              </a:buClr>
              <a:buSzPct val="6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幼圆"/>
              </a:rPr>
              <a:t>　</a:t>
            </a:r>
            <a:r>
              <a:rPr b="1" lang="zh-CN" sz="3600" spc="-1" strike="noStrike">
                <a:solidFill>
                  <a:srgbClr val="00ccff"/>
                </a:solidFill>
                <a:latin typeface="幼圆"/>
              </a:rPr>
              <a:t>⑵富有生活激情。</a:t>
            </a:r>
            <a:endParaRPr b="1" lang="en-US" sz="36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39640" y="2565000"/>
            <a:ext cx="792000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0070c0"/>
              </a:buClr>
              <a:buSzPct val="6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幼圆"/>
              </a:rPr>
              <a:t>如：当我 （   ）回到旅馆时而小姑娘正（  ）趴在床上，（  ）吃糖，（）</a:t>
            </a:r>
            <a:endParaRPr b="1" lang="en-US" sz="3600" spc="-1" strike="noStrike">
              <a:solidFill>
                <a:srgbClr val="0070c0"/>
              </a:solidFill>
              <a:latin typeface="幼圆"/>
            </a:endParaRPr>
          </a:p>
          <a:p>
            <a:pPr marL="36180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幼圆"/>
              </a:rPr>
              <a:t>看书  。             </a:t>
            </a:r>
            <a:endParaRPr b="1" lang="en-US" sz="3600" spc="-1" strike="noStrike">
              <a:solidFill>
                <a:srgbClr val="0070c0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黑体"/>
              </a:rPr>
              <a:t>乌塔是这样的一个孩子</a:t>
            </a:r>
            <a:endParaRPr b="1" lang="en-US" sz="36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60642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0070c0"/>
              </a:buClr>
              <a:buSzPct val="6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ccff"/>
                </a:solidFill>
                <a:latin typeface="幼圆"/>
              </a:rPr>
              <a:t>⑶</a:t>
            </a:r>
            <a:r>
              <a:rPr b="1" lang="zh-CN" sz="3600" spc="-1" strike="noStrike">
                <a:solidFill>
                  <a:srgbClr val="00ccff"/>
                </a:solidFill>
                <a:latin typeface="幼圆"/>
              </a:rPr>
              <a:t>热情、活泼。</a:t>
            </a:r>
            <a:endParaRPr b="1" lang="en-US" sz="36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10920" y="2923920"/>
            <a:ext cx="7489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0070c0"/>
              </a:buClr>
              <a:buSzPct val="6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幼圆"/>
              </a:rPr>
              <a:t>如：她一见我，（  ）坐起来打招呼，问我玩得怎样，又问我从哪里来……她一听，高兴得大叫……</a:t>
            </a:r>
            <a:endParaRPr b="1" lang="en-US" sz="3600" spc="-1" strike="noStrike">
              <a:solidFill>
                <a:srgbClr val="0070c0"/>
              </a:solidFill>
              <a:latin typeface="幼圆"/>
            </a:endParaRPr>
          </a:p>
          <a:p>
            <a:pPr marL="36180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600" spc="-1" strike="noStrike">
              <a:solidFill>
                <a:srgbClr val="0070c0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黑体"/>
              </a:rPr>
              <a:t>乌塔是这样的一个孩子</a:t>
            </a:r>
            <a:endParaRPr b="1" lang="en-US" sz="36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71520" y="1120320"/>
            <a:ext cx="6580080" cy="19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400" spc="-1" strike="noStrike">
                <a:solidFill>
                  <a:srgbClr val="00ccff"/>
                </a:solidFill>
                <a:latin typeface="幼圆"/>
              </a:rPr>
              <a:t>⑷</a:t>
            </a:r>
            <a:r>
              <a:rPr b="1" lang="zh-CN" sz="4400" spc="-1" strike="noStrike">
                <a:solidFill>
                  <a:srgbClr val="00ccff"/>
                </a:solidFill>
                <a:latin typeface="幼圆"/>
              </a:rPr>
              <a:t>安排周密、 计划性强。</a:t>
            </a:r>
            <a:endParaRPr b="1" lang="en-US" sz="4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95280" y="3573000"/>
            <a:ext cx="8137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0070c0"/>
              </a:buClr>
              <a:buSzPct val="6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幼圆"/>
              </a:rPr>
              <a:t>如：乌塔说她在家里就设计好了旅行路线和日程。每到一地就先查警察局的电话号码，以便遇到危险和困难时请求帮助……</a:t>
            </a:r>
            <a:endParaRPr b="1" lang="en-US" sz="3200" spc="-1" strike="noStrike">
              <a:solidFill>
                <a:srgbClr val="0070c0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黑体"/>
              </a:rPr>
              <a:t>乌塔是这样的一个孩子</a:t>
            </a:r>
            <a:endParaRPr b="1" lang="en-US" sz="36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3532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0070c0"/>
              </a:buClr>
              <a:buSzPct val="6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ccff"/>
                </a:solidFill>
                <a:latin typeface="幼圆"/>
              </a:rPr>
              <a:t>　</a:t>
            </a:r>
            <a:r>
              <a:rPr b="1" lang="zh-CN" sz="3600" spc="-1" strike="noStrike">
                <a:solidFill>
                  <a:srgbClr val="00ccff"/>
                </a:solidFill>
                <a:latin typeface="幼圆"/>
              </a:rPr>
              <a:t>⑸自力更生。</a:t>
            </a:r>
            <a:endParaRPr b="1" lang="en-US" sz="36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95280" y="3068640"/>
            <a:ext cx="87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0070c0"/>
              </a:buClr>
              <a:buSzPct val="6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幼圆"/>
              </a:rPr>
              <a:t>如：为了挣旅费，每个周末去帮餐馆或超市分发广告单……</a:t>
            </a:r>
            <a:br>
              <a:rPr sz="3600"/>
            </a:br>
            <a:r>
              <a:rPr b="1" lang="zh-CN" sz="3600" spc="-1" strike="noStrike">
                <a:solidFill>
                  <a:srgbClr val="0070c0"/>
                </a:solidFill>
                <a:latin typeface="幼圆"/>
              </a:rPr>
              <a:t> </a:t>
            </a:r>
            <a:endParaRPr b="1" lang="en-US" sz="3600" spc="-1" strike="noStrike">
              <a:solidFill>
                <a:srgbClr val="0070c0"/>
              </a:solidFill>
              <a:latin typeface="幼圆"/>
            </a:endParaRPr>
          </a:p>
          <a:p>
            <a:pPr marL="36180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600" spc="-1" strike="noStrike">
              <a:solidFill>
                <a:srgbClr val="0070c0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4T01:23:15Z</dcterms:created>
  <dc:creator>Administrator</dc:creator>
  <dc:description/>
  <dc:language>en-US</dc:language>
  <cp:lastModifiedBy/>
  <dcterms:modified xsi:type="dcterms:W3CDTF">2015-08-19T03:16:37Z</dcterms:modified>
  <cp:revision>8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