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EEF-6459-4DFB-8E67-E45D4A2C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636-E56C-43E3-A91D-30C69BE1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FB5-7DCB-4ADB-AE7D-C3563F1F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E60-8AE5-4B41-B2CC-FBFA99A7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7BB-E76D-45E7-8312-5CDE321F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F55-D0E4-4EA5-89AF-8B9AB586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E52-9A47-4CBB-8991-B86E8195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2B6-A95C-4858-AF27-0D68900A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82E-2CC8-4155-8C4F-C3B79F87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AAB-489D-4FCD-B555-092A3683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588-A656-402E-B810-F7F9C71A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30D-756F-435A-8CE4-51ED05B6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CD23-1E99-4A34-875F-F85378423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6600"/>
                </a:solidFill>
                <a:latin typeface="隶书"/>
                <a:ea typeface="隶书"/>
              </a:rPr>
              <a:t>仙人掌王国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941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（第二句写得好，作者用具体的数字的方法，生动、具体地写出了巨柱形仙人掌高大、贮水量大的特点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ccff"/>
                </a:solidFill>
                <a:latin typeface="Arial"/>
              </a:rPr>
              <a:t>比较下列句子，哪一句好，为什么？说说你的想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 一种巨柱形的仙人掌，很高、很重，体内可以贮藏很多的水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一种巨柱形的仙人掌， 可高达十八米，重十多吨，体内可以贮藏一吨以上的水分，被人们誉为“沙漠中的甘泉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964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523880" y="1397160"/>
          <a:ext cx="6095880" cy="42814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81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 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仙人掌全身是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嫩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种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干枯的仙人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捣烂煮熟的仙人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572000" y="2349360"/>
            <a:ext cx="20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2349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做成凉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213000"/>
            <a:ext cx="259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用、榨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076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燃料，建造房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479736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479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饲养家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083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40360" y="1052640"/>
            <a:ext cx="43192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它的叶片已经退化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针刺状，加上角质化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皮，能有效防止水分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发。每当雨季来临，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掌的根能吸收大量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，干瘪的茎干膨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来，贮存水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仙人掌的花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2122560" cy="166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2195640" cy="1648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rcRect l="0" t="0" r="4990" b="5556"/>
          <a:stretch/>
        </p:blipFill>
        <p:spPr>
          <a:xfrm>
            <a:off x="0" y="4626000"/>
            <a:ext cx="2771640" cy="2108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rcRect l="4645" t="0" r="0" b="5988"/>
          <a:stretch/>
        </p:blipFill>
        <p:spPr>
          <a:xfrm>
            <a:off x="2919240" y="4654440"/>
            <a:ext cx="302112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rcRect l="164" t="0" r="0" b="8415"/>
          <a:stretch/>
        </p:blipFill>
        <p:spPr>
          <a:xfrm>
            <a:off x="254160" y="765000"/>
            <a:ext cx="240804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rcRect l="976" t="0" r="0" b="8976"/>
          <a:stretch/>
        </p:blipFill>
        <p:spPr>
          <a:xfrm>
            <a:off x="3405240" y="0"/>
            <a:ext cx="5738760" cy="2293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rcRect l="340" t="0" r="0" b="9329"/>
          <a:stretch/>
        </p:blipFill>
        <p:spPr>
          <a:xfrm>
            <a:off x="6956280" y="2852640"/>
            <a:ext cx="2008440" cy="1501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rcRect l="8031" t="0" r="0" b="3518"/>
          <a:stretch/>
        </p:blipFill>
        <p:spPr>
          <a:xfrm>
            <a:off x="6197760" y="4653000"/>
            <a:ext cx="29462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667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从“墨西哥把它当作国花，就连国旗、国徽和钱币都有仙人掌的花环图案”这句话中，你体会到了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9033" t="6428" r="8939" b="3753"/>
          <a:stretch/>
        </p:blipFill>
        <p:spPr>
          <a:xfrm>
            <a:off x="344520" y="939960"/>
            <a:ext cx="3125880" cy="2428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4152960"/>
            <a:ext cx="3809880" cy="2705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076720" y="4005360"/>
            <a:ext cx="3810240" cy="2705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148360" y="836640"/>
            <a:ext cx="3809880" cy="2705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43280" y="3357720"/>
            <a:ext cx="396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33360"/>
            <a:ext cx="28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6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埃塞俄比亚——马蹄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333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——牡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71628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英国——玫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765000"/>
            <a:ext cx="7333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765000"/>
            <a:ext cx="7333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3429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荷兰——郁金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9160" y="2852640"/>
            <a:ext cx="16426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世界各国国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8280" y="404640"/>
            <a:ext cx="152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840" y="12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篇课文作者运用了列数字和打比方的说明方法生动、具体、准确地介绍了墨西哥仙人掌种类繁多、用途广泛、构造独特等知识，让我们知道墨西哥的的确确是仙人掌的王国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在写文章时，可以借鉴这种好的写作方法，也会使自己的文章同样出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62064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</a:rPr>
              <a:t>小练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198900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用上课文中列数字、打比方的说明方法，介绍自己熟悉的一种植物（花、蔬菜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692280"/>
            <a:ext cx="75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自由朗读课文，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56536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借助拼音，把课文读准确、读通顺，难读的地方多读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想想课文是从哪几个方面介绍仙人掌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549360"/>
            <a:ext cx="8137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我会认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05000"/>
            <a:ext cx="842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其余      弹丸      刺球      沙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甘泉      煮熟      生存      荒无人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全世界大约有两千种仙人掌，而墨西哥就有一千余种，其中两百多种是墨西哥特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9640" cy="53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263700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较句子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全世界有很多种仙人掌，而墨西哥的仙人掌是最多的，有些还是墨西哥特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50864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508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第一句用列数字的方法，更准确、更直观地写出了墨西哥仙人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种类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特点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7755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在墨西哥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无论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是荒无人烟的旷野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还是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城市的花圃，到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都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可以见到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千姿百态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的仙人掌。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它们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有的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状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</a:rPr>
              <a:t>如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绣球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有的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形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</a:rPr>
              <a:t>似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丝瓜；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有的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小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</a:rPr>
              <a:t>若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弹丸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有的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大</a:t>
            </a:r>
            <a:r>
              <a:rPr b="1" lang="zh-CN" sz="4000" spc="-1" strike="noStrike" u="sng">
                <a:solidFill>
                  <a:srgbClr val="6600ff"/>
                </a:solidFill>
                <a:uFillTx/>
                <a:latin typeface="Arial"/>
              </a:rPr>
              <a:t>如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巨树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9640" cy="530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522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用打比方的说明方法，写仙人掌的形状和大小，来说明仙人掌的种类多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3141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954" t="0" r="0" b="10104"/>
          <a:stretch/>
        </p:blipFill>
        <p:spPr>
          <a:xfrm>
            <a:off x="4067280" y="0"/>
            <a:ext cx="4672080" cy="301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03640" y="3502080"/>
            <a:ext cx="3743640" cy="321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79280" y="328464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2733" t="0" r="0" b="6198"/>
          <a:stretch/>
        </p:blipFill>
        <p:spPr>
          <a:xfrm>
            <a:off x="2484360" y="1123920"/>
            <a:ext cx="4656240" cy="3352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40000" y="25653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</a:rPr>
              <a:t>千姿百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91628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620640"/>
            <a:ext cx="813600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仿写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千姿百态的                            ，它们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有的                           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的                                       ，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263700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48360" y="256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335772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84720" y="3284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12000" y="3284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3860640"/>
            <a:ext cx="44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56720" y="3860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4581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95640" y="191628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816120"/>
            <a:ext cx="9144000" cy="5224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1628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默读课文三自然段，想一想：课文写了哪几种仙人掌？它们各有什么用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476280"/>
            <a:ext cx="424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1197000"/>
          <a:ext cx="8136000" cy="4927680"/>
        </p:xfrm>
        <a:graphic>
          <a:graphicData uri="http://schemas.openxmlformats.org/drawingml/2006/table">
            <a:tbl>
              <a:tblPr/>
              <a:tblGrid>
                <a:gridCol w="3743280"/>
                <a:gridCol w="4392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仙人掌的种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用途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250920" y="26028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合作探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637000"/>
            <a:ext cx="302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492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刺梨”的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2781360"/>
            <a:ext cx="33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220500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水果，可以炼糖、酿酒，制蜜饯、果酱、清凉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3789360"/>
            <a:ext cx="30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36960" y="3500280"/>
            <a:ext cx="671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789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柱形仙人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3716280"/>
            <a:ext cx="3958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5059440"/>
            <a:ext cx="35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羽王”仙人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5013360"/>
            <a:ext cx="34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治疗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23:41Z</dcterms:created>
  <dc:creator>Administrator</dc:creator>
  <dc:description/>
  <dc:language>en-US</dc:language>
  <cp:lastModifiedBy/>
  <dcterms:modified xsi:type="dcterms:W3CDTF">2016-04-25T08:23:5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