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gif" ContentType="image/gif"/>
  <Override PartName="/ppt/media/image2.png" ContentType="image/png"/>
  <Override PartName="/ppt/media/image9.jpeg" ContentType="image/jpeg"/>
  <Override PartName="/ppt/media/image14.gif" ContentType="image/gif"/>
  <Override PartName="/ppt/media/type.wav" ContentType="audio/x-wav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D8E-4E15-4233-ABCD-28DDB803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B59-DB4B-4C3E-A2CA-EE795870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568-22AE-440E-94BE-D46392B1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401-30C1-4409-9C43-56A27DC5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A3C-9294-4755-97E0-B9830484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8CB-4562-437A-8775-F9D7A9D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AEC-A24B-4FE3-988E-F32E16D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8BB-4E68-4D90-98F5-C4CA0D03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0EA-AE67-4A2B-B87A-8E24A82A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BBA-0F41-4273-A054-8F1BD5C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E11-2B30-47D3-AA50-6131C49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D88-33FF-423E-948B-3890CDB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4EBB-1A16-4CD5-8960-B90AF1CF94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B7CE-2B62-4E3E-AF30-03DD898B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70319223631417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9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542960" y="609480"/>
            <a:ext cx="583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台湾蝴蝶甲天下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398920" y="1523880"/>
            <a:ext cx="37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甲：居第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甲天下：天下第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蛇头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蛇头蝶，它的翅膀上端长有像蛇头一样的图案，两翅一张，足有脸盆那么大，是世界上最大的蝴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shetoudie"/>
          <p:cNvPicPr/>
          <p:nvPr/>
        </p:nvPicPr>
        <p:blipFill>
          <a:blip r:embed="rId1"/>
          <a:stretch/>
        </p:blipFill>
        <p:spPr>
          <a:xfrm>
            <a:off x="609480" y="198108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148360" y="981000"/>
            <a:ext cx="158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219640" y="83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大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56000" y="2058840"/>
            <a:ext cx="45007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皇蛾阴阳蝶的双翅大小不对称，左翅小为阴，右翅大为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huangeyinyangdie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皇娥阴阳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724360" y="76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奇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427280" y="1827000"/>
            <a:ext cx="433548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 最美丽的黄裙凤蝶，被誉为“蝶中皇后”。它的后翅有金黄色的花纹，在逆光下能反射出灿烂夺目的珍珠般的光辉。这种色彩，是蝴蝶世界中独一无二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huangqunfengdie"/>
          <p:cNvPicPr/>
          <p:nvPr/>
        </p:nvPicPr>
        <p:blipFill>
          <a:blip r:embed="rId1"/>
          <a:stretch/>
        </p:blipFill>
        <p:spPr>
          <a:xfrm>
            <a:off x="687240" y="1981080"/>
            <a:ext cx="38354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1187280" y="404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裙凤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72080" y="68580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343080" y="760320"/>
            <a:ext cx="8675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花衣服的游客一走进山谷，一群群蝴蝶就会围着他们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舞，有的还往他们脸上扑去。这时候，连游客们也仿佛变成美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花蝴蝶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o100G4142406-40"/>
          <p:cNvPicPr/>
          <p:nvPr/>
        </p:nvPicPr>
        <p:blipFill>
          <a:blip r:embed="rId1"/>
          <a:stretch/>
        </p:blipFill>
        <p:spPr>
          <a:xfrm rot="1316400">
            <a:off x="2766600" y="3787560"/>
            <a:ext cx="4572000" cy="25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o100G4142406-11"/>
          <p:cNvPicPr/>
          <p:nvPr/>
        </p:nvPicPr>
        <p:blipFill>
          <a:blip r:embed="rId2"/>
          <a:stretch/>
        </p:blipFill>
        <p:spPr>
          <a:xfrm>
            <a:off x="4500720" y="2565360"/>
            <a:ext cx="3143160" cy="113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o100G4142406-40"/>
          <p:cNvPicPr/>
          <p:nvPr/>
        </p:nvPicPr>
        <p:blipFill>
          <a:blip r:embed="rId3"/>
          <a:stretch/>
        </p:blipFill>
        <p:spPr>
          <a:xfrm>
            <a:off x="5486400" y="2057400"/>
            <a:ext cx="457200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o100G4142406-11"/>
          <p:cNvPicPr/>
          <p:nvPr/>
        </p:nvPicPr>
        <p:blipFill>
          <a:blip r:embed="rId4"/>
          <a:stretch/>
        </p:blipFill>
        <p:spPr>
          <a:xfrm>
            <a:off x="971640" y="281952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飞舞的蝴蝶"/>
          <p:cNvPicPr/>
          <p:nvPr/>
        </p:nvPicPr>
        <p:blipFill>
          <a:blip r:embed="rId5"/>
          <a:stretch/>
        </p:blipFill>
        <p:spPr>
          <a:xfrm>
            <a:off x="2343240" y="3809880"/>
            <a:ext cx="2050920" cy="175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BUTTERFLY"/>
          <p:cNvPicPr/>
          <p:nvPr/>
        </p:nvPicPr>
        <p:blipFill>
          <a:blip r:embed="rId6"/>
          <a:stretch/>
        </p:blipFill>
        <p:spPr>
          <a:xfrm>
            <a:off x="5257800" y="4191120"/>
            <a:ext cx="1870200" cy="217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co100G4142406-10"/>
          <p:cNvPicPr/>
          <p:nvPr/>
        </p:nvPicPr>
        <p:blipFill>
          <a:blip r:embed="rId7"/>
          <a:stretch/>
        </p:blipFill>
        <p:spPr>
          <a:xfrm>
            <a:off x="628560" y="373392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359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13040"/>
            <a:ext cx="8540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7200" y="1676520"/>
            <a:ext cx="833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你是蝴蝶谷种的一只蝴蝶，你该如何介绍台湾的蝴蝶？写一写吧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图片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5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85840" y="12952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认识“繁、殖”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掌握“清幽、鸟语花香”等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熟读课文，知道台湾蝴蝶的种类和特   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了解台湾蝴蝶数量和品种众多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28560" y="988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繁杂   繁荣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857840" y="106668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繁殖     殖民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28560" y="20574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飞蛾   蛾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915080" y="20574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凤凰    龙凤呈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1680" y="327672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逆光  逆水行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029200" y="3276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光辉  辉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71680" y="42670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幽静   幽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971960" y="44197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乍然    惊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743040" y="988920"/>
            <a:ext cx="807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候温暖       草木常青     繁殖    赞叹        翅膀       蛇头蝶           皇娥阴阳蝶  黄裙凤蝶     逆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光辉               独一无二      古木参天   流水叮咚    野草翠绿       鸟语花香   清幽    栖息繁衍  翩翩起舞     掩盖      花蕊      吮吸     乍一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" y="1295280"/>
            <a:ext cx="9543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、概括每个自然段的段意。这篇文章在结构上属于（ 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、 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齐读第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自然段，说说台湾蝴蝶甲天下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、课文写蝴蝶，为什么要写地理环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、默读第二自然段，你从哪些地方感受到了蝴蝶甲天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找出有关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UTTERFLY"/>
          <p:cNvPicPr/>
          <p:nvPr/>
        </p:nvPicPr>
        <p:blipFill>
          <a:blip r:embed="rId1"/>
          <a:stretch/>
        </p:blipFill>
        <p:spPr>
          <a:xfrm>
            <a:off x="0" y="6021360"/>
            <a:ext cx="1374840" cy="1268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476280"/>
            <a:ext cx="864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初读感知，理清文章脉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初读课文，读准字音，了解课文大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说说每个自然段的段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概括介绍台湾蝴蝶甲天下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介绍蝴蝶品种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介绍蝴蝶谷的景象，蝴蝶谷中蝴蝶数量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篇文章在结构上属于（                 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543480" y="464832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总分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16台湾蝴蝶甲天下.mp3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9773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精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齐读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，说说台湾蝴蝶甲天下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蝴蝶种类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蝴蝶数量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写蝴蝶，为什么要写地理环境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因为台湾有着得天独厚的地理环境，适合蝴蝶生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所以台湾的蝴蝶种类多，数量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688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学习第二自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1000" y="1827360"/>
            <a:ext cx="854244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默读第二自然段，你从哪些地方感受到了蝴蝶甲天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找出有关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四百多个品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如蛇头蝶，皇蛾阴阳蝶，黄裙凤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143160" y="3581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列数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43640" y="4343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举例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uangqunfengdie"/>
          <p:cNvPicPr/>
          <p:nvPr/>
        </p:nvPicPr>
        <p:blipFill>
          <a:blip r:embed="rId1"/>
          <a:stretch/>
        </p:blipFill>
        <p:spPr>
          <a:xfrm>
            <a:off x="285840" y="380880"/>
            <a:ext cx="3886200" cy="324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uangeyinyang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480" y="3657600"/>
            <a:ext cx="2743200" cy="260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hetoudie"/>
          <p:cNvPicPr/>
          <p:nvPr/>
        </p:nvPicPr>
        <p:blipFill>
          <a:blip r:embed="rId4"/>
          <a:stretch/>
        </p:blipFill>
        <p:spPr>
          <a:xfrm>
            <a:off x="6084720" y="3657600"/>
            <a:ext cx="3059280" cy="26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图片3"/>
          <p:cNvPicPr/>
          <p:nvPr/>
        </p:nvPicPr>
        <p:blipFill>
          <a:blip r:embed="rId5"/>
          <a:stretch/>
        </p:blipFill>
        <p:spPr>
          <a:xfrm>
            <a:off x="4629240" y="457200"/>
            <a:ext cx="385920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3492360" y="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裙凤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 flipV="1">
            <a:off x="179280" y="6325560"/>
            <a:ext cx="230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399960" y="56386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皇娥阴阳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029360" y="57913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蛇头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Administrator\Desktop\QQ截图20150907144321.jpg"/>
          <p:cNvPicPr/>
          <p:nvPr/>
        </p:nvPicPr>
        <p:blipFill>
          <a:blip r:embed="rId6"/>
          <a:stretch/>
        </p:blipFill>
        <p:spPr>
          <a:xfrm>
            <a:off x="3086280" y="3733920"/>
            <a:ext cx="2822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1:21:40Z</dcterms:created>
  <dc:creator>????????z.30edu.com?</dc:creator>
  <dc:description/>
  <cp:keywords>ec913258-17a5-4ae7-be57-ab6ba13e4353</cp:keywords>
  <dc:language>en-US</dc:language>
  <cp:lastModifiedBy>Administrator</cp:lastModifiedBy>
  <cp:lastPrinted>2015-10-15T12:13:36Z</cp:lastPrinted>
  <dcterms:modified xsi:type="dcterms:W3CDTF">2015-10-18T07:57:42Z</dcterms:modified>
  <cp:revision>116</cp:revision>
  <dc:subject/>
  <dc:title>幻灯片 1</dc:title>
</cp:coreProperties>
</file>