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D16-6A7F-4A47-916B-F289D77F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330-235F-4763-8A1F-D33399EA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56E-52E6-4C97-8643-F25838B1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00D-2FCF-4D61-B1F8-3B406835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C82-7B15-4775-AC3D-93C242D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CB0-A195-4A82-84F7-275AC32A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461-A3B2-443A-B9F7-4A45CC5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32F-EC2F-4B08-B0C3-00F3D7C2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0CB-0D2E-4F9C-B834-862E3F1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74D-B93A-42D7-90FC-3095B198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172-65A1-4F12-B77B-93522FD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47C-EDF6-4035-AAA7-C079A90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B01-E378-4CD2-91B6-1DD43E41D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6,&#24187;&#28783;&#29255; 6" TargetMode="External"/><Relationship Id="rId2" Type="http://schemas.openxmlformats.org/officeDocument/2006/relationships/hyperlink" Target="-1,11,&#24187;&#28783;&#29255; 11" TargetMode="External"/><Relationship Id="rId3" Type="http://schemas.openxmlformats.org/officeDocument/2006/relationships/hyperlink" Target="-1,12,&#24187;&#28783;&#29255; 12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53452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00200" y="3048120"/>
            <a:ext cx="60958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手上的皮肤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如果有人去看手相，你打算怎样劝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朗读第四自然段，数一数有几句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想一想每句话讲了指纹的哪些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试着分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8205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指肚的地方，有许多整齐有规律的图形，就是人们常说的“指纹”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纹有斗形、箕形、弓形等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‖一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的指纹都与别人的不同，并且终生不变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此，按手指印可以代替盖印盖；公安人员经常用在犯罪现场取指纹的办法抓坏人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‖二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纹增强手指触觉的敏感性，所以盲人能熟练地用手指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‖三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纹有如自行车外带上的花纹，可以加大手指的摩擦力，捏东西的时候，东西不至于滑动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‖四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86728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钥匙”今天又有学习的好方法要教给大家了，我们一起来看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四自然段从三个方面说明指纹的特点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作用，可以在课文上用①②③标出。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243684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指肚的地方，有许多整齐有规律的图形，就是人们常说的“指纹”。指纹有斗形、箕形、弓形等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每个人的指纹都与别人的不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并且终生不变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，</a:t>
            </a: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按手指印可以代替盖印盖；公安人员经常用在犯罪现场取指纹的办法抓坏人。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抓坏人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纹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增强手指触觉的敏感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所以盲人能熟练地用手指触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                        ②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特点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指纹有如自行车外带上的花纹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可以加大手指的摩擦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捏东西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③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特点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时候，东西不至于滑动。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　　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586728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快速找出第五自然段中指甲的特点</a:t>
            </a:r>
            <a:br>
              <a:rPr sz="4000"/>
            </a:b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和用途。批注在书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甲是手指皮肤的孪生兄弟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有保护手指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帮助手指工作的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指甲会像毛发一样不断生长，每天约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毫米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特点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甲根部半圆形发白的地方，就是新长出来的指甲。如果不慎损伤了指甲，也不必太担忧，因为随着指甲向外生长，伤痕也会逐渐上移，最后与长长的指甲一起被剪掉，留不下任何痕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了解课文的说明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做比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列数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体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其他部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皮肤大约厚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米，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手掌和手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皮肤厚度是其他部位的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分类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纹有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斗形、箕形、弓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打比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甲是手指皮肤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孪生兄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保护手指和帮助手指工作的作用。指甲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像毛发一样不断生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每天约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用这些说明方法，使说明的事物准确、生动、具体，便于读者理解，清楚地了解事物的特点和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2120" y="137160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总结课文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236232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交流感受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5046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　    </a:t>
            </a:r>
            <a:r>
              <a:rPr b="0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今天的学习你有什么收获？</a:t>
            </a:r>
            <a:br>
              <a:rPr sz="4000"/>
            </a:b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　　</a:t>
            </a:r>
            <a:r>
              <a:rPr b="0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你通过今天的学习，觉得今后应该怎样来保护你的双手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342828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请回家之后仔细观察爸爸的双手，写一篇文章，并把今天学到的知识告诉爷爷、奶奶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167652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课外作业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934320" cy="491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429000" y="2514600"/>
            <a:ext cx="27622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再 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4" name="">
            <a:hlinkClick r:id="" action="ppaction://hlinkshowjump?jump=endshow"/>
          </p:cNvPr>
          <p:cNvSpPr/>
          <p:nvPr/>
        </p:nvSpPr>
        <p:spPr>
          <a:xfrm>
            <a:off x="8229600" y="6324480"/>
            <a:ext cx="609480" cy="53352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323" y="1350"/>
                </a:lnTo>
                <a:lnTo>
                  <a:pt x="1350" y="135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323" y="20250"/>
                </a:lnTo>
                <a:lnTo>
                  <a:pt x="23323" y="135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23" y="2025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73" h="21600">
                <a:moveTo>
                  <a:pt x="15854" y="10800"/>
                </a:moveTo>
                <a:lnTo>
                  <a:pt x="5293" y="17844"/>
                </a:lnTo>
                <a:lnTo>
                  <a:pt x="5293" y="3756"/>
                </a:lnTo>
                <a:close/>
              </a:path>
              <a:path fill="darken" w="24673" h="21600">
                <a:moveTo>
                  <a:pt x="17709" y="3756"/>
                </a:moveTo>
                <a:lnTo>
                  <a:pt x="17709" y="17844"/>
                </a:lnTo>
                <a:lnTo>
                  <a:pt x="19380" y="17844"/>
                </a:lnTo>
                <a:lnTo>
                  <a:pt x="19380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990720" y="3276720"/>
            <a:ext cx="1261800" cy="1255680"/>
            <a:chOff x="990720" y="3276720"/>
            <a:chExt cx="1261800" cy="12556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990720" y="3276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9672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286000" y="3276720"/>
            <a:ext cx="1262160" cy="1255680"/>
            <a:chOff x="2286000" y="3276720"/>
            <a:chExt cx="1262160" cy="12556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28600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1640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429000" y="3276720"/>
            <a:ext cx="1262160" cy="1255680"/>
            <a:chOff x="3429000" y="3276720"/>
            <a:chExt cx="1262160" cy="125568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342900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73536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48320" y="3276720"/>
            <a:ext cx="1261800" cy="1255680"/>
            <a:chOff x="4648320" y="3276720"/>
            <a:chExt cx="1261800" cy="125568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95432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867280" y="3276720"/>
            <a:ext cx="1262160" cy="1255680"/>
            <a:chOff x="5867280" y="3276720"/>
            <a:chExt cx="1262160" cy="125568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586728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17364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086600" y="3276720"/>
            <a:ext cx="1262160" cy="1255680"/>
            <a:chOff x="7086600" y="3276720"/>
            <a:chExt cx="1262160" cy="125568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708660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6928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77480" y="257328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z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0840" y="254304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90040" y="2543040"/>
            <a:ext cx="10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4382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64200" y="2573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52120" y="2543040"/>
            <a:ext cx="12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l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9556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罪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908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1016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损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2912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剪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484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摩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6776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14600" y="1371600"/>
            <a:ext cx="3352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生字学习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990720" y="3276720"/>
            <a:ext cx="1261800" cy="1255680"/>
            <a:chOff x="990720" y="3276720"/>
            <a:chExt cx="1261800" cy="125568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990720" y="3276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29672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09680" y="3276720"/>
            <a:ext cx="1262160" cy="1255680"/>
            <a:chOff x="2209680" y="3276720"/>
            <a:chExt cx="1262160" cy="125568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20968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44008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429000" y="3276720"/>
            <a:ext cx="1262160" cy="1255680"/>
            <a:chOff x="3429000" y="3276720"/>
            <a:chExt cx="1262160" cy="125568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342900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73536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48320" y="3276720"/>
            <a:ext cx="1261800" cy="1255680"/>
            <a:chOff x="4648320" y="3276720"/>
            <a:chExt cx="1261800" cy="125568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432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19920" y="3200400"/>
            <a:ext cx="1261800" cy="1255680"/>
            <a:chOff x="6019920" y="3200400"/>
            <a:chExt cx="1261800" cy="125568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6019920" y="3200400"/>
              <a:ext cx="12618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325920" y="32767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箕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86600" y="3276720"/>
            <a:ext cx="1262160" cy="1255680"/>
            <a:chOff x="7086600" y="3276720"/>
            <a:chExt cx="1262160" cy="125568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086600" y="327672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469280" y="3353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痕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090440" y="2543040"/>
            <a:ext cx="9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9480" y="2543040"/>
            <a:ext cx="9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33520" y="2590920"/>
            <a:ext cx="9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4382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ji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6040" y="24382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j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45920" y="2438280"/>
            <a:ext cx="134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hé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46320" y="44956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08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拇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1016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陌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912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僵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4844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箕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67760" y="449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66880" y="609480"/>
            <a:ext cx="1262160" cy="1255680"/>
            <a:chOff x="2666880" y="609480"/>
            <a:chExt cx="1262160" cy="125568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2666880" y="60948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97324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14800" y="609480"/>
            <a:ext cx="1262160" cy="1255680"/>
            <a:chOff x="4114800" y="609480"/>
            <a:chExt cx="1262160" cy="1255680"/>
          </a:xfrm>
        </p:grpSpPr>
        <p:pic>
          <p:nvPicPr>
            <p:cNvPr id="110" name="" descr=""/>
            <p:cNvPicPr/>
            <p:nvPr/>
          </p:nvPicPr>
          <p:blipFill>
            <a:blip r:embed="rId8"/>
            <a:stretch/>
          </p:blipFill>
          <p:spPr>
            <a:xfrm>
              <a:off x="4114800" y="60948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4211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褶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638680" y="685800"/>
            <a:ext cx="1262160" cy="1255680"/>
            <a:chOff x="5638680" y="685800"/>
            <a:chExt cx="1262160" cy="1255680"/>
          </a:xfrm>
        </p:grpSpPr>
        <p:pic>
          <p:nvPicPr>
            <p:cNvPr id="113" name="" descr=""/>
            <p:cNvPicPr/>
            <p:nvPr/>
          </p:nvPicPr>
          <p:blipFill>
            <a:blip r:embed="rId9"/>
            <a:stretch/>
          </p:blipFill>
          <p:spPr>
            <a:xfrm>
              <a:off x="5638680" y="685800"/>
              <a:ext cx="1262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90960" y="762120"/>
              <a:ext cx="184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946840" y="685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0" y="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02920" y="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03120" y="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49840" y="1676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21440" y="1676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褶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45320" y="1752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悉  摩擦  陌生  粗糙  柔软  细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自如  纹路  褶皱  僵硬  规律  触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敏感  损伤  逐渐  痕迹  一番  拇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犯罪  剪掉  皮肤  因素  孪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终生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90920" y="1600200"/>
            <a:ext cx="3352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初读课文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/>
          <p:nvPr/>
        </p:nvSpPr>
        <p:spPr>
          <a:xfrm>
            <a:off x="3966120" y="2361600"/>
            <a:ext cx="172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自由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说一说课文主要讲了什么？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23280" y="3886200"/>
            <a:ext cx="10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是一篇说明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讲述了手上皮肤的特点及用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60876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课文从哪几个方面介绍了手的皮肤？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19920" y="2161800"/>
            <a:ext cx="4072320" cy="2779200"/>
            <a:chOff x="1519920" y="2161800"/>
            <a:chExt cx="4072320" cy="2779200"/>
          </a:xfrm>
        </p:grpSpPr>
        <p:sp>
          <p:nvSpPr>
            <p:cNvPr id="128" name=""/>
            <p:cNvSpPr/>
            <p:nvPr/>
          </p:nvSpPr>
          <p:spPr>
            <a:xfrm>
              <a:off x="3611880" y="2161800"/>
              <a:ext cx="1980360" cy="27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cc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1" lang="zh-CN" sz="4000" spc="-1" strike="noStrike" u="sng">
                  <a:solidFill>
                    <a:srgbClr val="cc0000"/>
                  </a:solidFill>
                  <a:uFillTx/>
                  <a:latin typeface="Arial"/>
                  <a:ea typeface="楷体_GB2312"/>
                </a:rPr>
                <a:t>、皮肤的厚薄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cc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1" lang="zh-CN" sz="4000" spc="-1" strike="noStrike" u="sng">
                  <a:solidFill>
                    <a:srgbClr val="cc0000"/>
                  </a:solidFill>
                  <a:uFillTx/>
                  <a:latin typeface="Arial"/>
                  <a:ea typeface="楷体_GB2312"/>
                </a:rPr>
                <a:t>、皮肤的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Arial"/>
                  <a:ea typeface="楷体_GB2312"/>
                  <a:hlinkClick r:id="rId1"/>
                </a:rPr>
                <a:t>纹路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、褶皱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、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Arial"/>
                  <a:ea typeface="楷体_GB2312"/>
                  <a:hlinkClick r:id="rId2"/>
                </a:rPr>
                <a:t>指纹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4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、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Arial"/>
                  <a:ea typeface="楷体_GB2312"/>
                  <a:hlinkClick r:id="rId3"/>
                </a:rPr>
                <a:t>指甲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19920" y="327672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出课文中用来总说的段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自学第二自然段，手上皮肤的厚薄有什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特点和作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批注在书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是干活的“工具”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为了防止皮肤受伤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（作用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手掌和手指的皮肤就多生了几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特点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体其他部位的皮肤大约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米，而手掌和手指上的皮肤厚度是其他部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手上的皮肤用力和磨擦最多的地主，会自我保护——生出又硬又厚的茧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特点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信，你注意一下自己右手中指的左侧，由于握笔的压力和磨擦，那里就生出了茧子。小提琴的指尖生茧，裁缝操刀的手拇指生茧，体操运动员指根处生茧……如果你和一个陌生人握手，凭感觉你就能知道对方是从事体力劳动，还是从事脑力劳动，因为前者的手粗糙有力，后者的手柔软细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20560" y="5667480"/>
            <a:ext cx="7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你还知道哪些人双手的特点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第三自然段中纹路和褶皱有什么特点和作用？批注在书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手心有许多纹路，手背关节处有褶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（特点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这样手就能自如地抓握东西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作用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没有这些纹路和褶皱，手就无法弯折，整只手就像一块僵硬的钢板，什么动作也做不了啦。人手心的纹路有先天的因素，也有后天职业形成的因素，因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每个人的手纹各不相同。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特点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手纹能反应一个人的经历信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作用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认为看手纹就能知道一个人的命运，则是没有科学根据的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1:15:37Z</dcterms:created>
  <dc:creator>Administrator</dc:creator>
  <dc:description/>
  <dc:language>en-US</dc:language>
  <cp:lastModifiedBy/>
  <dcterms:modified xsi:type="dcterms:W3CDTF">2015-08-11T06:07:26Z</dcterms:modified>
  <cp:revision>5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