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6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9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624-3824-487D-A27E-9A5F4481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8AF-D7B1-43D2-9A59-6FBB8BE6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90F-A437-401C-8E44-DDD736ED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FEF-C04D-4F15-9746-35B5EE9F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B13-0C65-46AC-9DC2-FDC42222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260-0B32-4A11-875D-71C1E82A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055-570D-4B45-8B1A-058F374F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357-6584-4CE3-AA74-D2746561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D55-FEFD-477E-8417-A0295A00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154-8FDA-4247-8709-806D0011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01D-E34A-4CA0-BE82-80B3C5B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10B-51CA-4F2D-9039-17DC4824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1FBF-964E-4B76-B4A4-1D58BFA7EF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765000"/>
            <a:ext cx="54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30166"/>
                  </a:outerShdw>
                </a:effectLst>
                <a:latin typeface="黑体"/>
              </a:rPr>
              <a:t>宋庆龄故居的樟树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630166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81080" y="-360"/>
            <a:ext cx="719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与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福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利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会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幼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儿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园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的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孩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子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们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在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一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675640" cy="68594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0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0" name="Picture 11" descr="20070601103753328_989_o"/>
            <p:cNvPicPr/>
            <p:nvPr/>
          </p:nvPicPr>
          <p:blipFill>
            <a:blip r:embed="rId1"/>
            <a:srcRect l="0" t="17949" r="0" b="0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pic>
          <p:nvPicPr>
            <p:cNvPr id="81" name="Picture 12" descr="10233_958601005988943"/>
            <p:cNvPicPr/>
            <p:nvPr/>
          </p:nvPicPr>
          <p:blipFill>
            <a:blip r:embed="rId2"/>
            <a:stretch/>
          </p:blipFill>
          <p:spPr>
            <a:xfrm>
              <a:off x="7173000" y="5130720"/>
              <a:ext cx="1891800" cy="152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WordArt 4"/>
          <p:cNvSpPr txBox="1"/>
          <p:nvPr/>
        </p:nvSpPr>
        <p:spPr>
          <a:xfrm>
            <a:off x="1928880" y="71424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914400" y="3500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981000"/>
            <a:ext cx="50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读课文，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1628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生词，圈出生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拼音读准生字字音，联系上下文查字典理解词语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不理解的词句下面打上“？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87280" y="1197000"/>
            <a:ext cx="885672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ch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粗壮   稠 密   保持   四季常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pén</a:t>
            </a:r>
            <a:r>
              <a:rPr b="1" lang="zh-CN" sz="4400" spc="-1" strike="noStrike">
                <a:solidFill>
                  <a:srgbClr val="333399"/>
                </a:solidFill>
                <a:latin typeface="Century Gothic"/>
              </a:rPr>
              <a:t>g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 bó  chón</a:t>
            </a:r>
            <a:r>
              <a:rPr b="1" lang="zh-CN" sz="4400" spc="-1" strike="noStrike">
                <a:solidFill>
                  <a:srgbClr val="333399"/>
                </a:solidFill>
                <a:latin typeface="Century Gothic"/>
              </a:rPr>
              <a:t>g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   zh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蓬蓬勃勃   崇 敬   瞻 仰  纪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fán y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 衍 后代   枝枯叶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0"/>
            <a:ext cx="3241440" cy="1224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92d80"/>
                </a:solidFill>
                <a:latin typeface="楷体_GB2312"/>
                <a:ea typeface="楷体_GB2312"/>
              </a:rPr>
              <a:t>我会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71640" y="23493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搬    稠    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龄    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620640"/>
            <a:ext cx="2664000" cy="1224000"/>
          </a:xfrm>
          <a:prstGeom prst="wedgeEllipseCallout">
            <a:avLst>
              <a:gd name="adj1" fmla="val -49939"/>
              <a:gd name="adj2" fmla="val 106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83664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会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4762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理清情节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484280"/>
            <a:ext cx="56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点明描写对象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48428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—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20840" y="2629080"/>
          <a:ext cx="6095880" cy="40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0840" y="262908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11280" y="270828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樟树的外形和可贵之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537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221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瞻仰故居的人们也喜欢这两棵樟树。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364500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4—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47628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学习第一部分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1268280"/>
            <a:ext cx="65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点明描写对象：两棵树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9640" y="249228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4922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195640" y="364500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强调；点题；过渡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树与人关系非同寻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42100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舍不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268280"/>
            <a:ext cx="1512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210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对树情有独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56000" y="5796000"/>
            <a:ext cx="494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     这两棵树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5791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舍不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47628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学习第二部分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484280"/>
            <a:ext cx="56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148428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樟树的外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20840" y="2629080"/>
          <a:ext cx="6095880" cy="40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0840" y="262908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556000" y="328464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樟树的可贵之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276640"/>
            <a:ext cx="27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（略写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4292640"/>
            <a:ext cx="27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（详写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6094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隶书"/>
              </a:rPr>
              <a:t>        </a:t>
            </a: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隶书"/>
              </a:rPr>
              <a:t>樟树不高，但它的枝干粗壮，而且伸向四面八方，伸得远远的。稠密的树叶绿得发亮。樟树四季常青，无论是夏天还是冬天，它们总是那么蓬蓬勃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：樟树有哪些特点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562720"/>
            <a:ext cx="2133720" cy="152280"/>
            <a:chOff x="2971800" y="5562720"/>
            <a:chExt cx="2133720" cy="152280"/>
          </a:xfrm>
        </p:grpSpPr>
        <p:sp>
          <p:nvSpPr>
            <p:cNvPr id="128" name=""/>
            <p:cNvSpPr/>
            <p:nvPr/>
          </p:nvSpPr>
          <p:spPr>
            <a:xfrm>
              <a:off x="2971800" y="5562720"/>
              <a:ext cx="152280" cy="152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57600" y="5562720"/>
              <a:ext cx="152280" cy="152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7080" y="5562720"/>
              <a:ext cx="152640" cy="152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52880" y="5562720"/>
              <a:ext cx="152640" cy="152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43800" y="1523880"/>
            <a:ext cx="990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362320"/>
            <a:ext cx="1447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00400"/>
            <a:ext cx="3124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038480"/>
            <a:ext cx="2590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21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外形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304920"/>
            <a:ext cx="8280360" cy="5211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6360" y="573408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黑体"/>
              </a:rPr>
              <a:t>稠密的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48000" y="877320"/>
            <a:ext cx="29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宋庆龄故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959280" cy="4929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84720" y="428760"/>
            <a:ext cx="3527640" cy="4676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76720" y="548640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黑体"/>
              </a:rPr>
              <a:t>枝干粗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1197000"/>
            <a:ext cx="75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60280"/>
            <a:ext cx="8964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樟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四季常青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无论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是夏天还是冬天，它们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总是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那么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蓬蓬勃勃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4005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论</a:t>
            </a:r>
            <a:r>
              <a:rPr b="1" lang="zh-CN" sz="54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                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 ，它们总是那么蓬蓬勃勃</a:t>
            </a:r>
            <a:r>
              <a:rPr b="0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360" y="2349360"/>
            <a:ext cx="158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仿写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260280"/>
            <a:ext cx="853416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836640"/>
            <a:ext cx="7920000" cy="51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樟树不高，但它的                ，而且                       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树叶               。樟树四季常青，无论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它们总是那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1989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85264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            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33336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Garamond"/>
                <a:ea typeface="楷体_GB2312"/>
              </a:rPr>
              <a:t>我挑战     我自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404640"/>
            <a:ext cx="853416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260280"/>
            <a:ext cx="8569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的树木容易招虫。从同一棵石榴树上，可以捉到三四种不同的虫子。它们还要养儿育女，繁衍后代，子子孙孙都寄生在树上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而樟树本身却有一种香气，而且这种香气能永久保持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使当它枝枯叶落的时候，当它已经作为木料制作成家具的时候，它的香气仍然不变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只要这木质存在一天，虫类就怕它一天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樟树的可贵之处就在这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537372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本段用了什么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9500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920" y="380880"/>
            <a:ext cx="853416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836640"/>
            <a:ext cx="777708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樟树        却有一种香气，而且这种香气能                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它枝枯叶落的时候，当它已经作为木料制作成家具的时候，它的香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变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木质存在一天，虫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怕它一天。樟树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可贵之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在这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考：樟树的“可贵之处”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947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4560" y="164448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久保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1480" y="1647720"/>
            <a:ext cx="15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3076560"/>
            <a:ext cx="16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312408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20080" y="3778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42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可贵之处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920" y="380880"/>
            <a:ext cx="853416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836640"/>
            <a:ext cx="7777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樟树        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有一种香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而且这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香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                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它枝枯叶落的时候，当它已经作为木料制作成家具的时候，它的香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变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木质存在一天，虫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怕它一天。樟树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可贵之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在这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947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14560" y="164448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永久保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1480" y="1647720"/>
            <a:ext cx="15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3076560"/>
            <a:ext cx="16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312408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20080" y="3778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42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可贵之处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它枝枯叶落的时候，它的香气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它已经作为木料制作成家具的时候，它的香气不变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它枝枯叶落的时候，当它已经作为木料制作成家具的时候，它的香气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即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它枝枯叶落的时候，当它已经作为木料制作成家具的时候，它的香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仍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55640" y="189000"/>
            <a:ext cx="4572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两棵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755640" y="980640"/>
            <a:ext cx="532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两棵樟树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5"/>
          <p:cNvSpPr/>
          <p:nvPr/>
        </p:nvSpPr>
        <p:spPr>
          <a:xfrm>
            <a:off x="2149560" y="1915560"/>
            <a:ext cx="48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这是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蓬蓬勃勃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两棵樟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0" y="2852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这是蓬蓬勃勃、具有拒虫香气且永久保持的两棵樟树。</a:t>
            </a:r>
            <a:r>
              <a:rPr b="0" lang="zh-CN" sz="4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4"/>
          <p:cNvSpPr/>
          <p:nvPr/>
        </p:nvSpPr>
        <p:spPr>
          <a:xfrm>
            <a:off x="-36360" y="5301720"/>
            <a:ext cx="91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     </a:t>
            </a:r>
            <a:r>
              <a:rPr b="1" lang="zh-CN" sz="28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这是宋庆龄故居里蓬蓬勃勃、具有拒虫香气且永久保持的两棵樟树。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9933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33360"/>
            <a:ext cx="853416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68840" y="3933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宋庆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465300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89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8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89000"/>
            <a:ext cx="60483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是中华人民共和国名誉主席，是国父孙中山先生的夫人，她又被人们尊称为“国母”。敌人因为她的英勇坚持和高贵的品格，不敢迫害她。她被誉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最伟大的妇女之一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庆龄自己没有子女，但她以博大的爱心，把全中国的少年儿童当作自己的孩子，并倾注了毕生心血。人们亲切地称她为“宋奶奶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524640" y="549360"/>
            <a:ext cx="22924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200400" cy="5791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33920" y="0"/>
            <a:ext cx="5410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2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92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的一天，孙中山接到密报，叛变的部队要攻打他的住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孙中山要宋庆龄跟他一起撤离，宋庆龄却坚定地说：“中国可以没有我，不可以没有先生。为了中国，你先走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c2702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孙中山只能忍痛和宋庆龄道别。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面对强敌，宋庆龄毫不畏惧，在危难时刻，她大义凛然，英勇战斗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到确定孙中山安全后，才从容不迫地冲出了包围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c2702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4936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解题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557360"/>
            <a:ext cx="29005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故居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樟树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好处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1341360"/>
            <a:ext cx="53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杰出人物曾经居住过的屋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364500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以树写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4724280"/>
            <a:ext cx="68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引发阅读兴趣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85144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突出樟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505320" cy="5639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91120" y="304920"/>
            <a:ext cx="4952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，宋庆龄得知国民党反动派非法关押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著名的爱国人士，十分愤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那炎热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，她不顾疲劳，带着十几位救国会的同志，来到苏州高等法院。自请入狱。敌人被吓得一个个狼狈不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宋庆龄的一身正气，让敌人敬畏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被迫当场释放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爱国领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c2702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573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608720" cy="3554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9280" y="37162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宋庆龄青年时代就追随孙中山，献身革命，在长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的革命战斗生涯中，她永葆革命青春和旺盛的革命斗志，把毕生的精力都献给了世界和平和人类进步事业，这就如樟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59500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蓬蓬勃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11640" y="0"/>
            <a:ext cx="4749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危难时刻，她大义凛然，英勇战斗，从不向反动势力妥协，她在任何情况下都保持着坚定的政治原则，威武不屈，富贵不淫，贫贱不移，她一身正气，一身傲骨，那么高雅，那么高贵，这就如樟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384360" cy="6597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571000" y="5516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香气永久保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26920" y="620640"/>
            <a:ext cx="3457800" cy="1440000"/>
          </a:xfrm>
          <a:prstGeom prst="cloudCallout">
            <a:avLst>
              <a:gd name="adj1" fmla="val -28143"/>
              <a:gd name="adj2" fmla="val 64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4360" y="34592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561040"/>
            <a:ext cx="1112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宋奶奶一生永葆革命的青春，就如樟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；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宋奶奶一身正气让敌人害怕，就如樟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；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宋奶奶高贵的品质永留人们心中，就如樟树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2819520"/>
            <a:ext cx="25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蓬蓬勃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拒虫香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0292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永久保持香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914400"/>
            <a:ext cx="261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  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3520" y="27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樟树的香气让虫类害怕，一身正气的宋庆龄让敌人害怕。从樟树的身上让我们看出了宋庆龄的正气，因此，这不再是两棵普通的樟树，而是宋庆龄奶奶崇高人格的象征。正如在人们的心目中，红烛是老师的化身，青松是陈毅爷爷的化身，这樟树就是宋庆龄奶奶的化身。作者写樟树，其实就是在写宋庆龄奶奶；作者赞美樟树，其实就是为了赞美宋庆龄奶奶。这样的写作方法就叫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借物喻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3344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展开合理想象，描述宋庆龄在樟树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活动和她的所思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每当接见外宾之后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每当少年儿童来探望时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每当夕阳西下时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每当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46530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故居的这两棵樟树是宋庆龄高贵品格的象征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26920" y="1557360"/>
            <a:ext cx="7561440" cy="2647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人们怀着崇敬的心情前来    宋庆龄的故居，也总爱在这两棵樟树前留个影，作为永久的纪念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段的叙述有什么作用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6680" y="2438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瞻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595008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呼应开头，点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219640" y="457200"/>
            <a:ext cx="3924360" cy="5904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60480"/>
            <a:ext cx="525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Garamond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美国记者安娜说：“她是我所知道的世界上最温柔，最高雅的女性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法国著名作家罗曼罗兰说：“你认为我们卓越的宋庆龄只是一枝香溢全球的美丽鲜花吗？不，不，她是一头要冲破天罗地网的雄狮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1708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她的美德就像樟树一样四季常青，芳香四溢，播洒在人们的心间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7" descr="宋庆龄4"/>
          <p:cNvPicPr/>
          <p:nvPr/>
        </p:nvPicPr>
        <p:blipFill>
          <a:blip r:embed="rId1"/>
          <a:stretch/>
        </p:blipFill>
        <p:spPr>
          <a:xfrm>
            <a:off x="762120" y="2057400"/>
            <a:ext cx="3504960" cy="452592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8" descr="樟树2"/>
          <p:cNvPicPr/>
          <p:nvPr/>
        </p:nvPicPr>
        <p:blipFill>
          <a:blip r:embed="rId2"/>
          <a:stretch/>
        </p:blipFill>
        <p:spPr>
          <a:xfrm>
            <a:off x="4724280" y="20574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8" descr="樟树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570560"/>
            <a:ext cx="9144000" cy="82512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黑体"/>
              </a:rPr>
              <a:t>人们怀着崇敬的心情前来瞻仰宋庆龄的故居，也总爱在这两棵樟树前留个影，作为永久的纪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9933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80880"/>
            <a:ext cx="853416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19640" y="404640"/>
            <a:ext cx="55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伟大的政治家、活动家、教育家、中华人民共和国的领导人之一。海南省文昌人。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出生于上海，逝世于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。她毕业于美国威斯里女子学院，青年时代就追随孙中山先生致力于民主革命，之后并成为了孙中山的夫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907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9640" y="765000"/>
            <a:ext cx="29098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679760" cy="449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3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00000" y="1484280"/>
            <a:ext cx="763272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诵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对宋庆龄故居，面对故居的两棵樟树，你又想说些什么呢？请以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想对你说》为题写篇文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7920" y="69228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隶书"/>
              </a:rPr>
              <a:t>作业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19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2195640" y="12682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作业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1" name=""/>
          <p:cNvSpPr/>
          <p:nvPr/>
        </p:nvSpPr>
        <p:spPr>
          <a:xfrm>
            <a:off x="4338360" y="2492280"/>
            <a:ext cx="10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9900ff"/>
                </a:solidFill>
                <a:latin typeface="黑体"/>
                <a:ea typeface="黑体"/>
              </a:rPr>
              <a:t>、背诵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33577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99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9900ff"/>
                </a:solidFill>
                <a:latin typeface="黑体"/>
                <a:ea typeface="黑体"/>
              </a:rPr>
              <a:t>、课外查阅有关宋庆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黑体"/>
                <a:ea typeface="黑体"/>
              </a:rPr>
              <a:t>的小故事，更多地了解这位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黑体"/>
                <a:ea typeface="黑体"/>
              </a:rPr>
              <a:t>大的女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80880" y="144792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欢迎指导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9933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80880"/>
            <a:ext cx="853416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419640" y="620640"/>
            <a:ext cx="547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近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革命生涯中，为祖国的繁荣富强和人民幸福生活而奔走一生，她一生无私无畏，艰苦奋斗，执着追求。在中国近代史和现代史上谱写了光辉的篇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907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9640" y="765000"/>
            <a:ext cx="29098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62064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庆龄和少年儿童在一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677088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-14400"/>
            <a:ext cx="8317080" cy="687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320" y="0"/>
            <a:ext cx="9115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ahoma"/>
              </a:rPr>
              <a:t>和孩子们一起看鸽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173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189000"/>
            <a:ext cx="1079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66"/>
                </a:solidFill>
                <a:latin typeface="Tahoma"/>
                <a:ea typeface="楷体_GB2312"/>
              </a:rPr>
              <a:t>看</a:t>
            </a:r>
            <a:br>
              <a:rPr sz="5400"/>
            </a:br>
            <a:r>
              <a:rPr b="1" lang="zh-CN" sz="5400" spc="-1" strike="noStrike">
                <a:solidFill>
                  <a:srgbClr val="ff9966"/>
                </a:solidFill>
                <a:latin typeface="Tahoma"/>
                <a:ea typeface="楷体_GB2312"/>
              </a:rPr>
              <a:t>望</a:t>
            </a:r>
            <a:br>
              <a:rPr sz="5400"/>
            </a:br>
            <a:r>
              <a:rPr b="1" lang="zh-CN" sz="5400" spc="-1" strike="noStrike">
                <a:solidFill>
                  <a:srgbClr val="ff9966"/>
                </a:solidFill>
                <a:latin typeface="Tahoma"/>
                <a:ea typeface="楷体_GB2312"/>
              </a:rPr>
              <a:t>工</a:t>
            </a:r>
            <a:br>
              <a:rPr sz="5400"/>
            </a:br>
            <a:r>
              <a:rPr b="1" lang="zh-CN" sz="5400" spc="-1" strike="noStrike">
                <a:solidFill>
                  <a:srgbClr val="ff9966"/>
                </a:solidFill>
                <a:latin typeface="Tahoma"/>
                <a:ea typeface="楷体_GB2312"/>
              </a:rPr>
              <a:t>人</a:t>
            </a:r>
            <a:br>
              <a:rPr sz="5400"/>
            </a:br>
            <a:r>
              <a:rPr b="1" lang="zh-CN" sz="5400" spc="-1" strike="noStrike">
                <a:solidFill>
                  <a:srgbClr val="ff9966"/>
                </a:solidFill>
                <a:latin typeface="Tahoma"/>
                <a:ea typeface="楷体_GB2312"/>
              </a:rPr>
              <a:t>的</a:t>
            </a:r>
            <a:br>
              <a:rPr sz="5400"/>
            </a:br>
            <a:r>
              <a:rPr b="1" lang="zh-CN" sz="5400" spc="-1" strike="noStrike">
                <a:solidFill>
                  <a:srgbClr val="ff9966"/>
                </a:solidFill>
                <a:latin typeface="Tahoma"/>
                <a:ea typeface="楷体_GB2312"/>
              </a:rPr>
              <a:t>孩</a:t>
            </a:r>
            <a:br>
              <a:rPr sz="5400"/>
            </a:br>
            <a:r>
              <a:rPr b="1" lang="zh-CN" sz="5400" spc="-1" strike="noStrike">
                <a:solidFill>
                  <a:srgbClr val="ff9966"/>
                </a:solidFill>
                <a:latin typeface="Tahoma"/>
                <a:ea typeface="楷体_GB2312"/>
              </a:rPr>
              <a:t>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684360" y="2133720"/>
            <a:ext cx="20988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在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少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年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宫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看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孩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子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们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做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游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02:38:00Z</dcterms:created>
  <dc:creator>Administrator</dc:creator>
  <dc:description/>
  <dc:language>en-US</dc:language>
  <cp:lastModifiedBy>微软用户</cp:lastModifiedBy>
  <dcterms:modified xsi:type="dcterms:W3CDTF">2013-05-21T09:17:47Z</dcterms:modified>
  <cp:revision>23</cp:revision>
  <dc:subject/>
  <dc:title>幻灯片 1</dc:title>
</cp:coreProperties>
</file>