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explode.wav" ContentType="audio/x-wav"/>
  <Override PartName="/ppt/media/image7.jpeg" ContentType="image/jpeg"/>
  <Override PartName="/ppt/media/image3.jpeg" ContentType="image/jpeg"/>
  <Override PartName="/ppt/media/hammer.wav" ContentType="audio/x-wav"/>
  <Override PartName="/ppt/media/drumroll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6865-6B03-447D-8591-4D1E950D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ECF9-064E-434F-8110-26F97ECA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A5A-A5C9-4789-BCA5-15AAFC3F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05D-92C9-4B96-8C63-C1571D44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FBC2-6988-4F71-93A1-624DB946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812-1CC8-4E5C-9C9F-D74E73E2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5CA-6D5D-4722-822A-98F97D2D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5F4-8C39-4494-8AD9-1D7F256E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BB6-7982-46FB-9552-A86801E7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AF3-F03B-4654-A0EA-09E1CB63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346-5EA1-49EE-BEE7-250E63F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2CA-79D1-481A-ABB0-74B4F3C1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4CE1-732F-46FB-A8BA-9520F17BB01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050920" y="2276640"/>
            <a:ext cx="496908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8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太平洋的来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0.1375 C 0.21354 -0.1375 0.38194 -0.00833 0.38194 0.15093 C 0.38194 0.31019 0.21354 0.44005 0.00764 0.44005 C -0.19861 0.44005 -0.36615 0.31019 -0.36615 0.15093 C -0.36615 -0.00833 -0.19861 -0.1375 0.00764 -0.1375 Z">
                                      <p:cBhvr>
                                        <p:cTn id="6" dur="1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835280" y="692280"/>
            <a:ext cx="597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里用了两个比喻句描写潮头气势宏大，先把它比作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重点体现它的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接着把它比作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重在体现它的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780000" y="201924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白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780000" y="266688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颜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492360" y="33148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咆哮的银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861080" y="400536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声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044720" y="1477800"/>
            <a:ext cx="712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随着潮水的推近，浪涛的轰响越来越大，开初如</a:t>
            </a:r>
            <a:r>
              <a:rPr b="1" lang="zh-CN" sz="4800" spc="-1" strike="noStrike" u="sng">
                <a:solidFill>
                  <a:srgbClr val="c0504d"/>
                </a:solidFill>
                <a:uFillTx/>
                <a:latin typeface="Arial"/>
              </a:rPr>
              <a:t>林涛滚滚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接着便似</a:t>
            </a:r>
            <a:r>
              <a:rPr b="1" lang="zh-CN" sz="4800" spc="-1" strike="noStrike" u="sng">
                <a:solidFill>
                  <a:srgbClr val="c0504d"/>
                </a:solidFill>
                <a:uFillTx/>
                <a:latin typeface="Arial"/>
              </a:rPr>
              <a:t>虎啸狮吼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到近处就像</a:t>
            </a:r>
            <a:r>
              <a:rPr b="1" lang="zh-CN" sz="4800" spc="-1" strike="noStrike" u="sng">
                <a:solidFill>
                  <a:srgbClr val="c0504d"/>
                </a:solidFill>
                <a:uFillTx/>
                <a:latin typeface="Arial"/>
              </a:rPr>
              <a:t>天坍地陷一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1332000" y="1413000"/>
            <a:ext cx="727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一段连用了三个比喻句，表现潮水推进过程中的变化，潮水越来越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　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声音越来越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　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气势越来越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292720" y="270828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484360" y="3357720"/>
            <a:ext cx="8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732720" y="335772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磅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042920" y="2349360"/>
            <a:ext cx="73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人们叫着，喊着，拍着手，跳起脚，随着潮水涌动，形成一道激情的人潮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116000" y="765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人们此时的表现怎样？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20091079225526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2007130223028189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0081121225353_875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0081121225353_875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07130223028263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5G9EH5HK00AN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755640" y="692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60093"/>
                </a:solidFill>
                <a:latin typeface="Arial"/>
                <a:ea typeface="楷体_GB2312"/>
              </a:rPr>
              <a:t>自学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68360" y="1773360"/>
            <a:ext cx="691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把课文读通、读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11280" y="2708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2.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圈画出文中生字，多读几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-1620720" y="3573360"/>
            <a:ext cx="93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3.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边读边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课文讲了一件什么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900000" y="1136520"/>
            <a:ext cx="7272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讨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这样独有的奇观是怎样形成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395280" y="6206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是因为地球、太阳、月亮之间相互吸引力，地球上的海水就会被吸引得上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39640" y="292428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是因为钱塘江入口处，江身小，江口大，像只大喇叭，太平洋的水涌入江口。（独特的地形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1258416153566"/>
          <p:cNvPicPr/>
          <p:nvPr/>
        </p:nvPicPr>
        <p:blipFill>
          <a:blip r:embed="rId1"/>
          <a:stretch/>
        </p:blipFill>
        <p:spPr>
          <a:xfrm>
            <a:off x="1332000" y="1413000"/>
            <a:ext cx="6264360" cy="263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97 -0.2507 C -0.39461 -0.20116 -0.39566 -0.17523 -0.37881 -0.13889 C -0.37656 -0.12894 -0.36892 -0.11922 -0.36267 -0.11273 C -0.35989 -0.09861 -0.36388 -0.11297 -0.35798 -0.10324 C -0.35642 -0.10047 -0.35607 -0.09676 -0.35451 -0.09398 C -0.35086 -0.08704 -0.33663 -0.06829 -0.33003 -0.06459 C -0.32743 -0.0632 -0.32465 -0.06227 -0.32187 -0.06158 C -0.31718 -0.06042 -0.30798 -0.05834 -0.30798 -0.05834 C -0.30555 -0.05834 -0.18802 -0.05093 -0.15555 -0.06459 C -0.15434 -0.06621 -0.15329 -0.06783 -0.15208 -0.06922 C -0.14826 -0.07315 -0.14392 -0.07593 -0.14045 -0.0801 C -0.13576 -0.08565 -0.13229 -0.09283 -0.12777 -0.09861 C -0.12204 -0.1132 -0.11545 -0.12732 -0.10798 -0.14051 C -0.10399 -0.15533 -0.11059 -0.13311 -0.10329 -0.14977 C -0.10243 -0.15162 -0.10295 -0.15417 -0.10208 -0.15602 C -0.10034 -0.16019 -0.09722 -0.16297 -0.09513 -0.1669 C -0.09479 -0.16852 -0.09461 -0.17014 -0.09392 -0.17153 C -0.09236 -0.17454 -0.08941 -0.17616 -0.08819 -0.1794 C -0.08142 -0.19769 -0.0776 -0.20023 -0.06493 -0.21181 C -0.05503 -0.22084 -0.07465 -0.20741 -0.05798 -0.21968 C -0.05 -0.2257 -0.04027 -0.22755 -0.03125 -0.22894 C 0.01563 -0.22778 0.06181 -0.22755 0.10834 -0.22107 C 0.13351 -0.2176 0.15921 -0.2169 0.18386 -0.2088 C 0.18959 -0.20486 0.19514 -0.20209 0.20139 -0.19954 C 0.20608 -0.19491 0.21077 -0.19074 0.21407 -0.18403 C 0.21372 -0.16806 0.21563 -0.15116 0.21181 -0.13588 C 0.20296 -0.10023 0.17691 -0.0588 0.14792 -0.05371 C 0.14271 -0.05162 0.13733 -0.05093 0.13282 -0.04746 C 0.13091 -0.04584 0.129 -0.04375 0.12691 -0.04283 C 0.11355 -0.03658 0.08091 -0.03611 0.07344 -0.03519 C 0.06494 -0.03125 0.05573 -0.02662 0.04792 -0.02107 C 0.0441 -0.01852 0.04115 -0.01412 0.03733 -0.01181 C 0.0283 -0.00648 0.01702 -0.00463 0.00712 -0.00255 C -0.01059 0.01111 -0.03125 0.01736 -0.04982 0.02847 C -0.06441 0.03727 -0.06927 0.04467 -0.08593 0.04861 C -0.12864 0.07037 -0.11163 0.06481 -0.13593 0.07176 C -0.15017 0.08333 -0.16579 0.09189 -0.18003 0.10277 C -0.19166 0.11157 -0.18541 0.10926 -0.19513 0.12152 C -0.21579 0.14722 -0.23611 0.17129 -0.24982 0.20509 C -0.25399 0.21527 -0.25555 0.22708 -0.2592 0.23773 C -0.26215 0.26597 -0.26458 0.30694 -0.25677 0.33379 C -0.24878 0.36134 -0.2401 0.37152 -0.22534 0.3912 C -0.21822 0.40069 -0.2118 0.41319 -0.20208 0.41921 C -0.18663 0.4287 -0.18333 0.42824 -0.1684 0.43148 C -0.12916 0.42847 -0.08732 0.42685 -0.04982 0.40833 C -0.03072 0.39884 -0.00954 0.38842 0.00834 0.37569 C 0.01754 0.36921 0.0257 0.36018 0.03507 0.35393 C 0.06528 0.33402 0.09445 0.31435 0.1257 0.29814 C 0.13803 0.29166 0.14948 0.28032 0.16164 0.27338 C 0.16563 0.26828 0.17084 0.26458 0.17466 0.25949 C 0.17744 0.25578 0.1816 0.24699 0.1816 0.24699 C 0.19306 0.20023 0.15678 0.1081 0.20139 0.08727 C 0.20712 0.08171 0.21198 0.08148 0.21875 0.07963 C 0.25747 0.08055 0.28612 0.07754 0.32119 0.08889 C 0.32813 0.09352 0.33855 0.09861 0.34549 0.10439 C 0.34983 0.10787 0.35296 0.11296 0.35712 0.11689 C 0.36389 0.15023 0.34914 0.18379 0.33733 0.21134 C 0.32223 0.24652 0.2974 0.27083 0.2757 0.29814 C 0.24792 0.33333 0.23594 0.35277 0.19671 0.35856 C 0.18056 0.36689 0.16528 0.37777 0.14792 0.38032 C 0.13455 0.38518 0.12119 0.38796 0.11059 0.40046 C 0.10643 0.40532 0.10209 0.40972 0.09792 0.41458 C 0.09584 0.41713 0.09202 0.42222 0.09202 0.42222 C 0.09132 0.4243 0.0908 0.42662 0.08976 0.42847 C 0.08907 0.42963 0.08785 0.43009 0.08733 0.43148 C 0.08594 0.43541 0.08594 0.43981 0.08507 0.44398 C 0.08577 0.45023 0.08594 0.45648 0.08733 0.4625 C 0.09063 0.47754 0.10382 0.47916 0.11303 0.48264 C 0.18039 0.47986 0.24671 0.47152 0.31407 0.46875 C 0.32448 0.46597 0.33403 0.46041 0.34445 0.45787 C 0.35018 0.45648 0.35625 0.45602 0.36181 0.45324 C 0.36494 0.45162 0.37119 0.44861 0.37119 0.44861 C 0.37987 0.43703 0.38733 0.43541 0.38733 0.41597 E">
                                      <p:cBhvr>
                                        <p:cTn id="145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809720" y="336600"/>
            <a:ext cx="186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隶书"/>
              </a:rPr>
              <a:t>认一认、记一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303120" y="-166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83528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35120" y="177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95076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16676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382760" y="242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79280" y="1268280"/>
            <a:ext cx="855684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cháo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  bà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hón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páo  xià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大潮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堤坝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白虹）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咆  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tāo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xiōn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yuè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lǎ  b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浪涛）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汹涌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山岳）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喇  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pēn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ǔ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雪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195640" y="4869000"/>
            <a:ext cx="539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江（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s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   白花簇簇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林涛滚滚       虎啸狮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684360" y="1341360"/>
            <a:ext cx="7921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观潮人的心情怎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课文是从那几个方面描写潮水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2518792732"/>
          <p:cNvPicPr/>
          <p:nvPr/>
        </p:nvPicPr>
        <p:blipFill>
          <a:blip r:embed="rId1"/>
          <a:stretch/>
        </p:blipFill>
        <p:spPr>
          <a:xfrm>
            <a:off x="0" y="-100080"/>
            <a:ext cx="9252000" cy="69580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826920" y="212256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潮来啦！”观潮台上有人</a:t>
            </a:r>
            <a:r>
              <a:rPr b="1" i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兴奋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喊起来。立刻，上千张面孔</a:t>
            </a:r>
            <a:r>
              <a:rPr b="1" i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齐刷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向钱塘江口，</a:t>
            </a:r>
            <a:r>
              <a:rPr b="1" i="1" lang="zh-CN" sz="4000" spc="-1" strike="noStrike" u="sng">
                <a:solidFill>
                  <a:srgbClr val="ff3300"/>
                </a:solidFill>
                <a:uFillTx/>
                <a:latin typeface="Arial"/>
              </a:rPr>
              <a:t>一双双眼睛都睁得大大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971640" y="1014480"/>
            <a:ext cx="755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时，东南角江口天和海连接的地方，</a:t>
            </a:r>
            <a:r>
              <a:rPr b="1" lang="zh-CN" sz="4400" spc="-1" strike="noStrike">
                <a:solidFill>
                  <a:srgbClr val="c0504d"/>
                </a:solidFill>
                <a:latin typeface="Arial"/>
              </a:rPr>
              <a:t>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出一溜黑气，一端又慢慢变成白花花的，像一根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玻璃棒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玻璃棒渐渐变粗，拉长，</a:t>
            </a:r>
            <a:r>
              <a:rPr b="1" lang="zh-CN" sz="4400" spc="-1" strike="noStrike">
                <a:solidFill>
                  <a:srgbClr val="c0504d"/>
                </a:solidFill>
                <a:latin typeface="Arial"/>
              </a:rPr>
              <a:t>不一会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化作一条黄白相间的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带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逐渐变大，堤坝般溯江推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042920" y="1268280"/>
            <a:ext cx="7345440" cy="2104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闪，不一会儿”写了了大潮的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“玻璃棒、变粗、拉长、带儿、堤坝般”写出了大潮的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“黑、黄白相间”写出了大潮的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　　　　　　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835280" y="18748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变化之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067280" y="321300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形态之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103480" y="4581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颜色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091007135194490f0e28fac3d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981000"/>
            <a:ext cx="8915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5900" spc="-1" strike="noStrike">
                <a:solidFill>
                  <a:srgbClr val="990099"/>
                </a:solidFill>
                <a:latin typeface="Calibri"/>
              </a:rPr>
              <a:t>“</a:t>
            </a:r>
            <a:r>
              <a:rPr b="0" lang="zh-CN" sz="5900" spc="-1" strike="noStrike">
                <a:solidFill>
                  <a:srgbClr val="990099"/>
                </a:solidFill>
                <a:latin typeface="Calibri"/>
              </a:rPr>
              <a:t>潮来了！”“太平洋的客人来了！”人们争着向这边挤。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403280" y="155736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c0504d"/>
                </a:solidFill>
                <a:latin typeface="Arial"/>
              </a:rPr>
              <a:t>潮头像一道白虹，白花簇簇，喷雪滚玉，又如咆哮的银龙，以排山倒海之势压了过来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6:04:37Z</dcterms:created>
  <dc:creator/>
  <dc:description/>
  <cp:keywords/>
  <dc:language>en-US</dc:language>
  <cp:lastModifiedBy>Administrator</cp:lastModifiedBy>
  <dcterms:modified xsi:type="dcterms:W3CDTF">2015-04-08T08:05:39Z</dcterms:modified>
  <cp:revision>39</cp:revision>
  <dc:subject/>
  <dc:title>幻灯片 1</dc:title>
</cp:coreProperties>
</file>