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B9A-5B13-4EC1-AB4A-1E5C07F6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29C-F43A-47C2-AACE-23889420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4EB-3ED1-457D-B495-1CA4AADD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07E-2808-418C-BADC-16785B83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93F-1704-4F02-B934-A0939AB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8C5-1988-49BF-9CD7-979098B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CD7-0C2E-4D61-9228-A386C06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422-1896-4B08-8746-CB8D8A0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685-FC2C-4CA7-9D22-F974954E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116-5B73-47BE-9920-0606EEA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2D0-190E-4F01-8FC1-17D30C7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AD3-79AD-440A-9BAD-2F73F6D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F5E-FDDF-49AC-9BB2-BD05B6298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81080" y="2438280"/>
            <a:ext cx="49150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太阳的话</a:t>
            </a:r>
            <a:endParaRPr b="1" lang="en-US" sz="96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53352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窗子吧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板门吧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让我进去，让我进去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进到你们的小屋里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03848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●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从文章的第一小节，体会到太阳希望进入小屋的急切心情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762120"/>
            <a:ext cx="876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带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金黄的花束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带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林间的香气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带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亮光和温暖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带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满身的露水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191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●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从“带着”……中感受太阳确实给了我们很多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0"/>
            <a:ext cx="87631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快起来，快起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快从枕头里抬起头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睁开你的被睫毛盖着的眼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你的眼看见我的到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让你们的心像小小的木板房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打开它们关闭了很久的窗子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我把花束，把香气，把亮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温暖和露水撒满你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心的空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感受到人们正开眼看到这些东西时的喜悦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8006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心的空间”指的是让人们生活的每一个角落，从身体到内心都感受到生活的美好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335196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同学们，正像我们课文中所学习的那样，太阳是光明，温暖的使者，请同学们用“您”称呼太阳，写一首赞美太阳的小诗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43200" y="1600200"/>
            <a:ext cx="30481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课外拓展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914400"/>
            <a:ext cx="85341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71800" y="4476600"/>
            <a:ext cx="245736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9144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．学会“阳、打、开、门、间、向、毛”七个生字；会认“话、让、进、屋、香、起、双、就”八个生字。认识新笔画“飞”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横折弯钩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．正确流利地朗读课文，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．通过对课文的学习，感受阳光的温暖，感受大自然的美好，感受生命蓬勃向上的气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26708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83480" y="213372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4160" y="34290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8176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8288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艾青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(1910——1996),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原名蒋海澄，笔名莪伽、克阿、林壁等。浙江金华人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就读于杭州 西湖艺术学院，次年留学法国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3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参加中国左翼美术家联盟。不久被捕， 在狱中开始写诗，以《大堰河——我的保姆》一诗成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4272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37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后辗转于武汉、山西、桂林、重庆等地，参加抗日救亡活动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4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到延安，参加延安文艺座谈会，主编《诗刊》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后任《人民文学》副主编等职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57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被错 划为右派，到黑龙江、新疆等地劳动。文化大革命中一再遭到批判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7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0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月后重新获得写作权利，任中国作家协会副主席、国际笔会中国中心副会长， 被法国授予文学艺术最高勋章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       诗作者把个人的悲欢融合到民族和人民的苦难与命运之中，表现出对光明的热烈向往与追求，富有强烈的时代感和现实性，感情深挚，风格独特，是继郭沫若、闻一多等人之后推动一代诗风的重要诗人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       著有诗集《大堰河》、《北方》、《向太阳》、《归来的歌》等，论文集有 《诗论》、《艾青谈诗》等。</a:t>
            </a:r>
            <a:br>
              <a:rPr sz="28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45720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生字学习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048120"/>
            <a:ext cx="17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窗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2971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枕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62080" y="4572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睫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6520" y="4495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楷体_GB2312"/>
              </a:rPr>
              <a:t>撒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320" y="2438280"/>
            <a:ext cx="231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宋体"/>
              </a:rPr>
              <a:t>chu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67680" y="2438280"/>
            <a:ext cx="156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宋体"/>
              </a:rPr>
              <a:t>zhě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6120" y="40384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宋体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42440" y="396252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宋体"/>
              </a:rPr>
              <a:t>s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43000"/>
            <a:ext cx="441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窗子吧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板门吧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我进去，让我进去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到你们的小屋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带着金黄的花束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带着林间的香气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带着亮光和温暖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带着满身的露水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143000"/>
            <a:ext cx="6400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起来，快起来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快从枕头里抬起头来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睁开你的被睫毛盖着的眼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你的眼看见我的到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你们的心像小小的木板房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打开它们的关闭了很久的窗子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我把花束，把香气，把亮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温暖和露水撒满你们心的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1837800" y="2504880"/>
            <a:ext cx="3657600" cy="93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太阳的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09680" y="762120"/>
            <a:ext cx="3353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课文感知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218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04920" y="2209680"/>
            <a:ext cx="8001000" cy="3904200"/>
            <a:chOff x="304920" y="2209680"/>
            <a:chExt cx="8001000" cy="3904200"/>
          </a:xfrm>
        </p:grpSpPr>
        <p:grpSp>
          <p:nvGrpSpPr>
            <p:cNvPr id="65" name=""/>
            <p:cNvGrpSpPr/>
            <p:nvPr/>
          </p:nvGrpSpPr>
          <p:grpSpPr>
            <a:xfrm>
              <a:off x="304920" y="2209680"/>
              <a:ext cx="8001000" cy="3904200"/>
              <a:chOff x="304920" y="2209680"/>
              <a:chExt cx="8001000" cy="39042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304920" y="2209680"/>
                <a:ext cx="8001000" cy="3904200"/>
                <a:chOff x="304920" y="2209680"/>
                <a:chExt cx="8001000" cy="390420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304920" y="2209680"/>
                  <a:ext cx="8001000" cy="3904200"/>
                  <a:chOff x="304920" y="2209680"/>
                  <a:chExt cx="8001000" cy="390420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304920" y="2209680"/>
                    <a:ext cx="8001000" cy="3141360"/>
                    <a:chOff x="304920" y="2209680"/>
                    <a:chExt cx="8001000" cy="314136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04920" y="2209680"/>
                      <a:ext cx="8001000" cy="3141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       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自由读诗歌，思考：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诗中“我”“你们”指的是谁？太阳带来了哪些美好的事物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诗中说：“让我把花束、把香气，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把亮光、温暖和露水，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4000" spc="-1" strike="noStrike">
                          <a:solidFill>
                            <a:srgbClr val="003300"/>
                          </a:solidFill>
                          <a:latin typeface="黑体"/>
                          <a:ea typeface="黑体"/>
                        </a:rPr>
                        <a:t>撒满你们心的空间。”意思是什么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1323360" y="2209680"/>
                      <a:ext cx="6364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996633"/>
                          </a:solidFill>
                          <a:latin typeface="Arial"/>
                          <a:ea typeface="黑体"/>
                        </a:rPr>
                        <a:t>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"/>
                  <p:cNvSpPr/>
                  <p:nvPr/>
                </p:nvSpPr>
                <p:spPr>
                  <a:xfrm>
                    <a:off x="1499400" y="5715000"/>
                    <a:ext cx="33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5050"/>
                        </a:solidFill>
                        <a:latin typeface="Arial"/>
                        <a:ea typeface="楷体_GB2312"/>
                      </a:rPr>
                      <a:t>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1956600" y="571500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5050"/>
                      </a:solidFill>
                      <a:latin typeface="Arial"/>
                      <a:ea typeface="楷体_GB2312"/>
                    </a:rPr>
                    <a:t>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2490120" y="571500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5050"/>
                    </a:solidFill>
                    <a:latin typeface="Arial"/>
                    <a:ea typeface="楷体_GB2312"/>
                  </a:rPr>
                  <a:t>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023280" y="571500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3520" y="1447920"/>
            <a:ext cx="8229600" cy="1311840"/>
            <a:chOff x="533520" y="1447920"/>
            <a:chExt cx="8229600" cy="1311840"/>
          </a:xfrm>
        </p:grpSpPr>
        <p:sp>
          <p:nvSpPr>
            <p:cNvPr id="76" name=""/>
            <p:cNvSpPr/>
            <p:nvPr/>
          </p:nvSpPr>
          <p:spPr>
            <a:xfrm>
              <a:off x="533520" y="2056320"/>
              <a:ext cx="822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我”指太阳，“你们”指的是人们，太阳给人们带来了亮光、温暖、花束、香气和露水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82280" y="14479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楷体_GB2312"/>
                </a:rPr>
                <a:t>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3733920"/>
            <a:ext cx="8381880" cy="1616040"/>
            <a:chOff x="533520" y="3733920"/>
            <a:chExt cx="8381880" cy="1616040"/>
          </a:xfrm>
        </p:grpSpPr>
        <p:sp>
          <p:nvSpPr>
            <p:cNvPr id="79" name=""/>
            <p:cNvSpPr/>
            <p:nvPr/>
          </p:nvSpPr>
          <p:spPr>
            <a:xfrm>
              <a:off x="533520" y="4648320"/>
              <a:ext cx="8381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373392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590920" y="1066680"/>
            <a:ext cx="3047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品读课文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85800" y="1905120"/>
            <a:ext cx="7467480" cy="1433520"/>
            <a:chOff x="685800" y="1905120"/>
            <a:chExt cx="7467480" cy="1433520"/>
          </a:xfrm>
        </p:grpSpPr>
        <p:sp>
          <p:nvSpPr>
            <p:cNvPr id="83" name=""/>
            <p:cNvSpPr/>
            <p:nvPr/>
          </p:nvSpPr>
          <p:spPr>
            <a:xfrm>
              <a:off x="685800" y="2147760"/>
              <a:ext cx="74674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33"/>
                  </a:solidFill>
                  <a:latin typeface="Arial"/>
                  <a:ea typeface="黑体"/>
                </a:rPr>
                <a:t>           </a:t>
              </a:r>
              <a:r>
                <a:rPr b="0" lang="zh-CN" sz="3200" spc="-1" strike="noStrike">
                  <a:solidFill>
                    <a:srgbClr val="996633"/>
                  </a:solidFill>
                  <a:latin typeface="Arial"/>
                  <a:ea typeface="黑体"/>
                </a:rPr>
                <a:t>默读课文。要求：边读边想，把自己的感受标注在词句的旁边。</a:t>
              </a:r>
              <a:br>
                <a:rPr sz="40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6560" y="19051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Arial"/>
                  <a:ea typeface="黑体"/>
                </a:rPr>
                <a:t>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5800" y="2971800"/>
            <a:ext cx="8001000" cy="1050840"/>
            <a:chOff x="685800" y="2971800"/>
            <a:chExt cx="8001000" cy="1050840"/>
          </a:xfrm>
        </p:grpSpPr>
        <p:sp>
          <p:nvSpPr>
            <p:cNvPr id="86" name=""/>
            <p:cNvSpPr/>
            <p:nvPr/>
          </p:nvSpPr>
          <p:spPr>
            <a:xfrm>
              <a:off x="685800" y="3443400"/>
              <a:ext cx="800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29718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5800" y="4114800"/>
            <a:ext cx="8153280" cy="1296360"/>
            <a:chOff x="685800" y="4114800"/>
            <a:chExt cx="8153280" cy="1296360"/>
          </a:xfrm>
        </p:grpSpPr>
        <p:sp>
          <p:nvSpPr>
            <p:cNvPr id="89" name=""/>
            <p:cNvSpPr/>
            <p:nvPr/>
          </p:nvSpPr>
          <p:spPr>
            <a:xfrm>
              <a:off x="685800" y="43423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3880" y="41148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85800" y="5181480"/>
            <a:ext cx="8153280" cy="1433160"/>
            <a:chOff x="685800" y="5181480"/>
            <a:chExt cx="8153280" cy="1433160"/>
          </a:xfrm>
        </p:grpSpPr>
        <p:sp>
          <p:nvSpPr>
            <p:cNvPr id="92" name=""/>
            <p:cNvSpPr/>
            <p:nvPr/>
          </p:nvSpPr>
          <p:spPr>
            <a:xfrm>
              <a:off x="685800" y="5423760"/>
              <a:ext cx="81532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lang="zh-CN" sz="32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　　　　　　　　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　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51814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14T09:34:13Z</dcterms:modified>
  <cp:revision>3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