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coin.wav" ContentType="audio/x-wav"/>
  <Override PartName="/ppt/media/hammer.wav" ContentType="audio/x-wav"/>
  <Override PartName="/ppt/media/image8.wmf" ContentType="image/x-wmf"/>
  <Override PartName="/ppt/media/image13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typ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wind.wav" ContentType="audio/x-wav"/>
  <Override PartName="/ppt/media/chimes.wav" ContentType="audio/x-wav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496-8470-4ECB-9235-ED09E92C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AAA-62E2-4A8C-B778-9FDD9E7F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5FB-450F-4749-84F4-2652E992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549-AA40-46C2-84D2-B5C0630A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2C53-CA3E-42E6-8A35-2B5AC71C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B743-AB1F-456B-997B-CF45FE8C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DF89-87EB-497A-8E9E-CA414573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CB5F-C07D-4E42-944F-752C808E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21A9-ED18-4519-ADBB-648CA216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2D9F-4850-4FCC-BE47-4A93D456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657C-1CE1-4B68-B04D-F634399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EA4-DD2E-4300-A1FC-F5BBB592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6001-D222-4E32-97C6-A78D6F88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4087-EA18-46A3-89FD-19DFD47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1D39-9CBA-4300-9988-E7DE5613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8507-0FBA-42EE-8D20-2E5EDBA4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3861-A5F4-440E-9D2C-AFE90BEB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8AB-C1C9-45E7-A136-837B6499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C3E-205B-48A0-AC6A-FC1D730C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F49-6FC5-4930-91DA-FD1C3072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04E-C70B-4362-B6B7-A055A037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F7F-D8CA-4D74-9BE0-1507103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417-BD21-41FF-9BAB-C92FCD0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45A-9F12-48A1-85E5-1FC8935F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2940-8F2D-4E0A-AFF2-5436C7829D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EA4D-90C9-4AB8-B541-FA841BAA08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file:///../../&#35821;&#25991;S&#29256;&#20116;&#24180;&#32423;&#19978;&#20876;&#35838;&#20214;&#30446;&#24405;B.ppt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79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方正楷体_GBK"/>
              </a:rPr>
              <a:t>乡下的房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乡下的房子"/>
          <p:cNvPicPr/>
          <p:nvPr/>
        </p:nvPicPr>
        <p:blipFill>
          <a:blip r:embed="rId1"/>
          <a:stretch/>
        </p:blipFill>
        <p:spPr>
          <a:xfrm>
            <a:off x="1447920" y="9907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1143000"/>
            <a:ext cx="8893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乡下人在屋顶开一个小方洞，装了一块玻璃，叫做（         ）。每当（                     ） 时，或（                 ）时，小小的天窗是孩子（                 ）。这小小的一方空白是神奇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800600" y="18288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114800" y="2362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5800" y="2971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夏天阵雨来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943600" y="2971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晚上被逼上床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638680" y="3581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唯一的慰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28600" y="304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整体感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oin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57200" y="2286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80880" y="609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浏览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67652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天窗给孩子们带来了什么？（用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上的一句话来概括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762120" y="3733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小的天窗是唯一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慰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520" y="15998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透过小小的天窗，孩子们看见了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么，又想到了什么？分别用</a:t>
            </a:r>
            <a:r>
              <a:rPr b="1" lang="zh-CN" sz="3600" spc="-1" strike="noStrike">
                <a:solidFill>
                  <a:srgbClr val="3333ff"/>
                </a:solidFill>
                <a:latin typeface="Arial Black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Arial Black"/>
              </a:rPr>
              <a:t>——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3333ff"/>
                </a:solidFill>
                <a:latin typeface="Arial Black"/>
                <a:ea typeface="黑体"/>
              </a:rPr>
              <a:t>“</a:t>
            </a:r>
            <a:r>
              <a:rPr b="1" lang="en-US" sz="3600" spc="-1" strike="noStrike">
                <a:solidFill>
                  <a:srgbClr val="3333ff"/>
                </a:solidFill>
                <a:latin typeface="Arial Black"/>
                <a:ea typeface="黑体"/>
              </a:rPr>
              <a:t>~~~~”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画出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609480" y="685800"/>
            <a:ext cx="25146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合作探究：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80880" y="1066680"/>
          <a:ext cx="8305920" cy="5164200"/>
        </p:xfrm>
        <a:graphic>
          <a:graphicData uri="http://schemas.openxmlformats.org/drawingml/2006/table">
            <a:tbl>
              <a:tblPr/>
              <a:tblGrid>
                <a:gridCol w="3733920"/>
                <a:gridCol w="45720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看    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想     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22"/>
          <p:cNvSpPr/>
          <p:nvPr/>
        </p:nvSpPr>
        <p:spPr>
          <a:xfrm>
            <a:off x="533520" y="18288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雨脚在那里卜落卜落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838080" y="2971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带子似的闪电一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4419720" y="1752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这雨、这风、这雷、这电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怎样猛厉地扫荡了这世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4343400" y="274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它们的威力比你在露天真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感到的要大十倍百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76212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颗星，一朵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4191120" y="3809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无数闪闪烁烁可爱的星；无数像山似的、马似的、巨人似的奇幻的云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380880" y="5334120"/>
            <a:ext cx="36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掠过一条黑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4114800" y="50292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这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许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是灰色的蝙蝠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许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是会唱歌的夜莺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也许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是恶霸似的猫头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30"/>
          <p:cNvSpPr txBox="1"/>
          <p:nvPr/>
        </p:nvSpPr>
        <p:spPr>
          <a:xfrm>
            <a:off x="609480" y="304920"/>
            <a:ext cx="20196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合作探究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24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Calibri"/>
                <a:ea typeface="黑体"/>
              </a:rPr>
              <a:t>说话训练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你会从那小玻璃上面掠过一条黑影，想象到这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Calibri"/>
              </a:rPr>
              <a:t>也许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灰色的蝙蝠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Calibri"/>
              </a:rPr>
              <a:t>也许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会唱歌的夜莺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Calibri"/>
              </a:rPr>
              <a:t>也许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恶霸似的猫头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总之，美丽而神奇的夜的世界的一切，立刻会在你的想象中展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孩子们通过那小玻璃上面掠过的一条黑影还能想象到什么呢？请你再用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也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也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也许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....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说一句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0720" y="15998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此时，你觉得天窗还是乡下屋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房顶上那一扇小小的玻璃窗吗？它是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拓展学习"/>
          <p:cNvPicPr/>
          <p:nvPr/>
        </p:nvPicPr>
        <p:blipFill>
          <a:blip r:embed="rId1"/>
          <a:stretch/>
        </p:blipFill>
        <p:spPr>
          <a:xfrm>
            <a:off x="380880" y="0"/>
            <a:ext cx="3565800" cy="8809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380880" y="1295280"/>
            <a:ext cx="86108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窗外的世界是幅永恒的画面，印在茅盾爷爷的心上，也印在我们的心中。想象是首隽永的小诗，想象是支悠扬的小曲，想象是一对金色的翅膀，有了它，我们就可以飞起来离开熟悉的陆地，离开司空见惯的事物，进入一个个神奇、美妙、广阔的境界。愿同学们插上想象的翅膀，使得生活变得更加丰富有趣。愿你们的人生永远有一扇天窗向你们开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5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教师寄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6"/>
          <p:cNvSpPr txBox="1"/>
          <p:nvPr/>
        </p:nvSpPr>
        <p:spPr>
          <a:xfrm rot="339600">
            <a:off x="1676160" y="1828440"/>
            <a:ext cx="5410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敬请指导！</a:t>
            </a:r>
            <a:endParaRPr b="0" lang="en-US" sz="4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20004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方正楷体_GBK"/>
              </a:rPr>
              <a:t>木板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木板窗"/>
          <p:cNvPicPr/>
          <p:nvPr/>
        </p:nvPicPr>
        <p:blipFill>
          <a:blip r:embed="rId1"/>
          <a:stretch/>
        </p:blipFill>
        <p:spPr>
          <a:xfrm>
            <a:off x="3152880" y="762120"/>
            <a:ext cx="4619520" cy="4944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天窗04"/>
          <p:cNvPicPr/>
          <p:nvPr/>
        </p:nvPicPr>
        <p:blipFill>
          <a:blip r:embed="rId1"/>
          <a:stretch/>
        </p:blipFill>
        <p:spPr>
          <a:xfrm>
            <a:off x="4343400" y="1981080"/>
            <a:ext cx="4800600" cy="4876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天窗"/>
          <p:cNvPicPr/>
          <p:nvPr/>
        </p:nvPicPr>
        <p:blipFill>
          <a:blip r:embed="rId2">
            <a:lum bright="-2000"/>
          </a:blip>
          <a:stretch/>
        </p:blipFill>
        <p:spPr>
          <a:xfrm>
            <a:off x="0" y="2286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4648320" y="11430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edge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11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  <p:sndAc>
      <p:stSnd>
        <p:snd r:embed="rId2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8"/>
          <p:cNvSpPr txBox="1"/>
          <p:nvPr/>
        </p:nvSpPr>
        <p:spPr>
          <a:xfrm>
            <a:off x="228600" y="1981080"/>
            <a:ext cx="6192720" cy="28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天窗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95120" y="228240"/>
            <a:ext cx="6248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219320" y="838080"/>
            <a:ext cx="3000240" cy="2248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4343400" y="1371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茅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中国现代最著名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学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一，原名沈德鸿，字雁冰。茅盾是他的笔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47920" y="3276720"/>
            <a:ext cx="6629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出生在浙江省桐乡县乌镇一个商人家庭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在北京病逝。临终前，茅盾捐献出自己一生的积蓄设立文学奖，专门奖励优秀的长篇小说创作者，这就是著名的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茅盾文学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他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代表作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子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林家铺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白杨礼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24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请同学们放声朗读课文，注意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读准字音，读通句子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遇到难读的句子多读几遍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在你不理解的地方做上记号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57200" y="228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初读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43000" y="3200400"/>
            <a:ext cx="99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藉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486400" y="3200400"/>
            <a:ext cx="83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010280" y="3200400"/>
            <a:ext cx="83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438280" y="3200400"/>
            <a:ext cx="83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886200" y="3200400"/>
            <a:ext cx="83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010280" y="236232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f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Arial"/>
              </a:rPr>
              <a:t>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/>
          <p:cNvSpPr/>
          <p:nvPr/>
        </p:nvSpPr>
        <p:spPr>
          <a:xfrm>
            <a:off x="5410080" y="2362320"/>
            <a:ext cx="12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bi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3733920" y="236232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zh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Arial"/>
              </a:rPr>
              <a:t>ò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0"/>
          <p:cNvSpPr/>
          <p:nvPr/>
        </p:nvSpPr>
        <p:spPr>
          <a:xfrm>
            <a:off x="2214000" y="2362320"/>
            <a:ext cx="8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b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990720" y="23623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ji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Arial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素材\图片1.emf"/>
          <p:cNvPicPr/>
          <p:nvPr/>
        </p:nvPicPr>
        <p:blipFill>
          <a:blip r:embed="rId1"/>
          <a:stretch/>
        </p:blipFill>
        <p:spPr>
          <a:xfrm>
            <a:off x="285840" y="285840"/>
            <a:ext cx="1944720" cy="166536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22860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慰藉  蝙蝠  恶霸  宇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猛厉  扫荡  奇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6519960" y="6497640"/>
            <a:ext cx="2623680" cy="360360"/>
            <a:chOff x="6519960" y="6497640"/>
            <a:chExt cx="2623680" cy="360360"/>
          </a:xfrm>
        </p:grpSpPr>
        <p:pic>
          <p:nvPicPr>
            <p:cNvPr id="113" name="Picture 4" descr="按扭2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167240" y="6497640"/>
              <a:ext cx="6807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" descr="按扭3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848360" y="6497640"/>
              <a:ext cx="6807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519960" y="6497640"/>
              <a:ext cx="6807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497640"/>
              <a:ext cx="680760" cy="36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图片 6" descr="图片3.png"/>
          <p:cNvPicPr/>
          <p:nvPr/>
        </p:nvPicPr>
        <p:blipFill>
          <a:blip r:embed="rId6"/>
          <a:stretch/>
        </p:blipFill>
        <p:spPr>
          <a:xfrm>
            <a:off x="189000" y="285840"/>
            <a:ext cx="1954080" cy="164304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camera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C教育资源网www.7cxk.net</dc:creator>
  <dc:description>7C教育资源网www.7cxk.net</dc:description>
  <cp:keywords>7C教育资源网www.7cxk.net</cp:keywords>
  <dc:language>en-US</dc:language>
  <cp:lastModifiedBy>Administrator</cp:lastModifiedBy>
  <dcterms:modified xsi:type="dcterms:W3CDTF">2015-04-10T02:19:01Z</dcterms:modified>
  <cp:revision>137</cp:revision>
  <dc:subject>7C教育资源网www.7cxk.net</dc:subject>
  <dc:title>7C教育资源网www.7cxk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