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27.jpeg" ContentType="image/jpeg"/>
  <Override PartName="/ppt/media/image6.jpeg" ContentType="image/jpeg"/>
  <Override PartName="/ppt/media/image13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4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394-26EB-41EE-9845-69A48E0C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205-D690-4D51-B395-C273C10E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6AA02-B927-448C-8476-1BB67638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9AD61-2699-4C03-9C94-69367307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D9392-F1CA-4426-A978-14A1528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71F0D-6A8F-4A18-BC4C-74EB19F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7E76-EDAE-40C8-87E9-5A4FD024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AFEA8-46E0-4F3F-A458-CF2C717D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4F811-D7FB-4C6D-B922-179A85F7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E4BB-5F1E-4086-90F2-1761EA21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1816-D0BE-4DC7-8299-CA93553A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A54E0-ABAB-41CF-B44C-C7EA3A88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EB9-045A-4442-BDB6-494BC579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1929D-A274-4027-B24E-97F0D341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AA059-83C2-4976-A29E-973213D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9E696-B716-49CD-BA26-9325286D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115DD-FA65-4E9B-93C5-325D43B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31AD3-0528-4AFE-95FE-309BD3E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63E5D-2441-45CC-999F-453F7B3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3B135-CBFD-4DFB-81B5-DD2D4FC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132B-85B5-435A-B664-4F0981E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96329-AB50-4513-AD58-48CD181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6D79F-CC81-4B10-8418-38D26C9C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9E3-400C-45FC-A793-989778A4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87302-6B55-43F2-9F24-3E0DBF52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571E-4491-4333-8CE7-5631620B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408-4E8F-4419-82D3-74534C0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CE8C-31C4-496A-91BF-AA39AF5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E05-08F0-4204-82DD-9A094DE2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9EA7-A877-4DC8-9401-EFBB7BA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E57C-52F4-4E71-95D7-41B6D7B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78FE-F441-4922-AA9D-174D8B9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17B-0A1F-41C6-8046-00A8072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C365-B0A9-49A2-BE43-FCEBD1E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6D2E-8F41-4655-8479-70094C0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7C41-DA23-461F-9B6F-1DD5FEB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ED71-9837-4E9E-86ED-29CE2127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1F38-921A-4718-8A6D-79C5AFA3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D8D7-C824-418E-89F9-58481B2A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D9D9-AE40-48BD-8E85-D76D9217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B47C-CE0A-4466-ABD3-953DC3ED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9618-38AD-4596-94B8-5A2D8BEA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913A-0DDA-4D50-8AFD-6ACB618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CE1-B144-4B6C-BB81-6BAC74B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C908-46A7-40EC-848A-814CE032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F2FD-A89B-4C13-A9F1-9ECBC8A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38F3-42F6-4A68-9BEC-414AEB4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99F7-CFF5-40FB-B0AA-93000B83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40DA-5F77-4FB4-B9DD-9068AF98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4766-3F8B-40BA-9FDB-E8853BFD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E6C9-E333-4D4D-A6B0-880E21C5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1369-D562-4C9E-8C5B-A65D0E44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B592-B7A5-48BA-9D7F-BD5D2BAA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16E0-2645-4D27-AD76-78D9A2FF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FDF-A410-41F0-B17F-50EE06F7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8F3E-AC46-40FE-B801-D12F796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7DBF-2666-466E-8C63-5973361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6453-A101-4E88-8218-08B9D47E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CE4E-77BC-4639-B7E8-87A447D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9B22-4C89-42CB-86A3-524303F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1DF12-CDCA-45A6-8F9A-D1046E7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FFF6-9674-4714-A0C3-9949F8E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DA3C-3328-4C35-B4DA-E93DE1BD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7DC8-4B32-43AC-B7CD-5124C06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18EF-C94C-417C-AD7A-84948C97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3D7-9039-416B-BC2D-8D564CC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EBB0-EDBD-4CC8-93FD-EFC2CB9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DAAF-10D9-4B7E-A119-6F3A1781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03B7-D323-4852-8DCC-37E737A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2432-84F3-4822-9909-932CEF53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5F0B-86C7-4ED6-9D2C-765E734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EB8D-9927-4433-B196-6F60314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892F-CBA0-4C0D-8BE4-564F3A7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23DC-762B-4B23-9F22-E9681094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2B3F-A00A-4DD5-AA28-5AFBCE0B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F134E-EC09-4B82-9506-E395622B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D4B-56AC-463A-9C0E-B6142D19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846E-56BD-4E16-B4AD-969B0FA9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BFE5-6BFC-47E1-A952-8E09573A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C028-CEC0-4A4F-8DD6-D8D31FC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581B8-F189-4D8D-97C3-8D2FAD79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2EF4-5F6B-492A-9EE1-C9EBCCD8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D88C-1C3D-48D9-BDD5-5639D74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FD5F-2A66-4735-99E6-EBDF490D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C468-1DCB-4DB8-9F7C-01F9F80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C2AEF-51A8-4B40-8B43-CBCB251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65C8-C010-42A1-B277-AEE1050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87C-D411-4683-AE05-0C76D4F4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82921-7145-4F27-BCC6-E82E994C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FBC0-B888-40E3-8045-A732EA6F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2F3E3-4263-4B76-B2D5-BC784B52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8D623-3418-46F5-B829-9A512CCD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6434-B893-4C71-9939-B4D2682F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45BD1-FF26-434C-A5B1-296995A6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CD2C-B25F-4E6E-9516-54966F3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AF826-FBCB-429D-8B72-CE777635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6DDDB-6665-48CB-B183-77F74023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EBBC-C8AC-4414-BA3C-DB950B3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B73-5A28-47DE-A1CD-0654808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6D61-3FC6-48B3-98D8-4997AF39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5416E-A0C3-48A7-BE52-FEB0745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E4FE-1C70-4AE2-8FD7-096664FD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4DE4A-A0A3-4443-AAAD-C0FD9A57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5A25-F156-4AB8-AB12-31D384EB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A4FB-0358-4C0C-8132-A8AC0FE4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87CE-0E22-450C-850C-D707A526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F46B-CAED-41DD-BA48-9C4D9D3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D9D62-9D45-4E46-8ACC-9F42983E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D0F1-84AA-4FC2-8619-0D7D2304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AB8-2047-4019-AF14-78B3962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5431-B881-451D-92D3-9384AB3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9C5D-EB18-458E-ABBF-D6E72CD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1BB43-E4EE-4ED1-983C-F138D83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FDDD0-2134-4B74-8F81-D022E67F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FEA3-EFBE-419E-8A45-B9CC918A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D9F90-191A-47AF-B538-1D52C169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CDCCD-F841-4CF0-8A0C-C75AA5B8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39E5F-41F6-45EC-B147-2304A908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9FCC4-39D9-4688-AC0C-6C9289E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9A456-B225-49CF-8A4C-AA7BF34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96D-3377-4123-8735-F15818EFB4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B0EA-AF55-4C28-87A4-E6602101E0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3AC4-C9DA-4323-A872-F886FF0E94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6FA-D944-43CA-98E8-ADEC60EEED1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9DF-D57E-4A1C-A7C8-84E48E1FB5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CE20-767C-4682-A841-21AECB60BE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ECCD-8B97-4586-94AE-156A83874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037E-AE87-4451-91DB-C4D135AF3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8DA6-7D12-481E-A2EB-B1A0E07DC9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E3AA-01A2-4777-B21D-41C8CA2DDC9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1" name="Picture 13" descr="W020071213144427202675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WordArt 21"/>
            <p:cNvSpPr txBox="1"/>
            <p:nvPr/>
          </p:nvSpPr>
          <p:spPr>
            <a:xfrm rot="716400">
              <a:off x="2700000" y="1341360"/>
              <a:ext cx="4105080" cy="309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3966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+mn-ea"/>
                </a:rPr>
                <a:t>天路</a:t>
              </a:r>
              <a:endPara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966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258920" y="278136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作者：屈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2268360" y="5661000"/>
            <a:ext cx="59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0" y="4724280"/>
            <a:ext cx="9144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青藏高原——“世界屋脊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612720" y="622440"/>
            <a:ext cx="32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宋体"/>
              </a:rPr>
              <a:t>阅读要求：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539640" y="19177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、默读课文，说说青藏铁路是一条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么样的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、建设者在修建青藏铁路的过程中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到了哪些困难，是怎样克服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684360" y="83664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建设者在这“世界屋脊”上会遇到什么困难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611280" y="27082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寒缺氧，自然环境恶劣，生态环境脆弱，施工条件异常艰苦，氧气含量不及平原的一半，是真正的“生命禁区”。而筑路大军牺牲的不仅是健康，还随时可能有生命危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3"/>
          <p:cNvSpPr/>
          <p:nvPr/>
        </p:nvSpPr>
        <p:spPr>
          <a:xfrm>
            <a:off x="539640" y="765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青藏铁路建设者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屋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命禁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克服许多常人难以想像的艰难困苦，挑战生理、心理极限，努力攻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永久冻土、高寒缺氧、生态脆弱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大世界性工程难题；他们以敢于超越前人的智慧和勇气，开拓创新，制定一流工作标准，实施一流工程管理，创造一流施工质量，采用一流技术装备，培养一流建设队伍，建设世界一流高原铁路。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0" r="-57" b="8918"/>
          <a:stretch/>
        </p:blipFill>
        <p:spPr>
          <a:xfrm>
            <a:off x="36360" y="189000"/>
            <a:ext cx="9134640" cy="47260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"/>
          <p:cNvSpPr/>
          <p:nvPr/>
        </p:nvSpPr>
        <p:spPr>
          <a:xfrm>
            <a:off x="2916360" y="260280"/>
            <a:ext cx="6696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崇山峻岭之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辛勤忙碌的建筑工人</a:t>
            </a:r>
            <a:r>
              <a:rPr b="0" lang="zh-CN" sz="4800" spc="-1" strike="noStrike">
                <a:solidFill>
                  <a:srgbClr val="ff3300"/>
                </a:solidFill>
                <a:latin typeface="文鼎大标宋简"/>
                <a:ea typeface="文鼎大标宋简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rcRect l="0" t="0" r="920" b="7318"/>
          <a:stretch/>
        </p:blipFill>
        <p:spPr>
          <a:xfrm>
            <a:off x="0" y="0"/>
            <a:ext cx="9059760" cy="63565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4"/>
          <p:cNvSpPr/>
          <p:nvPr/>
        </p:nvSpPr>
        <p:spPr>
          <a:xfrm>
            <a:off x="2843280" y="1125360"/>
            <a:ext cx="66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们需要氧气瓶才能呼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但他们不是在做手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rcRect l="0" t="0" r="1256" b="5998"/>
          <a:stretch/>
        </p:blipFill>
        <p:spPr>
          <a:xfrm>
            <a:off x="108000" y="477720"/>
            <a:ext cx="8972640" cy="51372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611280" y="530064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天路的开拓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一条穿越高寒缺氧及连续性永久冻土地区的铁路"/>
          <p:cNvPicPr/>
          <p:nvPr/>
        </p:nvPicPr>
        <p:blipFill>
          <a:blip r:embed="rId1"/>
          <a:srcRect l="0" t="0" r="2086" b="17444"/>
          <a:stretch/>
        </p:blipFill>
        <p:spPr>
          <a:xfrm>
            <a:off x="108000" y="44280"/>
            <a:ext cx="8953560" cy="56628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179280" y="5661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条穿越高寒缺氧及连续性永久冻土地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3732480" y="692280"/>
            <a:ext cx="377424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海拔最高的火车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唐古拉车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42920" y="0"/>
            <a:ext cx="76327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最长的高原冻土铁路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清水河特大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-85680" y="0"/>
            <a:ext cx="92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创作背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的春天，青藏铁路正在紧张的建设中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创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进新时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闻名全国的北京著名曲作家印青和另外一位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家屈塬，来到青藏铁路施工现场采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火热的土地上，在藏族同胞的家里，两位词曲作家在对铁路工人和藏族群众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采访中发现：只要一谈起青藏铁路，人们都非常激动，他们把青藏铁路形象地称为“天路”，而不叫铁路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位叫拉姆的藏族老阿妈激动地对两位词曲作家说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青藏铁路是共产党为我们藏族人民修的天路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少年来，我们西藏人民就一直渴望能有一条通往远方的路，这条路可以带我们走出贫穷，走出落后，走向富裕，走向北京。”老阿妈的一席话，让两位词曲作家的心情非常激动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几天之后，经过几十次的反复修改，一首专门歌颂青藏铁路的歌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诞生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187280" y="40464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海拔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600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多米、全长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．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公里的号称青藏铁路第一长桥的清水河特大桥飞架于昆仑雪山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883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87280" y="39564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青藏铁路第一长桥</a:t>
            </a:r>
            <a:r>
              <a:rPr b="1" lang="en-US" sz="4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--</a:t>
            </a:r>
            <a:r>
              <a:rPr b="1" lang="zh-CN" sz="4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清水河特大桥飞架于昆仑雪山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從昆侖山北緣的納赤臺上行15公里，一座雄偉的大橋拔地而起，像巨人的雙臂托起飛馳而來的列車。這座大橋就是青藏鐵路沿線最高的大橋——三岔河大橋。中新社發 吳芒子 攝"/>
          <p:cNvPicPr/>
          <p:nvPr/>
        </p:nvPicPr>
        <p:blipFill>
          <a:blip r:embed="rId1"/>
          <a:srcRect l="0" t="0" r="2026" b="17829"/>
          <a:stretch/>
        </p:blipFill>
        <p:spPr>
          <a:xfrm>
            <a:off x="396720" y="260280"/>
            <a:ext cx="8466120" cy="53197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715400" y="6165360"/>
            <a:ext cx="54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青藏鐵路沿線最高的大橋——三岔河大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rcRect l="0" t="0" r="2774" b="13690"/>
          <a:stretch/>
        </p:blipFill>
        <p:spPr>
          <a:xfrm>
            <a:off x="34920" y="620640"/>
            <a:ext cx="8889840" cy="52261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262160" y="54864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长江源头</a:t>
            </a: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-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沱沱河车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長江源頭——沱沱河，發源於唐古拉山脈主峰各拉丹冬雪山西南側的冰川中。中新社發 吳芒子 攝"/>
          <p:cNvPicPr/>
          <p:nvPr/>
        </p:nvPicPr>
        <p:blipFill>
          <a:blip r:embed="rId1"/>
          <a:srcRect l="0" t="0" r="1663" b="23513"/>
          <a:stretch/>
        </p:blipFill>
        <p:spPr>
          <a:xfrm>
            <a:off x="108000" y="117360"/>
            <a:ext cx="8991720" cy="5256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52360" y="5301000"/>
            <a:ext cx="8783640" cy="764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巨龙飞驾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長江源頭——沱沱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-3636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长江源头第一桥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13800" cy="5949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403280" y="40464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冻土里程最长的高原铁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046240" y="357840"/>
            <a:ext cx="12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路第一桥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0123f37951506104d0002"/>
          <p:cNvPicPr/>
          <p:nvPr/>
        </p:nvPicPr>
        <p:blipFill>
          <a:blip r:embed="rId1"/>
          <a:stretch/>
        </p:blipFill>
        <p:spPr>
          <a:xfrm>
            <a:off x="-108000" y="260280"/>
            <a:ext cx="9272520" cy="612144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4"/>
          <p:cNvSpPr/>
          <p:nvPr/>
        </p:nvSpPr>
        <p:spPr>
          <a:xfrm>
            <a:off x="611280" y="48117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</a:t>
            </a:r>
            <a:r>
              <a:rPr b="1" lang="zh-TW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TW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日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1</a:t>
            </a:r>
            <a:r>
              <a:rPr b="1" lang="zh-TW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时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0</a:t>
            </a:r>
            <a:r>
              <a:rPr b="1" lang="zh-TW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许，由拉萨发出的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TW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藏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”</a:t>
            </a:r>
            <a:r>
              <a:rPr b="1" lang="zh-TW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庆典列车通过拉萨河特大桥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250920" y="476280"/>
            <a:ext cx="864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设者在这样的困难面前创造了哪些奇迹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79280" y="189000"/>
            <a:ext cx="915372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c0000"/>
                </a:solidFill>
                <a:latin typeface="Times New Roman"/>
                <a:ea typeface="宋体"/>
              </a:rPr>
              <a:t>青 藏 铁 路 的 世 界 之 最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1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世界海拔最高的高原铁路：铁路穿越海拔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4000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米以上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段达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960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公里，最高点为海拔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5072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米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2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世界最长的高原铁路：青藏铁路格尔木至拉萨段，全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总里程达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1142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公里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3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世界上穿越冻土里程最长的高原铁路：铁路穿越多年连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续冻土里程达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550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公里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4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海拔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5068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米的唐古拉山车站，是世界海拔最高的铁路车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站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5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海拔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4905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米的风火山隧道，是世界海拔最高的冻土隧道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6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全长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1686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米的昆仑山隧道，是世界最长的高原冻土隧道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7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海拔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4704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米的安多铺架基地，是世界海拔最高的铺架基地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8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.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全长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11.7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公里的清水河特大桥，是世界最长的高原冻土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r>
              <a:rPr b="0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路桥</a:t>
            </a:r>
            <a:r>
              <a:rPr b="0" lang="zh-CN" sz="2600" spc="-1" strike="noStrike">
                <a:solidFill>
                  <a:srgbClr val="663300"/>
                </a:solidFill>
                <a:latin typeface="Times New Roman"/>
                <a:ea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citic"/>
          <p:cNvPicPr/>
          <p:nvPr/>
        </p:nvPicPr>
        <p:blipFill>
          <a:blip r:embed="rId1"/>
          <a:stretch/>
        </p:blipFill>
        <p:spPr>
          <a:xfrm>
            <a:off x="0" y="0"/>
            <a:ext cx="9277200" cy="6959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2"/>
          <p:cNvSpPr/>
          <p:nvPr/>
        </p:nvSpPr>
        <p:spPr>
          <a:xfrm>
            <a:off x="1116000" y="190440"/>
            <a:ext cx="6588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清晨我站在青青的牧场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到神鹰披着那霞光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一片祥云飞过蓝天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藏家儿女带来吉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2296080" y="371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描写了青藏高原哪些自然景观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d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2983680" y="26028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昏我站在高高的山冈</a:t>
            </a:r>
            <a:br>
              <a:rPr sz="4800"/>
            </a:b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盼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铁路修到我家乡</a:t>
            </a:r>
            <a:br>
              <a:rPr sz="4800"/>
            </a:b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一条条巨龙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山越岭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雪域高原送来安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604880" y="3789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节和第一节相对应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zh-CN" sz="3600" spc="-1" strike="noStrike">
                <a:solidFill>
                  <a:srgbClr val="ff9966"/>
                </a:solidFill>
                <a:latin typeface="Times New Roman"/>
                <a:ea typeface="宋体"/>
              </a:rPr>
              <a:t>黄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zh-CN" sz="3600" spc="-1" strike="noStrike">
                <a:solidFill>
                  <a:srgbClr val="ff9966"/>
                </a:solidFill>
                <a:latin typeface="Times New Roman"/>
                <a:ea typeface="宋体"/>
              </a:rPr>
              <a:t>清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还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4"/>
          <p:cNvSpPr/>
          <p:nvPr/>
        </p:nvSpPr>
        <p:spPr>
          <a:xfrm flipH="1" flipV="1">
            <a:off x="1476000" y="1341360"/>
            <a:ext cx="43164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383400" y="620640"/>
            <a:ext cx="12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藏族人民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铁路的期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"/>
          <p:cNvSpPr/>
          <p:nvPr/>
        </p:nvSpPr>
        <p:spPr>
          <a:xfrm flipH="1" flipV="1">
            <a:off x="1547280" y="1989000"/>
            <a:ext cx="50508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424080" y="1701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铁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作巨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2"/>
          <p:cNvSpPr txBox="1"/>
          <p:nvPr/>
        </p:nvSpPr>
        <p:spPr>
          <a:xfrm>
            <a:off x="900000" y="5935680"/>
            <a:ext cx="39592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一条条巨龙</a:t>
            </a:r>
            <a:endParaRPr b="1" lang="en-US" sz="60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d5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084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一条</a:t>
            </a:r>
            <a:r>
              <a:rPr b="1" lang="zh-CN" sz="40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神奇的天路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人间的温暖送到边疆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山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路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漫长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族儿女欢聚一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"/>
          <p:cNvSpPr/>
          <p:nvPr/>
        </p:nvSpPr>
        <p:spPr>
          <a:xfrm>
            <a:off x="6156360" y="909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674604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指青藏铁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619272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黄昏我站在高高的山冈</a:t>
            </a:r>
            <a:br>
              <a:rPr sz="4000"/>
            </a:br>
            <a:r>
              <a:rPr b="1" lang="zh-CN" sz="4400" spc="-1" strike="noStrike">
                <a:solidFill>
                  <a:srgbClr val="800000"/>
                </a:solidFill>
                <a:latin typeface="华文楷体"/>
                <a:ea typeface="华文楷体"/>
              </a:rPr>
              <a:t>看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铁路修到我家乡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条条巨龙翻山越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雪域高原送来安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6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为什么称青藏铁路为神奇的天路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6880" y="1917360"/>
            <a:ext cx="7929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青藏铁路是世界上海拔最高、线路最长的高原铁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39640" y="3500280"/>
            <a:ext cx="7920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它犹如一条巨龙，穿崇山峻岭，越草原戈壁，过盐湖沼泽，奔腾在莽莽的“世界屋脊”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611280" y="260280"/>
            <a:ext cx="792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意义和作用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539640" y="2133720"/>
            <a:ext cx="828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彻底解决了人员 和物资“进藏难”“出藏难”的问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611280" y="393372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力地促进藏族人民与各族人民的交流和友谊，促进西藏的经济繁荣和社会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44280"/>
            <a:ext cx="9144000" cy="73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写出下列词语的近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清晨（          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盼望（         ）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神奇（           ）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吉祥（           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18669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能力提升</a:t>
            </a:r>
            <a:endParaRPr b="1" lang="en-US" sz="24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8" name=""/>
          <p:cNvSpPr/>
          <p:nvPr/>
        </p:nvSpPr>
        <p:spPr>
          <a:xfrm>
            <a:off x="255600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早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240" y="3284640"/>
            <a:ext cx="131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渴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56000" y="4292640"/>
            <a:ext cx="23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奇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11280" y="537372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吉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79280" y="0"/>
            <a:ext cx="18669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能力提升</a:t>
            </a:r>
            <a:endParaRPr b="1" lang="en-US" sz="24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2682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说说，应用了什么说明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列数字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作比较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打比方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举例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青藏铁路东起青海西宁，西至西藏拉萨，全长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195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它犹如一条巨龙，穿崇山峻岭，越草原戈壁，过盐湖沼泽，奔腾在莽莽的“世界屋脊”。（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设计者们和施工队们，以大无畏的英雄气概挑战困难，以脚踏实地、开拓进取的精神克服困难，创造了许多世界之最：最高最长的高原冻土隧道——风火山隧道、海拔最高的火车站——唐古拉车站、最长的高原冻土铁路桥——清水河特大桥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6280" y="2492280"/>
            <a:ext cx="9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列数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4624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打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49160" y="602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举例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6"/>
          <p:cNvSpPr/>
          <p:nvPr/>
        </p:nvSpPr>
        <p:spPr>
          <a:xfrm>
            <a:off x="611280" y="2205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团结路    发展路    幸福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韩红 - 天路.mp3" descr=""/>
          <p:cNvPicPr/>
          <p:nvPr/>
        </p:nvPicPr>
        <p:blipFill>
          <a:blip r:embed="rId2"/>
          <a:stretch/>
        </p:blipFill>
        <p:spPr>
          <a:xfrm>
            <a:off x="7956720" y="558972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26305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3348000" y="1052640"/>
            <a:ext cx="1219320" cy="1212840"/>
            <a:chOff x="3348000" y="1052640"/>
            <a:chExt cx="1219320" cy="1212840"/>
          </a:xfrm>
        </p:grpSpPr>
        <p:pic>
          <p:nvPicPr>
            <p:cNvPr id="421" name="Picture 3" descr="田字格"/>
            <p:cNvPicPr/>
            <p:nvPr/>
          </p:nvPicPr>
          <p:blipFill>
            <a:blip r:embed="rId1"/>
            <a:stretch/>
          </p:blipFill>
          <p:spPr>
            <a:xfrm>
              <a:off x="3348000" y="1052640"/>
              <a:ext cx="1219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4"/>
            <p:cNvSpPr/>
            <p:nvPr/>
          </p:nvSpPr>
          <p:spPr>
            <a:xfrm>
              <a:off x="3424320" y="105264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岭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932360" y="1052640"/>
            <a:ext cx="1219320" cy="1212840"/>
            <a:chOff x="4932360" y="1052640"/>
            <a:chExt cx="1219320" cy="1212840"/>
          </a:xfrm>
        </p:grpSpPr>
        <p:pic>
          <p:nvPicPr>
            <p:cNvPr id="424" name="Picture 6" descr="田字格"/>
            <p:cNvPicPr/>
            <p:nvPr/>
          </p:nvPicPr>
          <p:blipFill>
            <a:blip r:embed="rId2"/>
            <a:stretch/>
          </p:blipFill>
          <p:spPr>
            <a:xfrm>
              <a:off x="4932360" y="1052640"/>
              <a:ext cx="1219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7"/>
            <p:cNvSpPr/>
            <p:nvPr/>
          </p:nvSpPr>
          <p:spPr>
            <a:xfrm>
              <a:off x="5008680" y="1052640"/>
              <a:ext cx="106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盐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588000" y="981000"/>
            <a:ext cx="1219320" cy="1312920"/>
            <a:chOff x="6588000" y="981000"/>
            <a:chExt cx="1219320" cy="1312920"/>
          </a:xfrm>
        </p:grpSpPr>
        <p:pic>
          <p:nvPicPr>
            <p:cNvPr id="427" name="Picture 9" descr="田字格"/>
            <p:cNvPicPr/>
            <p:nvPr/>
          </p:nvPicPr>
          <p:blipFill>
            <a:blip r:embed="rId3"/>
            <a:stretch/>
          </p:blipFill>
          <p:spPr>
            <a:xfrm>
              <a:off x="6588000" y="1057320"/>
              <a:ext cx="1219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10"/>
            <p:cNvSpPr/>
            <p:nvPr/>
          </p:nvSpPr>
          <p:spPr>
            <a:xfrm>
              <a:off x="6588000" y="98100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泽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547640" y="4005360"/>
            <a:ext cx="1295280" cy="1212840"/>
            <a:chOff x="1547640" y="4005360"/>
            <a:chExt cx="1295280" cy="1212840"/>
          </a:xfrm>
        </p:grpSpPr>
        <p:pic>
          <p:nvPicPr>
            <p:cNvPr id="430" name="Picture 12" descr="田字格"/>
            <p:cNvPicPr/>
            <p:nvPr/>
          </p:nvPicPr>
          <p:blipFill>
            <a:blip r:embed="rId4"/>
            <a:stretch/>
          </p:blipFill>
          <p:spPr>
            <a:xfrm>
              <a:off x="1547640" y="4005360"/>
              <a:ext cx="1219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13"/>
            <p:cNvSpPr/>
            <p:nvPr/>
          </p:nvSpPr>
          <p:spPr>
            <a:xfrm>
              <a:off x="1623960" y="400536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宜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132000" y="4005360"/>
            <a:ext cx="1219320" cy="1212840"/>
            <a:chOff x="3132000" y="4005360"/>
            <a:chExt cx="1219320" cy="1212840"/>
          </a:xfrm>
        </p:grpSpPr>
        <p:pic>
          <p:nvPicPr>
            <p:cNvPr id="433" name="Picture 15" descr="田字格"/>
            <p:cNvPicPr/>
            <p:nvPr/>
          </p:nvPicPr>
          <p:blipFill>
            <a:blip r:embed="rId5"/>
            <a:stretch/>
          </p:blipFill>
          <p:spPr>
            <a:xfrm>
              <a:off x="3132000" y="4005360"/>
              <a:ext cx="1219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16"/>
            <p:cNvSpPr/>
            <p:nvPr/>
          </p:nvSpPr>
          <p:spPr>
            <a:xfrm>
              <a:off x="3208320" y="400536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碍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45080" y="4005360"/>
            <a:ext cx="1219320" cy="1218960"/>
            <a:chOff x="4645080" y="4005360"/>
            <a:chExt cx="1219320" cy="1218960"/>
          </a:xfrm>
        </p:grpSpPr>
        <p:pic>
          <p:nvPicPr>
            <p:cNvPr id="436" name="Picture 18" descr="田字格"/>
            <p:cNvPicPr/>
            <p:nvPr/>
          </p:nvPicPr>
          <p:blipFill>
            <a:blip r:embed="rId6"/>
            <a:stretch/>
          </p:blipFill>
          <p:spPr>
            <a:xfrm>
              <a:off x="4645080" y="400536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19"/>
            <p:cNvSpPr/>
            <p:nvPr/>
          </p:nvSpPr>
          <p:spPr>
            <a:xfrm>
              <a:off x="4721400" y="4005360"/>
              <a:ext cx="106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彻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Text Box 20"/>
          <p:cNvSpPr/>
          <p:nvPr/>
        </p:nvSpPr>
        <p:spPr>
          <a:xfrm>
            <a:off x="3276720" y="26028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  <a:ea typeface="宋体"/>
              </a:rPr>
              <a:t>lǐ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932360" y="3333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  <a:ea typeface="宋体"/>
              </a:rPr>
              <a:t>yá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6732720" y="333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  <a:ea typeface="宋体"/>
              </a:rPr>
              <a:t>z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619280" y="33577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  <a:ea typeface="宋体"/>
              </a:rPr>
              <a:t>y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3276720" y="32860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  <a:ea typeface="宋体"/>
              </a:rPr>
              <a:t>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4788000" y="32130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  <a:ea typeface="宋体"/>
              </a:rPr>
              <a:t>ch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-618840" y="2708280"/>
            <a:ext cx="164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会读会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27" descr="Gif0405_007"/>
          <p:cNvPicPr/>
          <p:nvPr/>
        </p:nvPicPr>
        <p:blipFill>
          <a:blip r:embed="rId7"/>
          <a:stretch/>
        </p:blipFill>
        <p:spPr>
          <a:xfrm>
            <a:off x="108000" y="260280"/>
            <a:ext cx="914400" cy="108576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1763640" y="1052640"/>
            <a:ext cx="1262160" cy="1218960"/>
            <a:chOff x="1763640" y="1052640"/>
            <a:chExt cx="1262160" cy="1218960"/>
          </a:xfrm>
        </p:grpSpPr>
        <p:pic>
          <p:nvPicPr>
            <p:cNvPr id="447" name="Picture 29" descr="田字格"/>
            <p:cNvPicPr/>
            <p:nvPr/>
          </p:nvPicPr>
          <p:blipFill>
            <a:blip r:embed="rId8"/>
            <a:stretch/>
          </p:blipFill>
          <p:spPr>
            <a:xfrm>
              <a:off x="1763640" y="1052640"/>
              <a:ext cx="12621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30"/>
            <p:cNvSpPr/>
            <p:nvPr/>
          </p:nvSpPr>
          <p:spPr>
            <a:xfrm>
              <a:off x="1839960" y="105264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漫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Text Box 31"/>
          <p:cNvSpPr/>
          <p:nvPr/>
        </p:nvSpPr>
        <p:spPr>
          <a:xfrm>
            <a:off x="1763640" y="333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宋体"/>
                <a:ea typeface="宋体"/>
              </a:rPr>
              <a:t>m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2"/>
          <p:cNvSpPr/>
          <p:nvPr/>
        </p:nvSpPr>
        <p:spPr>
          <a:xfrm>
            <a:off x="1761480" y="22766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漫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漫无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3"/>
          <p:cNvSpPr/>
          <p:nvPr/>
        </p:nvSpPr>
        <p:spPr>
          <a:xfrm>
            <a:off x="3487320" y="2349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山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秦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4"/>
          <p:cNvSpPr/>
          <p:nvPr/>
        </p:nvSpPr>
        <p:spPr>
          <a:xfrm>
            <a:off x="4932360" y="227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海盐盐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5"/>
          <p:cNvSpPr/>
          <p:nvPr/>
        </p:nvSpPr>
        <p:spPr>
          <a:xfrm>
            <a:off x="6661080" y="227664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润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恩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1835280" y="5229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适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便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7"/>
          <p:cNvSpPr/>
          <p:nvPr/>
        </p:nvSpPr>
        <p:spPr>
          <a:xfrm>
            <a:off x="4859640" y="5229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贯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透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8"/>
          <p:cNvSpPr/>
          <p:nvPr/>
        </p:nvSpPr>
        <p:spPr>
          <a:xfrm>
            <a:off x="3347640" y="5229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妨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阻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84360" y="765000"/>
            <a:ext cx="8065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4"/>
                </a:solidFill>
                <a:latin typeface="楷体_GB2312"/>
                <a:ea typeface="楷体_GB2312"/>
              </a:rPr>
              <a:t>霞光  吉祥   翻山越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4"/>
                </a:solidFill>
                <a:latin typeface="楷体_GB2312"/>
                <a:ea typeface="楷体_GB2312"/>
              </a:rPr>
              <a:t>安康  神奇   欢聚一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4"/>
                </a:solidFill>
                <a:latin typeface="楷体_GB2312"/>
                <a:ea typeface="楷体_GB2312"/>
              </a:rPr>
              <a:t>沼泽  阻碍   雪域高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4"/>
                </a:solidFill>
                <a:latin typeface="楷体_GB2312"/>
                <a:ea typeface="楷体_GB2312"/>
              </a:rPr>
              <a:t>脆弱  奔赴   开拓进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4"/>
                </a:solidFill>
                <a:latin typeface="楷体_GB2312"/>
                <a:ea typeface="楷体_GB2312"/>
              </a:rPr>
              <a:t>彻底  迁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徙</a:t>
            </a:r>
            <a:r>
              <a:rPr b="1" lang="zh-CN" sz="4400" spc="-1" strike="noStrike">
                <a:solidFill>
                  <a:srgbClr val="0000d4"/>
                </a:solidFill>
                <a:latin typeface="楷体_GB2312"/>
                <a:ea typeface="楷体_GB2312"/>
              </a:rPr>
              <a:t>   脚踏实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79280" y="1268280"/>
            <a:ext cx="8964720" cy="89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漫（        ）  择（  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慢（        ）  泽（  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沏（        ）  充（   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彻（         ） 崇（        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32004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一比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组词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.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2" name=""/>
          <p:cNvSpPr/>
          <p:nvPr/>
        </p:nvSpPr>
        <p:spPr>
          <a:xfrm>
            <a:off x="2359080" y="1844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漫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19840" y="1871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抉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14360" y="2781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快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19840" y="2735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沼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63640" y="378936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沏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96000" y="38606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充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8000" y="472608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彻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64200" y="4751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崇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79280" y="1268280"/>
            <a:ext cx="896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（      ）的天路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（       ）的铁路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（      ）的困难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d4"/>
                </a:solidFill>
                <a:latin typeface="Times New Roman"/>
                <a:ea typeface="仿宋_GB2312"/>
              </a:rPr>
              <a:t>（       ）的经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79280" y="0"/>
            <a:ext cx="13716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填一填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3" name=""/>
          <p:cNvSpPr/>
          <p:nvPr/>
        </p:nvSpPr>
        <p:spPr>
          <a:xfrm>
            <a:off x="1133280" y="1989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神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95480" y="2806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长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30760" y="3716280"/>
            <a:ext cx="122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巨大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23840" y="4606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繁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2349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什么称青藏铁路为神奇的天路呢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52360" y="260280"/>
            <a:ext cx="8701200" cy="652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21:12:43Z</dcterms:created>
  <dc:creator>Administrator</dc:creator>
  <dc:description/>
  <dc:language>en-US</dc:language>
  <cp:lastModifiedBy/>
  <dcterms:modified xsi:type="dcterms:W3CDTF">2015-08-11T03:32:4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_TemplateID">
    <vt:lpwstr>TC011408002052</vt:lpwstr>
  </property>
</Properties>
</file>