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jpeg" ContentType="image/jpe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70E-6E51-47EB-A86D-8E36CDBD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82D-9532-4E65-A3AD-3952185D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F8D-D739-4BA6-9F6F-A318AE94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75F-E93E-4B7F-AFBD-55D60A3B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5AC9-5A67-4FCC-A0A3-940D6646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0485-8825-4126-8E46-4F8AD25C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660D-C4CB-443D-834A-9D494391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3893-BE1D-4D2F-8785-F431CDED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DC6F-BC82-44D3-8CCB-6CE1C723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047B-97DE-4A61-9BB6-900546F8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BB83-B2B0-437A-A405-7FB2CE7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E48-3ED4-4B64-8087-160F786A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346D-5EFD-4FCD-A8F9-F59694A0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E8F3-CADF-41C7-B614-79D4A9A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AA38-BFBD-47AD-8A17-68245E17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9B4-8ECD-44C1-B702-B4275C4A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D2AD-B0D0-4B27-A6A7-2E9242DD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C56-FD6C-4580-9624-5E66280A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731-9DAC-4EB5-94B1-8AA11FCB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84B-9059-4E25-83C8-58BD3723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E3A-F869-491F-8FAB-3A99F98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E50-47C7-4234-89CC-017E21A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A46-3971-4AB5-A7DE-70DB958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D99-352D-4DF6-97EC-B604D283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3505-54F8-48F0-8620-C4EFCAB23F0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45120"/>
            <a:ext cx="169236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15EE-6C09-424E-856F-E2E45D1F707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636720" cy="2922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20949000">
            <a:off x="2195280" y="981000"/>
            <a:ext cx="4319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875b0d">
                      <a:alpha val="50000"/>
                    </a:srgbClr>
                  </a:outerShdw>
                </a:effectLst>
                <a:latin typeface="宋体"/>
              </a:rPr>
              <a:t>挑山工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8100000" blurRad="0" rotWithShape="0">
                  <a:srgbClr val="875b0d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45370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心悦诚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地点着头，感到这山民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几句朴素的话似乎包蕴着意味深长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哲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142092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心悦诚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地点着头，感到这山民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几句朴素的话似乎包蕴着意味深长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哲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142092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76471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们哪里有近道，还不和你们是一条道？你们是走得快，可是你们在路上东看西看，玩玩闹闹，总停下来呗！我们跟你们不一样，不像你们那么随便，高兴怎么就怎么。一步踩不实不行，停停住住更不行。那样，两天也到不了山顶，就得一个劲儿往前走。别看我们慢，走长了就跑到你们前边去了。你看，是不是这个理儿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659640" y="4941720"/>
            <a:ext cx="142056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76471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们哪里有近道，还不和你们是一条道？你们是走得快，可是你们在路上东看西看，玩玩闹闹，总停下来呗！我们跟你们不一样，不像你们那么随便，高兴怎么就怎么。必须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脚踏实地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半途而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更不行。那样，两天也到不了山顶，就得一个劲儿往前走。别看我们慢，走长了就跑到你们前边去了。你看，是不是这个理儿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659640" y="4941720"/>
            <a:ext cx="142056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76471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们哪里有近道，还不和你们是一条道？你们是走得快，可是你们在路上东看西看，玩玩闹闹，总停下来呗！我们跟你们不一样，不像你们那么随便，高兴怎么就怎么。一步踩不实不行，停停住住更不行。那样，两天也到不了山顶，就得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朝着目标坚持不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别看我们慢，走长了就跑到你们前边去了。你看，是不是这个理儿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59640" y="4941720"/>
            <a:ext cx="142056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836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我们哪里有近道，还不和你们是一条道？你们是走得快，可是你们在路上东看西看，玩玩闹闹，总停下来呗！我们跟你们不一样，不像你们那么随便，高兴怎么就怎么。一步踩不实不行，停停住住更不行。那样，两天也到不了山顶，就得一个劲儿往前走。别看我们慢，走长了就跑到你们前边去了。你看，是不是这个理儿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867280" y="5805360"/>
            <a:ext cx="1297080" cy="750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948360" y="5445000"/>
            <a:ext cx="1420920" cy="822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900000" y="404640"/>
            <a:ext cx="1420920" cy="720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68360" y="4076640"/>
            <a:ext cx="56167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465300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724280"/>
            <a:ext cx="1584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300640"/>
            <a:ext cx="21589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28720" y="907920"/>
            <a:ext cx="7007040" cy="5257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124000" y="4076640"/>
            <a:ext cx="9525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步踩不实不行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停停住住更不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2492280"/>
            <a:ext cx="9601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挑山工不像游人那样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也不像游人那样，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更不像游人那样，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。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宋体"/>
              </a:rPr>
              <a:t>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835280" y="836640"/>
            <a:ext cx="10285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3120" y="450720"/>
            <a:ext cx="476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奇怪的是（               ）并不比游人慢。你轻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地从（            ），以为把他们（         ）。你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什么地方（         ），或者在道边（          ）古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的题句，或者在（        ）洗脸洗手，他们就会（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）地在你身旁（         ），悄悄走到你的前头去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等你发现，你会大吃一惊，以为他们是像（            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赶上来的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72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06" name="Picture 4" descr="004挑山工b"/>
          <p:cNvPicPr/>
          <p:nvPr/>
        </p:nvPicPr>
        <p:blipFill>
          <a:blip r:embed="rId2"/>
          <a:stretch/>
        </p:blipFill>
        <p:spPr>
          <a:xfrm>
            <a:off x="396720" y="117360"/>
            <a:ext cx="7920360" cy="4365720"/>
          </a:xfrm>
          <a:prstGeom prst="rect">
            <a:avLst/>
          </a:prstGeom>
          <a:ln w="0">
            <a:noFill/>
          </a:ln>
        </p:spPr>
      </p:pic>
      <p:sp>
        <p:nvSpPr>
          <p:cNvPr id="207" name="矩形 5"/>
          <p:cNvSpPr/>
          <p:nvPr/>
        </p:nvSpPr>
        <p:spPr>
          <a:xfrm>
            <a:off x="755640" y="4508640"/>
            <a:ext cx="7848720" cy="13737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这幅画一直挂在我的书桌前，多年来不曾换掉，因为我需要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它”不仅指（     ），还指（             ）， 作者需要“它”是用来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（                     ）。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理解课文内容，学习挑山工一心向着目标，脚踏实地，坚持不懈的精神。　　　   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理解词语，体会含义深刻的句子。　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感情地朗读课文，写批注笔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446724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37120" y="1628640"/>
            <a:ext cx="3640320" cy="410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8163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2376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华文新魏"/>
              </a:rPr>
              <a:t>挑山工登一次山，走的路程大约比游人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华文新魏"/>
              </a:rPr>
              <a:t>多一倍。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508720" y="765000"/>
            <a:ext cx="266544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3348000" y="1844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348000" y="2060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3348000" y="2276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3348000" y="249228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3348000" y="270828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3348000" y="292428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3348000" y="314172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3348000" y="335772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3348000" y="3573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48000" y="3789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348000" y="4005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348000" y="4221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3348000" y="4437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3348000" y="4653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3348000" y="4869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 flipV="1">
            <a:off x="3348000" y="4581000"/>
            <a:ext cx="4176720" cy="1584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 flipH="1" flipV="1">
            <a:off x="3419280" y="2997360"/>
            <a:ext cx="4105080" cy="1584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V="1">
            <a:off x="3348000" y="1557360"/>
            <a:ext cx="4176720" cy="1440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>
            <a:off x="3348000" y="1197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>
            <a:off x="3348000" y="616572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Line 59"/>
          <p:cNvSpPr/>
          <p:nvPr/>
        </p:nvSpPr>
        <p:spPr>
          <a:xfrm>
            <a:off x="3348000" y="595008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Line 60"/>
          <p:cNvSpPr/>
          <p:nvPr/>
        </p:nvSpPr>
        <p:spPr>
          <a:xfrm>
            <a:off x="3348000" y="573408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Line 61"/>
          <p:cNvSpPr/>
          <p:nvPr/>
        </p:nvSpPr>
        <p:spPr>
          <a:xfrm>
            <a:off x="3348000" y="5516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Line 62"/>
          <p:cNvSpPr/>
          <p:nvPr/>
        </p:nvSpPr>
        <p:spPr>
          <a:xfrm>
            <a:off x="3348000" y="5300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Line 63"/>
          <p:cNvSpPr/>
          <p:nvPr/>
        </p:nvSpPr>
        <p:spPr>
          <a:xfrm>
            <a:off x="3348000" y="5084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Line 64"/>
          <p:cNvSpPr/>
          <p:nvPr/>
        </p:nvSpPr>
        <p:spPr>
          <a:xfrm>
            <a:off x="3348000" y="1413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Line 65"/>
          <p:cNvSpPr/>
          <p:nvPr/>
        </p:nvSpPr>
        <p:spPr>
          <a:xfrm>
            <a:off x="3348000" y="1628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71640" y="4941720"/>
            <a:ext cx="1420560" cy="1182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5219640" y="1197000"/>
            <a:ext cx="0" cy="4968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6237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游人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6165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挑山工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227640" y="1196640"/>
            <a:ext cx="1224000" cy="360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508720" y="765000"/>
            <a:ext cx="266544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1042920" y="1557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1042920" y="1773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042920" y="1989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1042920" y="2205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1042920" y="2421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1042920" y="2637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1042920" y="2852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1042920" y="3068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1042920" y="328464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042920" y="350028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1042920" y="371628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1042920" y="393372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1042920" y="414972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1042920" y="436572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042920" y="4581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1042920" y="4292280"/>
            <a:ext cx="4176720" cy="1584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 flipV="1">
            <a:off x="1042920" y="3141360"/>
            <a:ext cx="4105440" cy="115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V="1">
            <a:off x="1116000" y="1628280"/>
            <a:ext cx="4103640" cy="1513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1042920" y="90792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Line 58"/>
          <p:cNvSpPr/>
          <p:nvPr/>
        </p:nvSpPr>
        <p:spPr>
          <a:xfrm>
            <a:off x="1042920" y="5877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Line 59"/>
          <p:cNvSpPr/>
          <p:nvPr/>
        </p:nvSpPr>
        <p:spPr>
          <a:xfrm>
            <a:off x="1042920" y="5661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Line 60"/>
          <p:cNvSpPr/>
          <p:nvPr/>
        </p:nvSpPr>
        <p:spPr>
          <a:xfrm>
            <a:off x="1042920" y="544500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1042920" y="5229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>
            <a:off x="1042920" y="5013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Line 63"/>
          <p:cNvSpPr/>
          <p:nvPr/>
        </p:nvSpPr>
        <p:spPr>
          <a:xfrm>
            <a:off x="1042920" y="4797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Line 64"/>
          <p:cNvSpPr/>
          <p:nvPr/>
        </p:nvSpPr>
        <p:spPr>
          <a:xfrm>
            <a:off x="1042920" y="1125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Line 65"/>
          <p:cNvSpPr/>
          <p:nvPr/>
        </p:nvSpPr>
        <p:spPr>
          <a:xfrm>
            <a:off x="1042920" y="1341360"/>
            <a:ext cx="4176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59280" y="907560"/>
            <a:ext cx="0" cy="496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59500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游人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59500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挑山工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850920" y="907920"/>
            <a:ext cx="1297080" cy="720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551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黑体"/>
              </a:rPr>
              <a:t>山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6920" y="39528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黑体"/>
              </a:rPr>
              <a:t>回马岭的山道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74760" y="2133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黑体"/>
              </a:rPr>
              <a:t>半山的五松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55680" y="6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黑体"/>
              </a:rPr>
              <a:t>极顶小卖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148428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奇怪的是挑山工的速度并不比游人慢。你轻轻地从他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身边越过，以为把他们甩在后边很远了。你在什么地方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览壮丽的山色，或者在道边诵读凿在石壁上的古人的题句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或者在喧闹的溪边洗手洗脸，他们就会不声不响地在你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旁慢吞吞走过，悄悄地走到你的前头去了。等你发现，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会大吃一惊，以为他们是像仙人那样腾云驾雾赶上来的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76471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们哪里有近道，还不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们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一条道？你们是走得快，可是你们在路上东看西看，玩玩闹闹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总停下来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呗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跟你们不一样，不像你们那么随便，高兴怎么就怎么。一步踩不实不行，停停住住更不行。那样，两天也到不了山顶，就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个劲儿往前走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别看我们慢，走长了就跑到你们前边去了。你看，是不是这个理儿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59640" y="4941720"/>
            <a:ext cx="142056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00800" y="612720"/>
            <a:ext cx="496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你在什么地方（              ），或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道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诵读凿在石壁上的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           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或者在（           ）洗脸洗手，他们就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         ）地在你身旁（       ）走过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悄悄地走到你的前头去了。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这是因为游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        ），挑山工却（            ）啊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1880" y="836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饱览壮丽的山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56240" y="1557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古人的题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71520" y="2276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喧闹的溪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240" y="299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不声不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65160" y="299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慢吞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2160" y="450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总停下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9720" y="4508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一个劲往前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50920" y="981000"/>
          <a:ext cx="8569080" cy="4824360"/>
        </p:xfrm>
        <a:graphic>
          <a:graphicData uri="http://schemas.openxmlformats.org/drawingml/2006/table">
            <a:tbl>
              <a:tblPr/>
              <a:tblGrid>
                <a:gridCol w="1714320"/>
                <a:gridCol w="1712880"/>
                <a:gridCol w="2943000"/>
                <a:gridCol w="698400"/>
                <a:gridCol w="150048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目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行走方式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负重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我的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感受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游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挑山工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273400" y="28065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华文行楷"/>
              </a:rPr>
              <a:t>游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7080" y="4559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华文行楷"/>
              </a:rPr>
              <a:t>送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30800" y="257796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走走停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玩玩闹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4365720"/>
            <a:ext cx="335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华文行楷"/>
              </a:rPr>
              <a:t>步步踩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华文行楷"/>
              </a:rPr>
              <a:t>一个劲儿往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852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轻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26280" y="44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1497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华文行楷"/>
              </a:rPr>
              <a:t>挑重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1:10:13Z</dcterms:created>
  <dc:creator>Administrator</dc:creator>
  <dc:description/>
  <dc:language>en-US</dc:language>
  <cp:lastModifiedBy/>
  <dcterms:modified xsi:type="dcterms:W3CDTF">2015-08-11T03:50:36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