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B15-D231-4CD0-A872-DD4AA90C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921-0348-43D4-9260-C323471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99D-9D2C-40C8-9ECD-E616E9EF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855-D48E-474D-8A48-3D1BF23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8BE-C9E4-4904-8DCD-E17C615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1A1-2D4D-4FF2-B081-FF9C795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225-5332-47A9-898F-D7AAC5EF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356-D480-444E-BC17-AE6116A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7FB-763C-4B6C-A84C-A9B9CFE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152-D766-4025-A0D1-D7078C4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2C7-6E24-4251-9FB9-D8C53B5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849-6E1E-43BB-B26E-6C3409E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86A-F2A1-4E61-A367-B1C6FB8CB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68360" y="2205000"/>
            <a:ext cx="55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方正古隶简体"/>
              </a:rPr>
              <a:t>跳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方正古隶简体"/>
              <a:ea typeface="方正古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哪些地方看出猴子非常放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猴子为什么会放肆起来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硬笔楷书简体"/>
                <a:ea typeface="方正硬笔楷书简体"/>
              </a:rPr>
              <a:t>（因为猴子知道大家拿它取乐，它做鬼脸，模仿人的样子。猴子摘下孩子的帽子、又撕又咬。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水手们又大笑起来，只有那个孩子哭笑不得，眼巴巴地望着猴子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“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哭笑不得”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为什么哭笑不得？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（猴子弄得孩子没有办法，由于猴子摘下孩子的帽子，水手们的哄笑，使孩子受到了羞辱，但又拿猴子没办法，只能哭笑不得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2349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是什么原因导致孩子爬到桅杆顶端，遇到了危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从哪些语句可以看出孩子很危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20640"/>
            <a:ext cx="896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默读课文</a:t>
            </a: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—6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自然段，完成以下任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2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80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为什么会走到桅杆顶端的横木上去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　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哪些地方可以看出孩子的处境十分危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只要一失足、直摔到甲板上就没命了。即使他走到横木头上拿到了帽子、也难以回转身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会不会失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为什么他拿到帽子也难以回转身来？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桅杆太高、太险。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当时甲板上的人有什么表现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有感情地朗读，体会当时事态的严重。　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8036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船长为什么要用枪瞄准孩子，命令他跳水？结果怎样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（这时，要救孩子，唯一的方法就是跳水了，退了不行，摔下来必然粉身碎骨。船长担心孩子不当机立断，所以一再提到“开枪”。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 rot="598800">
            <a:off x="5028480" y="1295280"/>
            <a:ext cx="2971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临危不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当机立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从容不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急中生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3951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zh-CN" sz="3600" spc="-1" strike="noStrike">
                <a:solidFill>
                  <a:srgbClr val="ff6600"/>
                </a:solidFill>
                <a:latin typeface="方正硬笔楷书简体"/>
                <a:ea typeface="方正硬笔楷书简体"/>
              </a:rPr>
              <a:t>讨论：</a:t>
            </a:r>
            <a:r>
              <a:rPr b="1" lang="zh-CN" sz="3600" spc="-1" strike="noStrike">
                <a:solidFill>
                  <a:srgbClr val="6600cc"/>
                </a:solidFill>
                <a:latin typeface="方正硬笔楷书简体"/>
                <a:ea typeface="方正硬笔楷书简体"/>
              </a:rPr>
              <a:t>船长是怎么做的？根据船长的做法，联想到他当时的想法？你们能想出更好的办法吗？用自己的话说说船长是怎样的一个人？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硬笔楷书简体"/>
              </a:rPr>
              <a:t>总结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同学们，孩子得救了。那孩子被救上来以后，船长、水手、孩子都会说些什么呢？大家可以想一想，说一说，也可以分小组演一演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2492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这危急时刻，你想用什么方法救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7650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小组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3224" b="9047"/>
          <a:stretch/>
        </p:blipFill>
        <p:spPr>
          <a:xfrm>
            <a:off x="179280" y="549360"/>
            <a:ext cx="4211640" cy="554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889080" cy="554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90792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学完课文后，你最佩服谁？佩服他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此时此刻，你想对孩子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学完课文后，你懂得了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60" y="549360"/>
            <a:ext cx="3348360" cy="518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8000" y="476280"/>
            <a:ext cx="4248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列夫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托尔斯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828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910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，俄国著名作家。主要作品有《战争与和平》《安娜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卡列妮娜》《复活》等长篇巨著。他的创作标志着欧洲批判现实主义文学的高峰，在俄国和世界文学史上占有重要地位，被列宁誉为“俄国革命的镜子”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9240" y="5731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自读课文，感知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00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读课文，自学生字、生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思考：课文描写了一件什么事？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边读边在书中勾画出课文中都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哪些角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课文讲了谁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他为什么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跳水的结果怎样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艘   桅杆    勾住    更凶了   逃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顶端   船舱    醒悟      放肆     控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吓唬    气急了    气极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哭笑不得       不知所措          风平浪静 摇摇晃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064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58920" y="88272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选择合适的量词填在括号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184464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艘 颗 顶 只 条 支 根 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492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帽子   一（ ）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横木   一（ ）甲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帆船   一（ ）炮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绳子   一（ ）步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637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500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30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365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52293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4365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565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500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6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按事情的顺序整理下面的几句话</a:t>
            </a:r>
            <a:r>
              <a:rPr b="0" lang="en-US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8900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孩子跳水得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人们拿猴子取乐，猴子更加放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孩子走上最高的横木，非常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猴子逗孩子，孩子追猴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219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5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779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60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1280" y="13413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197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720160" y="4437000"/>
            <a:ext cx="2725920" cy="810000"/>
            <a:chOff x="2720160" y="4437000"/>
            <a:chExt cx="2725920" cy="810000"/>
          </a:xfrm>
        </p:grpSpPr>
        <p:grpSp>
          <p:nvGrpSpPr>
            <p:cNvPr id="77" name=""/>
            <p:cNvGrpSpPr/>
            <p:nvPr/>
          </p:nvGrpSpPr>
          <p:grpSpPr>
            <a:xfrm>
              <a:off x="3394080" y="4437000"/>
              <a:ext cx="2052000" cy="810000"/>
              <a:chOff x="3394080" y="4437000"/>
              <a:chExt cx="2052000" cy="810000"/>
            </a:xfrm>
          </p:grpSpPr>
          <p:sp>
            <p:nvSpPr>
              <p:cNvPr id="78" name=""/>
              <p:cNvSpPr/>
              <p:nvPr/>
            </p:nvSpPr>
            <p:spPr>
              <a:xfrm>
                <a:off x="4777560" y="466560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水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3394080" y="49989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2680" y="44370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720160" y="4618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猴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4365720"/>
            <a:ext cx="1676160" cy="657720"/>
            <a:chOff x="755640" y="4365720"/>
            <a:chExt cx="1676160" cy="657720"/>
          </a:xfrm>
        </p:grpSpPr>
        <p:sp>
          <p:nvSpPr>
            <p:cNvPr id="83" name=""/>
            <p:cNvSpPr/>
            <p:nvPr/>
          </p:nvSpPr>
          <p:spPr>
            <a:xfrm flipH="1">
              <a:off x="1593360" y="4899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5480" y="4365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5640" y="4442040"/>
              <a:ext cx="102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孩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3492360" y="14126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19280" y="4941720"/>
            <a:ext cx="1523880" cy="725760"/>
            <a:chOff x="1619280" y="4941720"/>
            <a:chExt cx="1523880" cy="725760"/>
          </a:xfrm>
        </p:grpSpPr>
        <p:sp>
          <p:nvSpPr>
            <p:cNvPr id="88" name=""/>
            <p:cNvSpPr/>
            <p:nvPr/>
          </p:nvSpPr>
          <p:spPr>
            <a:xfrm>
              <a:off x="1695600" y="52466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619280" y="4941720"/>
              <a:ext cx="1101240" cy="725760"/>
              <a:chOff x="1619280" y="4941720"/>
              <a:chExt cx="1101240" cy="725760"/>
            </a:xfrm>
          </p:grpSpPr>
          <p:sp>
            <p:nvSpPr>
              <p:cNvPr id="90" name=""/>
              <p:cNvSpPr/>
              <p:nvPr/>
            </p:nvSpPr>
            <p:spPr>
              <a:xfrm>
                <a:off x="1619280" y="4941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96080" y="50860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780000" y="1268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孩子追到桅杆的顶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888520" y="4292280"/>
            <a:ext cx="1410120" cy="933840"/>
            <a:chOff x="5888520" y="4292280"/>
            <a:chExt cx="1410120" cy="933840"/>
          </a:xfrm>
        </p:grpSpPr>
        <p:grpSp>
          <p:nvGrpSpPr>
            <p:cNvPr id="94" name=""/>
            <p:cNvGrpSpPr/>
            <p:nvPr/>
          </p:nvGrpSpPr>
          <p:grpSpPr>
            <a:xfrm>
              <a:off x="5888520" y="4292280"/>
              <a:ext cx="826560" cy="933840"/>
              <a:chOff x="5888520" y="4292280"/>
              <a:chExt cx="826560" cy="933840"/>
            </a:xfrm>
          </p:grpSpPr>
          <p:sp>
            <p:nvSpPr>
              <p:cNvPr id="95" name=""/>
              <p:cNvSpPr/>
              <p:nvPr/>
            </p:nvSpPr>
            <p:spPr>
              <a:xfrm>
                <a:off x="5888520" y="464472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船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410160" y="4292280"/>
                <a:ext cx="3049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874200" y="4368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11480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343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32360" y="3860640"/>
            <a:ext cx="1143000" cy="914040"/>
            <a:chOff x="4932360" y="3860640"/>
            <a:chExt cx="1143000" cy="914040"/>
          </a:xfrm>
        </p:grpSpPr>
        <p:sp>
          <p:nvSpPr>
            <p:cNvPr id="103" name=""/>
            <p:cNvSpPr/>
            <p:nvPr/>
          </p:nvSpPr>
          <p:spPr>
            <a:xfrm flipV="1">
              <a:off x="4932360" y="416520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0" y="3860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00720" y="2060640"/>
            <a:ext cx="2661480" cy="2229120"/>
            <a:chOff x="4500720" y="2060640"/>
            <a:chExt cx="2661480" cy="2229120"/>
          </a:xfrm>
        </p:grpSpPr>
        <p:sp>
          <p:nvSpPr>
            <p:cNvPr id="106" name=""/>
            <p:cNvSpPr/>
            <p:nvPr/>
          </p:nvSpPr>
          <p:spPr>
            <a:xfrm>
              <a:off x="6493680" y="3708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跳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00720" y="2060640"/>
              <a:ext cx="1828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>Administrator</dc:creator>
  <dc:description/>
  <dc:language>en-US</dc:language>
  <cp:lastModifiedBy/>
  <dcterms:modified xsi:type="dcterms:W3CDTF">2015-08-11T03:20:33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