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99-39B9-42A5-AD12-A011C6A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492-7519-42A9-91CA-F536B7B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030-F5F3-4BA6-AA1B-DBDEECFD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BA4-271D-4988-AD63-D813B8B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57E-98CF-43E9-9143-A415FCE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BDC-A96E-4F28-9096-1BB6ADC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A36-2F26-4AB0-9200-781BC76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E69-CD2C-45B7-A336-4B05E4E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E7F-5586-4952-ABE8-A7E949CB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0F5-1C95-48CA-BD50-3A02658D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984-6837-41A2-A962-B956C38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D5C-F1E8-4AE5-9384-BFE2BCD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3E71-50E9-4084-A27E-0A4B0AF0B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363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Arial"/>
              </a:rPr>
              <a:t>我 们 的 手</a:t>
            </a:r>
            <a:br>
              <a:rPr sz="8800"/>
            </a:b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5157720"/>
            <a:ext cx="435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吧，我告诉你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一小节：把手比作电线，写出了传递幸福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二小节：把手比作桥，写出了传递友好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三小节：把手比作船，写出了手传递真诚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四小节：把手比作小鸟，写出了手传递快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73080"/>
            <a:ext cx="90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我们的手还会是什么？当你握住我的手，我们的手是什么？（传递美好的感情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我是小诗人（仿照课文再写一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的手，是　　　　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　　　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　　　　　　　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友情提示：我们的手还会是画笔、琴键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0920" y="3644640"/>
            <a:ext cx="5616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0920" y="4292280"/>
            <a:ext cx="5545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01336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给画线的字换个字，但意思不变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  <a:ea typeface="楷体"/>
              </a:rPr>
              <a:t>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电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  <a:ea typeface="楷体"/>
              </a:rPr>
              <a:t>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  <a:ea typeface="楷体"/>
              </a:rPr>
              <a:t>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  <a:ea typeface="楷体"/>
              </a:rPr>
              <a:t>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小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看看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"/>
              </a:rPr>
              <a:t>金钥匙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吧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草檀斋毛泽东字体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-243000"/>
            <a:ext cx="84582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说一说：它们采用了什么修辞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  <a:ea typeface="楷体"/>
              </a:rPr>
              <a:t>我们的手，是电线。</a:t>
            </a:r>
            <a:br>
              <a:rPr sz="4400"/>
            </a:br>
            <a:r>
              <a:rPr b="1" lang="zh-CN" sz="4400" spc="-1" strike="noStrike">
                <a:solidFill>
                  <a:srgbClr val="cc00ff"/>
                </a:solidFill>
                <a:latin typeface="Arial"/>
                <a:ea typeface="楷体"/>
              </a:rPr>
              <a:t>让他们的幸福像灯一样明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什么是暗喻句？什么是明喻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明喻：</a:t>
            </a:r>
            <a:r>
              <a:rPr b="0" lang="en-US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A</a:t>
            </a: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（本体）像</a:t>
            </a:r>
            <a:r>
              <a:rPr b="0" lang="en-US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B</a:t>
            </a: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（喻体）。本体与喻体形势上是相类的关系，有好像，仿佛，比如，像……一样，如……一般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例：十五的月亮像圆盘，挂在湛蓝的天幕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664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暗喻（隐喻）：</a:t>
            </a:r>
            <a:r>
              <a:rPr b="0" lang="en-US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A</a:t>
            </a: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是</a:t>
            </a:r>
            <a:r>
              <a:rPr b="0" lang="en-US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B</a:t>
            </a: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。本体与喻体之间在形势上是相结合的关系。有是、就是、成了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dobe 黑体 Std R"/>
                <a:ea typeface="Adobe 黑体 Std R"/>
              </a:rPr>
              <a:t>例：我们的手是电线、是桥、是船、是小鸟，为我们传递着幸福、问候、真诚和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Adobe 楷体 Std R"/>
              </a:rPr>
              <a:t>书写本课生字、注音并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Adobe 楷体 Std R"/>
              </a:rPr>
              <a:t>回家再修改自己写的诗，并读给父母和同学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Adobe 楷体 Std R"/>
              </a:rPr>
              <a:t>收集有关“手”的成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67640" y="5805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6267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谢 谢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再 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手的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168" t="9690" r="0" b="0"/>
          <a:stretch/>
        </p:blipFill>
        <p:spPr>
          <a:xfrm>
            <a:off x="684360" y="3286080"/>
            <a:ext cx="2419200" cy="15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885" t="0" r="0" b="9182"/>
          <a:stretch/>
        </p:blipFill>
        <p:spPr>
          <a:xfrm>
            <a:off x="3213000" y="3213000"/>
            <a:ext cx="1047960" cy="147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0548" r="-245" b="5618"/>
          <a:stretch/>
        </p:blipFill>
        <p:spPr>
          <a:xfrm>
            <a:off x="4356000" y="3389400"/>
            <a:ext cx="2238480" cy="14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10685" t="0" r="0" b="7485"/>
          <a:stretch/>
        </p:blipFill>
        <p:spPr>
          <a:xfrm>
            <a:off x="6804000" y="3213000"/>
            <a:ext cx="1800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作者简介：西渡（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67-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），本名陈国平，诗人，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月生于浙江浦江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年西渡考入北京大学中文系，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年毕业后任职于北京某出版社。大学期间开始写诗，近年来兼事诗歌批评。曾获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年度刘丽安诗歌奖。著有诗集《雪景中的柏拉图》（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）、《草之家》（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）、《风或芦苇之歌》、诗论集《守望与倾听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我们的手，是</a:t>
            </a:r>
            <a:r>
              <a:rPr b="1" lang="zh-CN" sz="5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电线</a:t>
            </a:r>
            <a:r>
              <a:rPr b="1" lang="zh-CN" sz="5400" spc="-1" strike="noStrike">
                <a:solidFill>
                  <a:srgbClr val="ff3399"/>
                </a:solidFill>
                <a:latin typeface="Adobe 楷体 Std R"/>
                <a:ea typeface="Adobe 楷体 Std R"/>
              </a:rPr>
              <a:t>，</a:t>
            </a:r>
            <a:br>
              <a:rPr sz="5400"/>
            </a:br>
            <a:r>
              <a:rPr b="1" lang="en-US" sz="5400" spc="-1" strike="noStrike">
                <a:solidFill>
                  <a:srgbClr val="ff3399"/>
                </a:solidFill>
                <a:latin typeface="Adobe 楷体 Std R"/>
                <a:ea typeface="Adobe 楷体 Std R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在爸爸和妈妈之间</a:t>
            </a:r>
            <a:br>
              <a:rPr sz="5400"/>
            </a:br>
            <a:r>
              <a:rPr b="1" lang="en-US" sz="5400" spc="-1" strike="noStrike">
                <a:solidFill>
                  <a:srgbClr val="ff3399"/>
                </a:solidFill>
                <a:latin typeface="Adobe 楷体 Std R"/>
                <a:ea typeface="Adobe 楷体 Std R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传递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着光，</a:t>
            </a:r>
            <a:br>
              <a:rPr sz="5400"/>
            </a:br>
            <a:r>
              <a:rPr b="1" lang="en-US" sz="5400" spc="-1" strike="noStrike">
                <a:solidFill>
                  <a:srgbClr val="ff3399"/>
                </a:solidFill>
                <a:latin typeface="Adobe 楷体 Std R"/>
                <a:ea typeface="Adobe 楷体 Std R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让他们的</a:t>
            </a:r>
            <a:r>
              <a:rPr b="1" lang="zh-CN" sz="5400" spc="-1" strike="noStrike">
                <a:solidFill>
                  <a:srgbClr val="ff3300"/>
                </a:solidFill>
                <a:latin typeface="Adobe 楷体 Std R"/>
                <a:ea typeface="Adobe 楷体 Std R"/>
              </a:rPr>
              <a:t>幸福</a:t>
            </a:r>
            <a:r>
              <a:rPr b="1" lang="zh-CN" sz="5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像灯一样明亮</a:t>
            </a:r>
            <a:r>
              <a:rPr b="0" lang="zh-CN" sz="5400" spc="-1" strike="noStrike">
                <a:solidFill>
                  <a:srgbClr val="000000"/>
                </a:solidFill>
                <a:latin typeface="Adobe 宋体 Std L"/>
                <a:ea typeface="Adobe 宋体 Std 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是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"/>
              </a:rPr>
              <a:t>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跨越海洋，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在陆地和陆地之间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"/>
              </a:rPr>
              <a:t>传递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彼此的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"/>
              </a:rPr>
              <a:t>问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是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"/>
              </a:rPr>
              <a:t>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在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心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与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心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之间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托起洁白的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  <a:ea typeface="楷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我们的手，是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"/>
              </a:rPr>
              <a:t>小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在星辰和星辰之间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欢乐地飞翔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学们请看本诗中的生字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852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宋体 Std L"/>
                <a:ea typeface="Adobe 宋体 Std L"/>
              </a:rPr>
              <a:t>生字：</a:t>
            </a: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递</a:t>
            </a:r>
            <a:r>
              <a:rPr b="1" lang="en-US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(dì )</a:t>
            </a: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陆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lù 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彼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bǐ 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托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tuō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帆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fān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辰</a:t>
            </a:r>
            <a:r>
              <a:rPr b="1" lang="zh-CN" sz="18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é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dobe 楷体 Std R"/>
              </a:rPr>
              <a:t>传递：传送；辗转递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dobe 楷体 Std R"/>
              </a:rPr>
              <a:t>彼此：两者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dobe 楷体 Std R"/>
              </a:rPr>
              <a:t>洁白：纯净的白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dobe 楷体 Std R"/>
              </a:rPr>
              <a:t>星辰：星的通称；也有岁月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再读课文，分组讨论思考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每节诗歌中把手比作什么？划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这样写，分别写出了手的什么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7:56:56Z</dcterms:created>
  <dc:creator>Administrator</dc:creator>
  <dc:description/>
  <dc:language>en-US</dc:language>
  <cp:lastModifiedBy/>
  <dcterms:modified xsi:type="dcterms:W3CDTF">2015-08-11T06:08:1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